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429-D919-4634-A6C5-0635A3D9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A22-96D1-48BD-99E0-0E6EB6D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868-04C2-42A7-8F46-226E80BD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551-5DC5-4E6D-81D3-11AFB0A3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713-B478-460C-B8EA-0BA6685E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1663-C047-493C-BA62-61E00CD7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CA5D-68D5-437D-86B3-10CAAFE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27D-991D-4215-B883-EAF1AEE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EC9F-AE71-42F8-9D1D-432CE10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6211-1084-4CCE-AB91-68E1E168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E8A0-7317-4EC2-BB1E-0D51057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CFE-7E33-4107-ABA3-A27649A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D347-125A-45F3-B40E-14786C9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435C-998A-4FD0-9AB1-192DF7E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7B83-2C47-4907-86E2-E30E6570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7CB-5EE6-457E-86FE-EA25A189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71A-C55A-4B50-83D4-B0815813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F9B-FDEF-4E6C-AEE5-7FF74F13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F39-442C-430A-B628-7255F3F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545-F161-493A-BDFC-A289CB1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817-5E22-4C7F-95BD-6F48726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636-F608-4A10-9363-6557CD5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558-B30E-468E-8AE3-6234537D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944-AE27-4EA2-BFB1-173B5564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37B-6579-4999-B26E-F5B74AFF67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230-4524-4C3E-9CD0-2D3C5348B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84360" y="2133720"/>
            <a:ext cx="691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систем линейных уравнений с двумя переменными  способом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684360" y="2133720"/>
            <a:ext cx="691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: сформировать умение решать системы двух линейных уравнений с двумя переменными способом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468360" y="1916280"/>
                <a:ext cx="2027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Прямоугольник 7"/>
          <p:cNvSpPr/>
          <p:nvPr/>
        </p:nvSpPr>
        <p:spPr>
          <a:xfrm>
            <a:off x="3132000" y="32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уравнениям системы подобрать множители так, чтобы коэффициенты при одной из переменных стали противоположными 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3059280" y="1916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решить систему уравнений способом сложения воспользуемся следующим алгоритм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581040" y="3429000"/>
                <a:ext cx="19033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|</m:t>
                            </m:r>
                            <m:r>
                              <m:t xml:space="preserve">⋅</m:t>
                            </m:r>
                            <m:r>
                              <m:t xml:space="preserve">7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11"/>
          <p:cNvSpPr/>
          <p:nvPr/>
        </p:nvSpPr>
        <p:spPr>
          <a:xfrm>
            <a:off x="313200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ножить почленно уравнения системы на выбранные мно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84360" y="4772160"/>
                <a:ext cx="1800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6"/>
          <p:cNvGrpSpPr/>
          <p:nvPr/>
        </p:nvGrpSpPr>
        <p:grpSpPr>
          <a:xfrm>
            <a:off x="144360" y="1989000"/>
            <a:ext cx="2309760" cy="935280"/>
            <a:chOff x="144360" y="1989000"/>
            <a:chExt cx="2309760" cy="935280"/>
          </a:xfrm>
        </p:grpSpPr>
        <mc:AlternateContent>
          <mc:Choice xmlns:a14="http://schemas.microsoft.com/office/drawing/2010/main" Requires="a14">
            <p:sp>
              <p:nvSpPr>
                <p:cNvPr id="109" name="Object 1"/>
                <p:cNvSpPr txBox="1"/>
                <p:nvPr/>
              </p:nvSpPr>
              <p:spPr>
                <a:xfrm>
                  <a:off x="467640" y="1989000"/>
                  <a:ext cx="198648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Rectangle 3"/>
            <p:cNvSpPr/>
            <p:nvPr/>
          </p:nvSpPr>
          <p:spPr>
            <a:xfrm>
              <a:off x="144360" y="2160360"/>
              <a:ext cx="4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9"/>
          <p:cNvSpPr/>
          <p:nvPr/>
        </p:nvSpPr>
        <p:spPr>
          <a:xfrm>
            <a:off x="3132000" y="2276640"/>
            <a:ext cx="978120" cy="3412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0"/>
          <p:cNvSpPr/>
          <p:nvPr/>
        </p:nvSpPr>
        <p:spPr>
          <a:xfrm>
            <a:off x="8028000" y="2276640"/>
            <a:ext cx="979560" cy="3412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82440" y="3127320"/>
                <a:ext cx="22100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Группа 20"/>
          <p:cNvGrpSpPr/>
          <p:nvPr/>
        </p:nvGrpSpPr>
        <p:grpSpPr>
          <a:xfrm>
            <a:off x="4427640" y="2276640"/>
            <a:ext cx="3384360" cy="504720"/>
            <a:chOff x="4427640" y="2276640"/>
            <a:chExt cx="3384360" cy="504720"/>
          </a:xfrm>
        </p:grpSpPr>
        <mc:AlternateContent>
          <mc:Choice xmlns:a14="http://schemas.microsoft.com/office/drawing/2010/main" Requires="a14">
            <p:sp>
              <p:nvSpPr>
                <p:cNvPr id="117" name="Object 4"/>
                <p:cNvSpPr txBox="1"/>
                <p:nvPr/>
              </p:nvSpPr>
              <p:spPr>
                <a:xfrm>
                  <a:off x="4427640" y="2276640"/>
                  <a:ext cx="3384360" cy="36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Прямая соединительная линия 14"/>
            <p:cNvSpPr/>
            <p:nvPr/>
          </p:nvSpPr>
          <p:spPr>
            <a:xfrm>
              <a:off x="449964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15"/>
            <p:cNvSpPr/>
            <p:nvPr/>
          </p:nvSpPr>
          <p:spPr>
            <a:xfrm>
              <a:off x="572364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16"/>
            <p:cNvSpPr/>
            <p:nvPr/>
          </p:nvSpPr>
          <p:spPr>
            <a:xfrm>
              <a:off x="5147640" y="2637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17"/>
            <p:cNvSpPr/>
            <p:nvPr/>
          </p:nvSpPr>
          <p:spPr>
            <a:xfrm>
              <a:off x="5147640" y="2781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18"/>
            <p:cNvSpPr/>
            <p:nvPr/>
          </p:nvSpPr>
          <p:spPr>
            <a:xfrm>
              <a:off x="6300000" y="256500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19"/>
            <p:cNvSpPr/>
            <p:nvPr/>
          </p:nvSpPr>
          <p:spPr>
            <a:xfrm>
              <a:off x="6300000" y="2709360"/>
              <a:ext cx="432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оугольник 21"/>
          <p:cNvSpPr/>
          <p:nvPr/>
        </p:nvSpPr>
        <p:spPr>
          <a:xfrm>
            <a:off x="395280" y="45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жить почленно левые и правые части получившихся уравнений и решить получившиеся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34286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336666"/>
                </a:solidFill>
                <a:latin typeface="Arial Black"/>
              </a:rPr>
              <a:t>Решение систем линейных уравнений с двумя переменными  способом сложения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6" name="Рисунок 10" descr="http://img-fotki.yandex.ru/get/6/160878850.1b0/0_7b620_ad65697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611280" y="191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ти значение второй переменной  (используя для этого любое уравнение сист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56560" y="3213720"/>
            <a:ext cx="71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ставим получившееся значение переменной х в перв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"/>
              <p:cNvSpPr txBox="1"/>
              <p:nvPr/>
            </p:nvSpPr>
            <p:spPr>
              <a:xfrm>
                <a:off x="755640" y="3789360"/>
                <a:ext cx="20876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6"/>
          <p:cNvSpPr/>
          <p:nvPr/>
        </p:nvSpPr>
        <p:spPr>
          <a:xfrm>
            <a:off x="2775600" y="530064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(2;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3:16:00Z</dcterms:created>
  <dc:creator>Admin</dc:creator>
  <dc:description/>
  <dc:language>en-US</dc:language>
  <cp:lastModifiedBy>Zina-PC</cp:lastModifiedBy>
  <dcterms:modified xsi:type="dcterms:W3CDTF">2015-02-21T04:59:58Z</dcterms:modified>
  <cp:revision>7</cp:revision>
  <dc:subject/>
  <dc:title>6 февраля.</dc:title>
</cp:coreProperties>
</file>