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E1C-3BB2-43B4-B640-3814AFE7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F2F-643D-419F-9995-53DBF6A1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E91-17EE-424B-9EA2-45DA4821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59E-7022-4464-8C71-08866E04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EB18-0C82-4BBE-BFED-6F04901B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41A4-A285-4565-841A-89314786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E47B-4F6F-4B6C-9A20-82AB7074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DF14-31DC-4D3C-88AD-EF91BC42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067D-ED8D-471A-944F-7D2C8AD5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8907-D5E7-4F08-8F48-705A4727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B5B3-96E1-4B38-897B-12EAD6C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66F-8E77-442E-8984-636A5A74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6C1C-48F0-4DE2-A65B-0083350B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8AD7-3993-4194-923C-1B0032FF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B9FE-3CF2-440C-9777-B1EE987A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CEB3-02B9-4531-BE9D-EFDBE654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95D6-F35E-4073-AA4C-2BF0E71E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31F-526E-4A8C-B867-55972675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404-5D90-4806-96CC-174ED62B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A89-A81A-489F-9554-1556611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03C-52E5-4BD7-8956-96212B67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1AA-DF0B-4E3C-B896-88C8105E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EE4-EB7B-460C-B9FB-D00D16EB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8D9-0466-41D1-ADAF-CE45BC00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4419-0452-43F2-98ED-94210BA412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5F17-7317-4DA3-8EB6-EAF4329413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Arial Black"/>
              </a:rPr>
              <a:t>Решение систем линейных уравнений с двумя переменными  способом сложения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9" name="Рисунок 10" descr="http://img-fotki.yandex.ru/get/6/160878850.1b0/0_7b620_ad65697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84360" y="2133720"/>
            <a:ext cx="691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систем линейных уравнений с двумя переменными  способом с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Arial Black"/>
              </a:rPr>
              <a:t>Решение систем линейных уравнений с двумя переменными  способом сложения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2" name="Рисунок 10" descr="http://img-fotki.yandex.ru/get/6/160878850.1b0/0_7b620_ad65697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684360" y="2133720"/>
            <a:ext cx="691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цель: сформировать умение решать системы двух линейных уравнений с двумя переменными способом с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Arial Black"/>
              </a:rPr>
              <a:t>Решение систем линейных уравнений с двумя переменными  способом сложения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Рисунок 10" descr="http://img-fotki.yandex.ru/get/6/160878850.1b0/0_7b620_ad65697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468360" y="1916280"/>
                <a:ext cx="20271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Прямоугольник 7"/>
          <p:cNvSpPr/>
          <p:nvPr/>
        </p:nvSpPr>
        <p:spPr>
          <a:xfrm>
            <a:off x="3132000" y="328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уравнениям системы подобрать множители так, чтобы коэффициенты при одной из переменных стали противоположными 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3059280" y="1916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решить систему уравнений способом сложения воспользуемся следующим алгоритм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581040" y="3429000"/>
                <a:ext cx="19033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|</m:t>
                            </m:r>
                            <m:r>
                              <m:t xml:space="preserve">⋅</m:t>
                            </m:r>
                            <m:r>
                              <m:t xml:space="preserve">7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Прямоугольник 11"/>
          <p:cNvSpPr/>
          <p:nvPr/>
        </p:nvSpPr>
        <p:spPr>
          <a:xfrm>
            <a:off x="313200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множить почленно уравнения системы на выбранные мно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84360" y="4772160"/>
                <a:ext cx="18000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Arial Black"/>
              </a:rPr>
              <a:t>Решение систем линейных уравнений с двумя переменными  способом сложения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Рисунок 10" descr="http://img-fotki.yandex.ru/get/6/160878850.1b0/0_7b620_ad65697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6"/>
          <p:cNvGrpSpPr/>
          <p:nvPr/>
        </p:nvGrpSpPr>
        <p:grpSpPr>
          <a:xfrm>
            <a:off x="144360" y="1989000"/>
            <a:ext cx="2309760" cy="935280"/>
            <a:chOff x="144360" y="1989000"/>
            <a:chExt cx="2309760" cy="935280"/>
          </a:xfrm>
        </p:grpSpPr>
        <mc:AlternateContent>
          <mc:Choice xmlns:a14="http://schemas.microsoft.com/office/drawing/2010/main" Requires="a14">
            <p:sp>
              <p:nvSpPr>
                <p:cNvPr id="109" name="Object 1"/>
                <p:cNvSpPr txBox="1"/>
                <p:nvPr/>
              </p:nvSpPr>
              <p:spPr>
                <a:xfrm>
                  <a:off x="467640" y="1989000"/>
                  <a:ext cx="198648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5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Rectangle 3"/>
            <p:cNvSpPr/>
            <p:nvPr/>
          </p:nvSpPr>
          <p:spPr>
            <a:xfrm>
              <a:off x="144360" y="2160360"/>
              <a:ext cx="46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9"/>
          <p:cNvSpPr/>
          <p:nvPr/>
        </p:nvSpPr>
        <p:spPr>
          <a:xfrm>
            <a:off x="3132000" y="2276640"/>
            <a:ext cx="978120" cy="34128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0"/>
          <p:cNvSpPr/>
          <p:nvPr/>
        </p:nvSpPr>
        <p:spPr>
          <a:xfrm>
            <a:off x="8028000" y="2276640"/>
            <a:ext cx="979560" cy="3412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82440" y="3127320"/>
                <a:ext cx="22100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" name="Группа 20"/>
          <p:cNvGrpSpPr/>
          <p:nvPr/>
        </p:nvGrpSpPr>
        <p:grpSpPr>
          <a:xfrm>
            <a:off x="4427640" y="2276640"/>
            <a:ext cx="3384360" cy="504720"/>
            <a:chOff x="4427640" y="2276640"/>
            <a:chExt cx="3384360" cy="504720"/>
          </a:xfrm>
        </p:grpSpPr>
        <mc:AlternateContent>
          <mc:Choice xmlns:a14="http://schemas.microsoft.com/office/drawing/2010/main" Requires="a14">
            <p:sp>
              <p:nvSpPr>
                <p:cNvPr id="117" name="Object 4"/>
                <p:cNvSpPr txBox="1"/>
                <p:nvPr/>
              </p:nvSpPr>
              <p:spPr>
                <a:xfrm>
                  <a:off x="4427640" y="2276640"/>
                  <a:ext cx="3384360" cy="36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1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Прямая соединительная линия 14"/>
            <p:cNvSpPr/>
            <p:nvPr/>
          </p:nvSpPr>
          <p:spPr>
            <a:xfrm>
              <a:off x="4499640" y="256500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15"/>
            <p:cNvSpPr/>
            <p:nvPr/>
          </p:nvSpPr>
          <p:spPr>
            <a:xfrm>
              <a:off x="5723640" y="256500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ая соединительная линия 16"/>
            <p:cNvSpPr/>
            <p:nvPr/>
          </p:nvSpPr>
          <p:spPr>
            <a:xfrm>
              <a:off x="5147640" y="263736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17"/>
            <p:cNvSpPr/>
            <p:nvPr/>
          </p:nvSpPr>
          <p:spPr>
            <a:xfrm>
              <a:off x="5147640" y="278136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ая соединительная линия 18"/>
            <p:cNvSpPr/>
            <p:nvPr/>
          </p:nvSpPr>
          <p:spPr>
            <a:xfrm>
              <a:off x="6300000" y="256500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ая соединительная линия 19"/>
            <p:cNvSpPr/>
            <p:nvPr/>
          </p:nvSpPr>
          <p:spPr>
            <a:xfrm>
              <a:off x="6300000" y="270936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Прямоугольник 21"/>
          <p:cNvSpPr/>
          <p:nvPr/>
        </p:nvSpPr>
        <p:spPr>
          <a:xfrm>
            <a:off x="395280" y="45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ожить почленно левые и правые части получившихся уравнений и решить получившиеся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Arial Black"/>
              </a:rPr>
              <a:t>Решение систем линейных уравнений с двумя переменными  способом сложения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6" name="Рисунок 10" descr="http://img-fotki.yandex.ru/get/6/160878850.1b0/0_7b620_ad65697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611280" y="191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йти значение второй переменной  (используя для этого любое уравнение систе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556560" y="3213720"/>
            <a:ext cx="71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ставим получившееся значение переменной х в первое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"/>
              <p:cNvSpPr txBox="1"/>
              <p:nvPr/>
            </p:nvSpPr>
            <p:spPr>
              <a:xfrm>
                <a:off x="755640" y="3789360"/>
                <a:ext cx="208764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Прямоугольник 6"/>
          <p:cNvSpPr/>
          <p:nvPr/>
        </p:nvSpPr>
        <p:spPr>
          <a:xfrm>
            <a:off x="2775600" y="5300640"/>
            <a:ext cx="15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(2;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3:16:00Z</dcterms:created>
  <dc:creator>Admin</dc:creator>
  <dc:description/>
  <dc:language>en-US</dc:language>
  <cp:lastModifiedBy>Zina-PC</cp:lastModifiedBy>
  <dcterms:modified xsi:type="dcterms:W3CDTF">2015-02-21T04:59:58Z</dcterms:modified>
  <cp:revision>7</cp:revision>
  <dc:subject/>
  <dc:title>6 февраля.</dc:title>
</cp:coreProperties>
</file>