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3BB-B536-48D3-B103-76B68F2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171-191B-4561-BB7B-1609144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97F-42CD-494B-906A-3F9FBDBC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64A-8657-422B-AA6C-D0603B4E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3CD-CF9B-49F0-8BD5-B507D01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24C-63FE-495B-8022-12FF7073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022-01BF-4DAE-9D5E-BFEFD308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8B5-6F07-435F-9C94-DCDB4BA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319-BB6F-405B-A18A-9AB74E9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417-6422-4000-A4C2-9315C4A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12E-6B7F-47DB-887A-C5DB963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B24-5513-4100-BCD3-64B2792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CF1-3669-4C0D-9DD7-95B2DFF460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313978218_bez-imeni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.03.2015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жение отрицательных чис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1313978218_bez-imeni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сум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rcRect l="0" t="7856" r="0" b="0"/>
          <a:stretch/>
        </p:blipFill>
        <p:spPr>
          <a:xfrm>
            <a:off x="785880" y="2143080"/>
            <a:ext cx="575928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75610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1313978218_bez-imeni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900000" y="1415880"/>
            <a:ext cx="7704360" cy="38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аем в тетради и на дос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84661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400" y="259920"/>
            <a:ext cx="88772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ьте число в виде суммы двух отрицательных слагаемых тремя различными способ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69080" cy="301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8713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 на повт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33440" y="1928880"/>
            <a:ext cx="83534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fony-dlya-prezentacij-skachat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остите выра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684360" y="2371680"/>
            <a:ext cx="74167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hablony_prezentaziy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56 (ж-м), 1060 (а,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6" descr="http://school.xvatit.com/images/thumb/0/06/Um74.jpeg/365px-Um74.jpeg"/>
          <p:cNvPicPr/>
          <p:nvPr/>
        </p:nvPicPr>
        <p:blipFill>
          <a:blip r:embed="rId2"/>
          <a:stretch/>
        </p:blipFill>
        <p:spPr>
          <a:xfrm>
            <a:off x="5286240" y="1285920"/>
            <a:ext cx="346896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2:36:14Z</dcterms:created>
  <dc:creator>Алексей</dc:creator>
  <dc:description/>
  <dc:language>en-US</dc:language>
  <cp:lastModifiedBy>Zina-PC</cp:lastModifiedBy>
  <dcterms:modified xsi:type="dcterms:W3CDTF">2015-05-10T07:44:09Z</dcterms:modified>
  <cp:revision>13</cp:revision>
  <dc:subject/>
  <dc:title>18 марта. Сложение отрицательных чисел.</dc:title>
</cp:coreProperties>
</file>