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C67-5B20-42A4-9035-D683846C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88F-2BA9-4564-B2F6-2CF65311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426-6ADB-45E8-9E37-AAECCA52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F03-012A-4965-AFBB-F2DCD723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E94-0F8C-44AF-BFCF-73009047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C40-5912-4568-A68A-9D1CD00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ABD-7C7D-446B-B94A-C6BD46A2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626-509B-4666-A0FF-B10F7EF9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DD6-E0C8-4B05-8195-89A8EBB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023-BBE3-4F09-B5C7-992E601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E75-4F87-4B1C-A9DE-0A962D2A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D5E-E30E-4486-9EA6-F619D5EC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525-F602-4D2C-80F5-835A0962A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313978218_bez-imeni-41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8.03.2015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жение отрицательных чис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1313978218_bez-imeni-41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сум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rcRect l="0" t="7856" r="0" b="0"/>
          <a:stretch/>
        </p:blipFill>
        <p:spPr>
          <a:xfrm>
            <a:off x="785880" y="2143080"/>
            <a:ext cx="5759280" cy="100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75610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1313978218_bez-imeni-41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900000" y="1415880"/>
            <a:ext cx="7704360" cy="38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ony-dlya-prezentacij-skachat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аем в тетради и на дос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57120" y="1500120"/>
            <a:ext cx="84661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fony-dlya-prezentacij-skachat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400" y="259920"/>
            <a:ext cx="8877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ьте число в виде суммы двух отрицательных слагаемых тремя различными способ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569080" cy="301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8713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fony-dlya-prezentacij-skachat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я на повт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33440" y="1928880"/>
            <a:ext cx="83534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fony-dlya-prezentacij-skachat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остите выра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684360" y="2371680"/>
            <a:ext cx="74167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hablony_prezentaziy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56 (ж-м), 1060 (а,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6" descr="http://school.xvatit.com/images/thumb/0/06/Um74.jpeg/365px-Um74.jpeg"/>
          <p:cNvPicPr/>
          <p:nvPr/>
        </p:nvPicPr>
        <p:blipFill>
          <a:blip r:embed="rId2"/>
          <a:stretch/>
        </p:blipFill>
        <p:spPr>
          <a:xfrm>
            <a:off x="5286240" y="1285920"/>
            <a:ext cx="346896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2:36:14Z</dcterms:created>
  <dc:creator>Алексей</dc:creator>
  <dc:description/>
  <dc:language>en-US</dc:language>
  <cp:lastModifiedBy>Zina-PC</cp:lastModifiedBy>
  <dcterms:modified xsi:type="dcterms:W3CDTF">2015-05-10T07:44:09Z</dcterms:modified>
  <cp:revision>13</cp:revision>
  <dc:subject/>
  <dc:title>18 марта. Сложение отрицательных чисел.</dc:title>
</cp:coreProperties>
</file>