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823F-A89A-4B3C-844B-694CEDF6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4ADD-6EE8-4B3A-9944-C10B115C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D85-0EB4-433D-BCAB-17B9AA8C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E65F-0F85-4D4E-B3DE-723B2DA7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FAE1-61ED-40C3-8845-681C800A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3B97-0E17-4FE6-98DA-E35CF1C8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BC09-19C1-44F1-BE00-1D658B94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23C6-4167-4753-BA93-57D9E07E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9951-DD7D-43B4-899F-D8FACE2F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F802-27E2-40BF-9338-4FD9BF65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D272-174E-499A-97F6-C4B64457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E385-47DD-4F58-BD22-2C84327A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0BD4-0C6B-47B7-8AF6-A8E9E99662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 rot="21334200">
            <a:off x="439560" y="419040"/>
            <a:ext cx="7542360" cy="477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ложение  чисел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  разными  знаками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2" name="Picture 5" descr="CBIZ054"/>
          <p:cNvPicPr/>
          <p:nvPr/>
        </p:nvPicPr>
        <p:blipFill>
          <a:blip r:embed="rId1"/>
          <a:stretch/>
        </p:blipFill>
        <p:spPr>
          <a:xfrm flipH="1">
            <a:off x="5364000" y="2852640"/>
            <a:ext cx="349272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Georgia"/>
              </a:rPr>
              <a:t>Выполните  слож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0" y="1125360"/>
                <a:ext cx="9144000" cy="483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3,9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,9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Georgia"/>
              </a:rPr>
              <a:t>Замените  ответы  соответствующими  буквами.</a:t>
            </a:r>
            <a:br>
              <a:rPr sz="3200"/>
            </a:br>
            <a:r>
              <a:rPr b="1" i="1" lang="ru-RU" sz="3200" spc="-1" strike="noStrike">
                <a:solidFill>
                  <a:srgbClr val="990000"/>
                </a:solidFill>
                <a:latin typeface="Georgia"/>
              </a:rPr>
              <a:t>Расшифрованное  слово  запишите  в 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CBIZ054"/>
          <p:cNvPicPr/>
          <p:nvPr/>
        </p:nvPicPr>
        <p:blipFill>
          <a:blip r:embed="rId1"/>
          <a:stretch/>
        </p:blipFill>
        <p:spPr>
          <a:xfrm flipH="1">
            <a:off x="5651280" y="4365720"/>
            <a:ext cx="3492360" cy="270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0" y="2205000"/>
          <a:ext cx="9144000" cy="2112840"/>
        </p:xfrm>
        <a:graphic>
          <a:graphicData uri="http://schemas.openxmlformats.org/drawingml/2006/table">
            <a:tbl>
              <a:tblPr/>
              <a:tblGrid>
                <a:gridCol w="1020600"/>
                <a:gridCol w="1020960"/>
                <a:gridCol w="1019160"/>
                <a:gridCol w="1019160"/>
                <a:gridCol w="1017720"/>
                <a:gridCol w="1020600"/>
                <a:gridCol w="1117800"/>
                <a:gridCol w="1081080"/>
                <a:gridCol w="826920"/>
              </a:tblGrid>
              <a:tr h="13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77"/>
          <p:cNvSpPr/>
          <p:nvPr/>
        </p:nvSpPr>
        <p:spPr>
          <a:xfrm>
            <a:off x="4211640" y="3645000"/>
            <a:ext cx="719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Rectangle 78"/>
          <p:cNvSpPr/>
          <p:nvPr/>
        </p:nvSpPr>
        <p:spPr>
          <a:xfrm>
            <a:off x="3203640" y="3645000"/>
            <a:ext cx="7189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Rectangle 80"/>
          <p:cNvSpPr/>
          <p:nvPr/>
        </p:nvSpPr>
        <p:spPr>
          <a:xfrm>
            <a:off x="7451640" y="3645000"/>
            <a:ext cx="719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Rectangle 81"/>
          <p:cNvSpPr/>
          <p:nvPr/>
        </p:nvSpPr>
        <p:spPr>
          <a:xfrm>
            <a:off x="2195640" y="3645000"/>
            <a:ext cx="7189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Б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Rectangle 82"/>
          <p:cNvSpPr/>
          <p:nvPr/>
        </p:nvSpPr>
        <p:spPr>
          <a:xfrm>
            <a:off x="6300720" y="3645000"/>
            <a:ext cx="719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Г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Rectangle 83"/>
          <p:cNvSpPr/>
          <p:nvPr/>
        </p:nvSpPr>
        <p:spPr>
          <a:xfrm>
            <a:off x="5219640" y="3645000"/>
            <a:ext cx="719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П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Rectangle 84"/>
          <p:cNvSpPr/>
          <p:nvPr/>
        </p:nvSpPr>
        <p:spPr>
          <a:xfrm>
            <a:off x="1187280" y="3645000"/>
            <a:ext cx="719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Rectangle 85"/>
          <p:cNvSpPr/>
          <p:nvPr/>
        </p:nvSpPr>
        <p:spPr>
          <a:xfrm>
            <a:off x="179280" y="3645000"/>
            <a:ext cx="719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М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Rectangle 88"/>
          <p:cNvSpPr/>
          <p:nvPr/>
        </p:nvSpPr>
        <p:spPr>
          <a:xfrm>
            <a:off x="8424720" y="3645000"/>
            <a:ext cx="719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Х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Rectangle 9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92"/>
              <p:cNvSpPr txBox="1"/>
              <p:nvPr/>
            </p:nvSpPr>
            <p:spPr>
              <a:xfrm>
                <a:off x="0" y="2708280"/>
                <a:ext cx="9716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Rectangle 9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94"/>
              <p:cNvSpPr txBox="1"/>
              <p:nvPr/>
            </p:nvSpPr>
            <p:spPr>
              <a:xfrm>
                <a:off x="1116000" y="2205000"/>
                <a:ext cx="754200" cy="13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Rectangle 9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96"/>
              <p:cNvSpPr txBox="1"/>
              <p:nvPr/>
            </p:nvSpPr>
            <p:spPr>
              <a:xfrm>
                <a:off x="2124000" y="2205000"/>
                <a:ext cx="7984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Rectangle 9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98"/>
              <p:cNvSpPr txBox="1"/>
              <p:nvPr/>
            </p:nvSpPr>
            <p:spPr>
              <a:xfrm>
                <a:off x="3132000" y="2205000"/>
                <a:ext cx="8524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Rectangle 10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00"/>
              <p:cNvSpPr txBox="1"/>
              <p:nvPr/>
            </p:nvSpPr>
            <p:spPr>
              <a:xfrm>
                <a:off x="4067280" y="2276640"/>
                <a:ext cx="1009440" cy="12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Rectangle 10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02"/>
              <p:cNvSpPr txBox="1"/>
              <p:nvPr/>
            </p:nvSpPr>
            <p:spPr>
              <a:xfrm>
                <a:off x="5076720" y="2708280"/>
                <a:ext cx="10080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10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04"/>
              <p:cNvSpPr txBox="1"/>
              <p:nvPr/>
            </p:nvSpPr>
            <p:spPr>
              <a:xfrm>
                <a:off x="6156360" y="2421000"/>
                <a:ext cx="10796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Rectangle 10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07"/>
              <p:cNvSpPr txBox="1"/>
              <p:nvPr/>
            </p:nvSpPr>
            <p:spPr>
              <a:xfrm>
                <a:off x="7236000" y="2276640"/>
                <a:ext cx="108108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Rectangle 111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10"/>
              <p:cNvSpPr txBox="1"/>
              <p:nvPr/>
            </p:nvSpPr>
            <p:spPr>
              <a:xfrm>
                <a:off x="8459640" y="2565360"/>
                <a:ext cx="451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Oval 112"/>
          <p:cNvSpPr/>
          <p:nvPr/>
        </p:nvSpPr>
        <p:spPr>
          <a:xfrm>
            <a:off x="250920" y="4581360"/>
            <a:ext cx="914400" cy="914400"/>
          </a:xfrm>
          <a:prstGeom prst="ellipse">
            <a:avLst/>
          </a:prstGeom>
          <a:solidFill>
            <a:srgbClr val="fcb7b2"/>
          </a:solidFill>
          <a:ln w="9360">
            <a:solidFill>
              <a:srgbClr val="fcb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Rectangle 113"/>
          <p:cNvSpPr/>
          <p:nvPr/>
        </p:nvSpPr>
        <p:spPr>
          <a:xfrm>
            <a:off x="250920" y="5661000"/>
            <a:ext cx="532908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БРАХМАГУПТА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000"/>
                            </p:stCondLst>
                            <p:childTnLst>
                              <p:par>
                                <p:cTn id="6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0"/>
                            </p:stCondLst>
                            <p:childTnLst>
                              <p:par>
                                <p:cTn id="6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6000"/>
                            </p:stCondLst>
                            <p:childTnLst>
                              <p:par>
                                <p:cTn id="6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7000"/>
                            </p:stCondLst>
                            <p:childTnLst>
                              <p:par>
                                <p:cTn id="6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8000"/>
                            </p:stCondLst>
                            <p:childTnLst>
                              <p:par>
                                <p:cTn id="6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9000"/>
                            </p:stCondLst>
                            <p:childTnLst>
                              <p:par>
                                <p:cTn id="6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69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Это  интерес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916000" y="1673280"/>
            <a:ext cx="6227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Брахмагупта –</a:t>
            </a:r>
            <a:r>
              <a:rPr b="1" i="1" lang="ru-RU" sz="2800" spc="-1" strike="noStrike">
                <a:solidFill>
                  <a:srgbClr val="990000"/>
                </a:solidFill>
                <a:latin typeface="Georgia"/>
              </a:rPr>
              <a:t> индийский  математик,  который  жил  в  </a:t>
            </a:r>
            <a:r>
              <a:rPr b="1" i="1" lang="en-US" sz="2800" spc="-1" strike="noStrike">
                <a:solidFill>
                  <a:srgbClr val="990000"/>
                </a:solidFill>
                <a:latin typeface="Georgia"/>
              </a:rPr>
              <a:t>VII</a:t>
            </a:r>
            <a:r>
              <a:rPr b="1" i="1" lang="ru-RU" sz="2800" spc="-1" strike="noStrike">
                <a:solidFill>
                  <a:srgbClr val="990000"/>
                </a:solidFill>
                <a:latin typeface="Georgia"/>
              </a:rPr>
              <a:t> ве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990000"/>
                </a:solidFill>
                <a:latin typeface="Georgia"/>
              </a:rPr>
              <a:t>Одним  из первых  он  начал  использовать  положительные  и  отрицательные  числа.  Положительные  числа  он  называл  </a:t>
            </a: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«имущество»</a:t>
            </a:r>
            <a:r>
              <a:rPr b="1" i="1" lang="ru-RU" sz="2800" spc="-1" strike="noStrike">
                <a:solidFill>
                  <a:srgbClr val="990000"/>
                </a:solidFill>
                <a:latin typeface="Georgia"/>
              </a:rPr>
              <a:t>, отрицательные – </a:t>
            </a: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«долги»</a:t>
            </a:r>
            <a:r>
              <a:rPr b="1" i="1" lang="ru-RU" sz="2800" spc="-1" strike="noStrike">
                <a:solidFill>
                  <a:srgbClr val="99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250920" y="1484280"/>
            <a:ext cx="2736720" cy="51134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WordArt 5"/>
          <p:cNvSpPr txBox="1"/>
          <p:nvPr/>
        </p:nvSpPr>
        <p:spPr>
          <a:xfrm rot="20616600">
            <a:off x="256680" y="2708280"/>
            <a:ext cx="2505240" cy="25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Нет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портрета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0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000"/>
                            </p:stCondLst>
                            <p:childTnLst>
                              <p:par>
                                <p:cTn id="6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78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Georgia"/>
              </a:rPr>
              <a:t>Представьте число -3,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672920"/>
            <a:ext cx="867564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в виде суммы двух слагаемых, одно из которых больше другого на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в виде суммы двух слагаемых, одно из которых меньше другого на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39528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Представьте число -2,8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68360" y="4653000"/>
            <a:ext cx="867564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в виде суммы двух слагаемых, одно из которых больше другого на 1</a:t>
            </a:r>
            <a:endParaRPr b="1" i="1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в виде суммы двух слагаемых, одно из которых меньше другого на 4</a:t>
            </a:r>
            <a:endParaRPr b="1" i="1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Домашнее 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8672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№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1072(а-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CRCTR605"/>
          <p:cNvPicPr/>
          <p:nvPr/>
        </p:nvPicPr>
        <p:blipFill>
          <a:blip r:embed="rId1"/>
          <a:stretch/>
        </p:blipFill>
        <p:spPr>
          <a:xfrm>
            <a:off x="5821200" y="2421000"/>
            <a:ext cx="3322800" cy="4437000"/>
          </a:xfrm>
          <a:prstGeom prst="rect">
            <a:avLst/>
          </a:prstGeom>
          <a:ln w="0">
            <a:noFill/>
          </a:ln>
        </p:spPr>
      </p:pic>
      <p:sp>
        <p:nvSpPr>
          <p:cNvPr id="170" name="WordArt 5"/>
          <p:cNvSpPr txBox="1"/>
          <p:nvPr/>
        </p:nvSpPr>
        <p:spPr>
          <a:xfrm>
            <a:off x="1403280" y="5516640"/>
            <a:ext cx="3456000" cy="75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Удачи!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CBIZ066"/>
          <p:cNvPicPr/>
          <p:nvPr/>
        </p:nvPicPr>
        <p:blipFill>
          <a:blip r:embed="rId1"/>
          <a:srcRect l="0" t="-168" r="27050" b="0"/>
          <a:stretch/>
        </p:blipFill>
        <p:spPr>
          <a:xfrm>
            <a:off x="611280" y="765000"/>
            <a:ext cx="3768480" cy="545148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5"/>
          <p:cNvSpPr/>
          <p:nvPr/>
        </p:nvSpPr>
        <p:spPr>
          <a:xfrm rot="271800">
            <a:off x="4284720" y="1773000"/>
            <a:ext cx="4552920" cy="201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Спасибо за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урок!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3200" spc="-1" strike="noStrike">
                <a:solidFill>
                  <a:srgbClr val="990000"/>
                </a:solidFill>
                <a:latin typeface="Georgia"/>
              </a:rPr>
              <a:t>Подберите такое число, чтобы  получилось верное равенст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CBIZ066"/>
          <p:cNvPicPr/>
          <p:nvPr/>
        </p:nvPicPr>
        <p:blipFill>
          <a:blip r:embed="rId1"/>
          <a:srcRect l="0" t="-168" r="27050" b="0"/>
          <a:stretch/>
        </p:blipFill>
        <p:spPr>
          <a:xfrm>
            <a:off x="0" y="1773360"/>
            <a:ext cx="2971800" cy="42987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7"/>
          <p:cNvSpPr/>
          <p:nvPr/>
        </p:nvSpPr>
        <p:spPr>
          <a:xfrm rot="271800">
            <a:off x="2917440" y="2509920"/>
            <a:ext cx="2871720" cy="1528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4,5 + … =-3,5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Oval 8"/>
          <p:cNvSpPr/>
          <p:nvPr/>
        </p:nvSpPr>
        <p:spPr>
          <a:xfrm>
            <a:off x="3851280" y="5013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Oval 9"/>
          <p:cNvSpPr/>
          <p:nvPr/>
        </p:nvSpPr>
        <p:spPr>
          <a:xfrm>
            <a:off x="6804000" y="242100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,5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6012000" y="4149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3,5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7667640" y="501336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-0.00555 C 0.0125 -0.04693 0.02813 -0.08832 0.02726 -0.12393 C 0.02639 -0.15953 0.01406 -0.21803 -0.00764 -0.21919 C -0.02934 -0.22034 -0.07153 -0.17942 -0.10295 -0.1304 C -0.13437 -0.08138 -0.16215 0.0511 -0.19653 0.07469 C -0.2309 0.09827 -0.29288 0.05642 -0.3092 0.01133 C -0.32552 -0.03375 -0.3026 -0.14358 -0.29496 -0.19584 C -0.28732 -0.24809 -0.26979 -0.28 -0.26319 -0.30219 E">
                                      <p:cBhvr>
                                        <p:cTn id="7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990000"/>
                </a:solidFill>
                <a:latin typeface="Georgia"/>
              </a:rPr>
              <a:t>Подберите такое число, чтобы  получилось верное равенст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BIZ066"/>
          <p:cNvPicPr/>
          <p:nvPr/>
        </p:nvPicPr>
        <p:blipFill>
          <a:blip r:embed="rId1"/>
          <a:srcRect l="0" t="-168" r="27050" b="0"/>
          <a:stretch/>
        </p:blipFill>
        <p:spPr>
          <a:xfrm>
            <a:off x="0" y="1773360"/>
            <a:ext cx="2971800" cy="42987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"/>
          <p:cNvSpPr/>
          <p:nvPr/>
        </p:nvSpPr>
        <p:spPr>
          <a:xfrm rot="271800">
            <a:off x="2916000" y="2491920"/>
            <a:ext cx="2447640" cy="158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 4,8 =2,9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Oval 6"/>
          <p:cNvSpPr/>
          <p:nvPr/>
        </p:nvSpPr>
        <p:spPr>
          <a:xfrm>
            <a:off x="5651640" y="242100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9,6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Oval 7"/>
          <p:cNvSpPr/>
          <p:nvPr/>
        </p:nvSpPr>
        <p:spPr>
          <a:xfrm>
            <a:off x="6372360" y="400536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9,6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Oval 8"/>
          <p:cNvSpPr/>
          <p:nvPr/>
        </p:nvSpPr>
        <p:spPr>
          <a:xfrm>
            <a:off x="6588000" y="5516640"/>
            <a:ext cx="914400" cy="93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,16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Oval 9"/>
          <p:cNvSpPr/>
          <p:nvPr/>
        </p:nvSpPr>
        <p:spPr>
          <a:xfrm>
            <a:off x="4211640" y="5157720"/>
            <a:ext cx="914400" cy="914400"/>
          </a:xfrm>
          <a:prstGeom prst="ellipse">
            <a:avLst/>
          </a:prstGeom>
          <a:solidFill>
            <a:srgbClr val="a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1,9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7740720" y="2637000"/>
            <a:ext cx="914400" cy="934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8,16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17 0.00417 0.0434 0.00833 0.10469 0.00856 C 0.16597 0.00879 0.31476 0.02775 0.36823 0.00209 C 0.4217 -0.02358 0.41406 -0.08994 0.42535 -0.14589 C 0.43663 -0.20185 0.44219 -0.27791 0.43646 -0.33387 C 0.43073 -0.38982 0.41684 -0.45549 0.39045 -0.48185 C 0.36406 -0.5082 0.31319 -0.5015 0.27778 -0.49248 C 0.24236 -0.48346 0.20451 -0.45595 0.17778 -0.42705 C 0.15104 -0.39815 0.1342 -0.35861 0.11736 -0.31907 E">
                                      <p:cBhvr>
                                        <p:cTn id="128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990000"/>
                </a:solidFill>
                <a:latin typeface="Georgia"/>
              </a:rPr>
              <a:t>Подберите такое число, чтобы  получилось верное равенств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BIZ066"/>
          <p:cNvPicPr/>
          <p:nvPr/>
        </p:nvPicPr>
        <p:blipFill>
          <a:blip r:embed="rId1"/>
          <a:srcRect l="0" t="-168" r="27050" b="0"/>
          <a:stretch/>
        </p:blipFill>
        <p:spPr>
          <a:xfrm>
            <a:off x="0" y="1773360"/>
            <a:ext cx="2971800" cy="42987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5"/>
          <p:cNvSpPr/>
          <p:nvPr/>
        </p:nvSpPr>
        <p:spPr>
          <a:xfrm rot="271800">
            <a:off x="2914200" y="2514240"/>
            <a:ext cx="3021120" cy="15890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13,1+…=-13,1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Oval 6"/>
          <p:cNvSpPr/>
          <p:nvPr/>
        </p:nvSpPr>
        <p:spPr>
          <a:xfrm>
            <a:off x="3924360" y="494172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13,1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Oval 7"/>
          <p:cNvSpPr/>
          <p:nvPr/>
        </p:nvSpPr>
        <p:spPr>
          <a:xfrm>
            <a:off x="6372360" y="400536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3,1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Oval 8"/>
          <p:cNvSpPr/>
          <p:nvPr/>
        </p:nvSpPr>
        <p:spPr>
          <a:xfrm>
            <a:off x="6588000" y="5516640"/>
            <a:ext cx="914400" cy="93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9,6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Oval 9"/>
          <p:cNvSpPr/>
          <p:nvPr/>
        </p:nvSpPr>
        <p:spPr>
          <a:xfrm>
            <a:off x="7524720" y="22766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Oval 10"/>
          <p:cNvSpPr/>
          <p:nvPr/>
        </p:nvSpPr>
        <p:spPr>
          <a:xfrm>
            <a:off x="7885080" y="4797360"/>
            <a:ext cx="914400" cy="935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8,16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9017E-007 C 0.02048 0.01272 0.04097 0.02567 0.05399 0.05272 C 0.06701 0.07977 0.07152 0.11769 0.07777 0.16277 C 0.08402 0.20786 0.10121 0.27191 0.09201 0.32324 C 0.08281 0.37457 0.06979 0.43884 0.02222 0.47121 C -0.02535 0.50358 -0.12674 0.51676 -0.19358 0.51792 C -0.26042 0.51908 -0.35278 0.51514 -0.37934 0.47769 C -0.40591 0.44023 -0.37813 0.33017 -0.35243 0.29364 C -0.32674 0.25711 -0.25018 0.28948 -0.22535 0.2578 C -0.20052 0.22613 -0.20782 0.13526 -0.20313 0.10289 E">
                                      <p:cBhvr>
                                        <p:cTn id="183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Вопросы  повтор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стно.  </a:t>
            </a:r>
            <a:r>
              <a:rPr b="1" i="1" lang="ru-RU" sz="3200" spc="-1" strike="noStrike">
                <a:solidFill>
                  <a:srgbClr val="990000"/>
                </a:solidFill>
                <a:latin typeface="Georgia"/>
              </a:rPr>
              <a:t>Найдите  правильный 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BIZ066"/>
          <p:cNvPicPr/>
          <p:nvPr/>
        </p:nvPicPr>
        <p:blipFill>
          <a:blip r:embed="rId1"/>
          <a:srcRect l="0" t="-168" r="27050" b="0"/>
          <a:stretch/>
        </p:blipFill>
        <p:spPr>
          <a:xfrm>
            <a:off x="0" y="1773360"/>
            <a:ext cx="2971800" cy="429876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5"/>
          <p:cNvSpPr/>
          <p:nvPr/>
        </p:nvSpPr>
        <p:spPr>
          <a:xfrm rot="271800">
            <a:off x="2917800" y="2511360"/>
            <a:ext cx="294336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 (-7,2) =4,2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Oval 6"/>
          <p:cNvSpPr/>
          <p:nvPr/>
        </p:nvSpPr>
        <p:spPr>
          <a:xfrm>
            <a:off x="7740720" y="292428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6,2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Oval 7"/>
          <p:cNvSpPr/>
          <p:nvPr/>
        </p:nvSpPr>
        <p:spPr>
          <a:xfrm>
            <a:off x="6227640" y="270828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,2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Oval 8"/>
          <p:cNvSpPr/>
          <p:nvPr/>
        </p:nvSpPr>
        <p:spPr>
          <a:xfrm>
            <a:off x="4356000" y="5013360"/>
            <a:ext cx="1079640" cy="936720"/>
          </a:xfrm>
          <a:prstGeom prst="ellipse">
            <a:avLst/>
          </a:prstGeom>
          <a:solidFill>
            <a:srgbClr val="a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11,4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Oval 9"/>
          <p:cNvSpPr/>
          <p:nvPr/>
        </p:nvSpPr>
        <p:spPr>
          <a:xfrm>
            <a:off x="6227640" y="4653000"/>
            <a:ext cx="9144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1,4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Oval 10"/>
          <p:cNvSpPr/>
          <p:nvPr/>
        </p:nvSpPr>
        <p:spPr>
          <a:xfrm>
            <a:off x="7956720" y="4653000"/>
            <a:ext cx="914400" cy="934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8,4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8854 0.00116 0.17725 0.00231 0.21267 -0.02127 C 0.24809 -0.04486 0.22326 -0.07306 0.21267 -0.14173 C 0.20208 -0.2104 0.17187 -0.38775 0.14913 -0.43353 C 0.12639 -0.47931 0.09878 -0.45064 0.07604 -0.41642 C 0.0533 -0.3822 0.04236 -0.25665 0.01267 -0.22844 C -0.01702 -0.20023 -0.05938 -0.22381 -0.10174 -0.2474 E">
                                      <p:cBhvr>
                                        <p:cTn id="238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990000"/>
                </a:solidFill>
                <a:latin typeface="Georgia"/>
              </a:rPr>
              <a:t>Подберите такое число, чтобы  получилось верное равенст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BIZ066"/>
          <p:cNvPicPr/>
          <p:nvPr/>
        </p:nvPicPr>
        <p:blipFill>
          <a:blip r:embed="rId1"/>
          <a:srcRect l="0" t="-168" r="27050" b="0"/>
          <a:stretch/>
        </p:blipFill>
        <p:spPr>
          <a:xfrm>
            <a:off x="0" y="1773360"/>
            <a:ext cx="2971800" cy="429876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5"/>
          <p:cNvSpPr/>
          <p:nvPr/>
        </p:nvSpPr>
        <p:spPr>
          <a:xfrm rot="271800">
            <a:off x="2917440" y="2509920"/>
            <a:ext cx="2871720" cy="1528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 (-4,9)=2,9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Oval 6"/>
          <p:cNvSpPr/>
          <p:nvPr/>
        </p:nvSpPr>
        <p:spPr>
          <a:xfrm>
            <a:off x="3851280" y="472428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0,3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Oval 7"/>
          <p:cNvSpPr/>
          <p:nvPr/>
        </p:nvSpPr>
        <p:spPr>
          <a:xfrm>
            <a:off x="7236000" y="314172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10,3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Oval 8"/>
          <p:cNvSpPr/>
          <p:nvPr/>
        </p:nvSpPr>
        <p:spPr>
          <a:xfrm>
            <a:off x="5867280" y="4149720"/>
            <a:ext cx="914400" cy="93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4,3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Oval 9"/>
          <p:cNvSpPr/>
          <p:nvPr/>
        </p:nvSpPr>
        <p:spPr>
          <a:xfrm>
            <a:off x="6156360" y="198900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,8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6227640" y="5734080"/>
            <a:ext cx="914400" cy="934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16,6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5.78035E-007 C 0.03542 -0.00416 0.07101 -0.00809 0.1 0.00416 C 0.129 0.01642 0.154 0.03515 0.17466 0.07399 C 0.19532 0.11283 0.21823 0.16948 0.22379 0.23676 C 0.22934 0.30405 0.23768 0.41642 0.20799 0.47769 C 0.1783 0.53896 0.09514 0.6 0.04601 0.60462 C -0.00312 0.60925 -0.06059 0.55491 -0.08732 0.5052 C -0.11406 0.45549 -0.11267 0.36694 -0.11423 0.30659 C -0.11579 0.24624 -0.1 0.17688 -0.09635 0.14266 E">
                                      <p:cBhvr>
                                        <p:cTn id="293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990000"/>
                </a:solidFill>
                <a:latin typeface="Georgia"/>
              </a:rPr>
              <a:t>Подберите такое число, чтобы  получилось верное равенст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BIZ066"/>
          <p:cNvPicPr/>
          <p:nvPr/>
        </p:nvPicPr>
        <p:blipFill>
          <a:blip r:embed="rId1"/>
          <a:srcRect l="0" t="-168" r="27050" b="0"/>
          <a:stretch/>
        </p:blipFill>
        <p:spPr>
          <a:xfrm>
            <a:off x="0" y="1773360"/>
            <a:ext cx="2971800" cy="429876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5"/>
          <p:cNvSpPr/>
          <p:nvPr/>
        </p:nvSpPr>
        <p:spPr>
          <a:xfrm rot="271800">
            <a:off x="2913120" y="2505240"/>
            <a:ext cx="2809800" cy="1584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,4+ …=0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Oval 6"/>
          <p:cNvSpPr/>
          <p:nvPr/>
        </p:nvSpPr>
        <p:spPr>
          <a:xfrm>
            <a:off x="8028000" y="515772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,8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443640" y="206064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4,4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Oval 8"/>
          <p:cNvSpPr/>
          <p:nvPr/>
        </p:nvSpPr>
        <p:spPr>
          <a:xfrm>
            <a:off x="7956720" y="2924280"/>
            <a:ext cx="914400" cy="93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Oval 9"/>
          <p:cNvSpPr/>
          <p:nvPr/>
        </p:nvSpPr>
        <p:spPr>
          <a:xfrm>
            <a:off x="6156360" y="4508640"/>
            <a:ext cx="91440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0,4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4067280" y="4653000"/>
            <a:ext cx="914400" cy="934920"/>
          </a:xfrm>
          <a:prstGeom prst="ellipse">
            <a:avLst/>
          </a:prstGeom>
          <a:solidFill>
            <a:srgbClr val="a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1" i="1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0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69 0.03283 0.00156 0.06589 0.00955 0.10566 C 0.01753 0.14543 0.03229 0.23029 0.04757 0.23884 C 0.06285 0.2474 0.09097 0.20809 0.10156 0.15653 C 0.11215 0.10497 0.10903 -0.02127 0.11111 -0.06983 C 0.11319 -0.11838 0.11232 -0.08393 0.11423 -0.13526 C 0.11614 -0.18659 0.11371 -0.32671 0.12222 -0.3785 C 0.13073 -0.43029 0.15208 -0.46474 0.1651 -0.44601 C 0.17812 -0.42729 0.19444 -0.31469 0.2 -0.26636 C 0.20555 -0.21804 0.21406 -0.18567 0.19844 -0.15654 C 0.18281 -0.1274 0.14878 -0.07931 0.10625 -0.09087 C 0.06371 -0.10243 0.0033 -0.1644 -0.05712 -0.22613 E">
                                      <p:cBhvr>
                                        <p:cTn id="34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2556000" y="5734080"/>
            <a:ext cx="4032000" cy="625320"/>
          </a:xfrm>
          <a:prstGeom prst="rect">
            <a:avLst/>
          </a:prstGeom>
          <a:solidFill>
            <a:srgbClr val="fcb7b2"/>
          </a:solidFill>
          <a:ln w="9360">
            <a:solidFill>
              <a:srgbClr val="fcb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5 + (-2)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9000" y="5805360"/>
            <a:ext cx="24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1 вариант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6680520" y="5805360"/>
            <a:ext cx="24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2 вариант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476360" y="4869000"/>
            <a:ext cx="2303640" cy="625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19 + …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11280" y="3933720"/>
            <a:ext cx="2303280" cy="625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14 + …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250920" y="2997360"/>
            <a:ext cx="2303280" cy="625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3 + …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611280" y="2060640"/>
            <a:ext cx="2303280" cy="625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 (-60)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116000" y="1197000"/>
            <a:ext cx="2303640" cy="625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 (-3)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Oval 12"/>
          <p:cNvSpPr/>
          <p:nvPr/>
        </p:nvSpPr>
        <p:spPr>
          <a:xfrm>
            <a:off x="2195640" y="189000"/>
            <a:ext cx="1728720" cy="71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-50</a:t>
            </a:r>
            <a:endParaRPr b="1" i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5364000" y="4869000"/>
            <a:ext cx="2303640" cy="6253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 (-13)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300720" y="3933720"/>
            <a:ext cx="2303640" cy="6256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 (-70)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6588000" y="2997360"/>
            <a:ext cx="2303640" cy="6253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 49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6227640" y="2060640"/>
            <a:ext cx="2303640" cy="6253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4 + …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5651640" y="1197000"/>
            <a:ext cx="2303280" cy="6253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45 + …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Oval 18"/>
          <p:cNvSpPr/>
          <p:nvPr/>
        </p:nvSpPr>
        <p:spPr>
          <a:xfrm>
            <a:off x="5219640" y="189000"/>
            <a:ext cx="1728720" cy="718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-52</a:t>
            </a:r>
            <a:endParaRPr b="1" i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Line 19"/>
          <p:cNvSpPr/>
          <p:nvPr/>
        </p:nvSpPr>
        <p:spPr>
          <a:xfrm flipV="1">
            <a:off x="3635280" y="530028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Line 20"/>
          <p:cNvSpPr/>
          <p:nvPr/>
        </p:nvSpPr>
        <p:spPr>
          <a:xfrm flipV="1">
            <a:off x="5508720" y="530028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Line 21"/>
          <p:cNvSpPr/>
          <p:nvPr/>
        </p:nvSpPr>
        <p:spPr>
          <a:xfrm flipV="1">
            <a:off x="2700360" y="4365720"/>
            <a:ext cx="0" cy="576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Line 22"/>
          <p:cNvSpPr/>
          <p:nvPr/>
        </p:nvSpPr>
        <p:spPr>
          <a:xfrm flipV="1">
            <a:off x="6443640" y="4365720"/>
            <a:ext cx="0" cy="576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Line 23"/>
          <p:cNvSpPr/>
          <p:nvPr/>
        </p:nvSpPr>
        <p:spPr>
          <a:xfrm flipV="1">
            <a:off x="2268360" y="3428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Line 24"/>
          <p:cNvSpPr/>
          <p:nvPr/>
        </p:nvSpPr>
        <p:spPr>
          <a:xfrm flipV="1">
            <a:off x="6877080" y="3428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Line 25"/>
          <p:cNvSpPr/>
          <p:nvPr/>
        </p:nvSpPr>
        <p:spPr>
          <a:xfrm flipV="1">
            <a:off x="755640" y="249192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Line 26"/>
          <p:cNvSpPr/>
          <p:nvPr/>
        </p:nvSpPr>
        <p:spPr>
          <a:xfrm flipV="1">
            <a:off x="8388360" y="249192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Line 27"/>
          <p:cNvSpPr/>
          <p:nvPr/>
        </p:nvSpPr>
        <p:spPr>
          <a:xfrm flipV="1">
            <a:off x="1332000" y="155700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Line 28"/>
          <p:cNvSpPr/>
          <p:nvPr/>
        </p:nvSpPr>
        <p:spPr>
          <a:xfrm flipV="1">
            <a:off x="7740720" y="162828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Line 29"/>
          <p:cNvSpPr/>
          <p:nvPr/>
        </p:nvSpPr>
        <p:spPr>
          <a:xfrm flipV="1">
            <a:off x="3132000" y="764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Line 30"/>
          <p:cNvSpPr/>
          <p:nvPr/>
        </p:nvSpPr>
        <p:spPr>
          <a:xfrm flipV="1">
            <a:off x="6012000" y="764640"/>
            <a:ext cx="0" cy="5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Oval 31"/>
          <p:cNvSpPr/>
          <p:nvPr/>
        </p:nvSpPr>
        <p:spPr>
          <a:xfrm>
            <a:off x="2916360" y="2852640"/>
            <a:ext cx="331308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равните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Line 32"/>
          <p:cNvSpPr/>
          <p:nvPr/>
        </p:nvSpPr>
        <p:spPr>
          <a:xfrm flipV="1">
            <a:off x="4572000" y="692280"/>
            <a:ext cx="0" cy="2087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Oval 33"/>
          <p:cNvSpPr/>
          <p:nvPr/>
        </p:nvSpPr>
        <p:spPr>
          <a:xfrm>
            <a:off x="4067280" y="260280"/>
            <a:ext cx="100800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&gt;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0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8000"/>
                            </p:stCondLst>
                            <p:childTnLst>
                              <p:par>
                                <p:cTn id="4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9000"/>
                            </p:stCondLst>
                            <p:childTnLst>
                              <p:par>
                                <p:cTn id="4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Решаем в тетрад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521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Georgia"/>
              </a:rPr>
              <a:t>№ </a:t>
            </a:r>
            <a:r>
              <a:rPr b="1" i="1" lang="ru-RU" sz="3200" spc="-1" strike="noStrike">
                <a:solidFill>
                  <a:srgbClr val="990000"/>
                </a:solidFill>
                <a:latin typeface="Georgia"/>
              </a:rPr>
              <a:t>1070(б,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SCRIBECO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23:52:25Z</dcterms:created>
  <dc:creator>Каратанова</dc:creator>
  <dc:description/>
  <dc:language>en-US</dc:language>
  <cp:lastModifiedBy>Zina-PC</cp:lastModifiedBy>
  <dcterms:modified xsi:type="dcterms:W3CDTF">2015-05-10T07:44:28Z</dcterms:modified>
  <cp:revision>7</cp:revision>
  <dc:subject/>
  <dc:title>Слайд 1</dc:title>
</cp:coreProperties>
</file>