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gif" ContentType="image/gif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F611-4821-46E2-8780-B2F0DA94A1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136E-9912-42EF-A282-17E10E09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0853-7A4B-45F4-B4CB-DB118F9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C309-0314-4A2C-8BDA-1329498BB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95C8E-4477-43AB-ABC4-FC531A116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D62A9-F8BD-4995-8DDE-5F4AF57F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5878E-7D44-4028-BA68-A23F2EC2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F7962-5FC9-474D-8FB3-220F8DBF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A9B3A-627F-469E-9DB1-0F568F57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0E0BC-C3C5-406F-9FFA-CE2FB9CF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E4A83-2C93-444F-B3ED-0FA0DB60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A0C3-AB92-479E-AA6D-DBCFD7C7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EF471-4CF9-4E82-9E34-CEA395B7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92D3B-6027-4934-9A20-8450462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AAA99-B248-4338-BF0E-17DC2C31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72C65-1FAC-42A6-8BAC-0B379C86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3CA52-C522-47B6-9A47-93A242C3C4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DA2C-62D1-46FD-B5DD-1E6FB8ADD2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1D0B-78AB-4768-88D9-FE7671A1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124B-7235-4C1A-B33E-56BDDEDF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2707-520D-4CDB-B62A-A6CF5B9B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448B-DD17-4A99-B9FE-3CB125C6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0DA9-9F0E-427A-B954-3B470CB6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55AA-2375-4F2D-A69B-C2781F2E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87EB-4D3A-4CFF-AF2C-8A5C1AA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AE8E-EB88-4C03-975F-A87C6236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E3C5-542F-4CDC-8052-86302AE7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858D-FA90-4836-9CA8-9D69FABB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AB4F-4A53-4C2B-90F8-39E2B47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4696-51BC-4084-816C-3C8B8DA1EE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AE2C9-9245-4D45-A77D-C013232A2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D8F7A-9428-4F30-B0E1-1DD4FE68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1C453-43F2-4F02-85FF-C48879BA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0C34-4DA0-4D7E-B9DC-E7D63A6B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84223-1F54-44D3-9AD7-9849D58C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5A296-B3B4-44A4-BE38-E011A5CA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8B2DE-61E8-42EA-B589-ED193AB1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28268-FAD1-4C4C-A1C4-925BE577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F09E3-2AB4-4007-B877-813358E8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8F07D-6BA3-4EEE-A5AF-4E78FE10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0EF52-1177-465C-9F02-63B9154C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2E255-77F2-4DEE-8DCA-149DA7C5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558DA-D44F-4D79-9AAC-C5898A23A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D9FCA-B9DB-4B7A-9B17-11B0807F11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E222-6200-4947-A4F9-2B4E6932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58DE8F-0431-4D16-A68E-2292BDC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BBEA2-287C-499C-821C-84DE4349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6174A-D2D8-4013-85A5-0070FDAE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EC25F-A92B-45D0-8892-2B003B90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A03FF-099D-4355-92AB-9A088CF8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5E82F-96A0-4459-9F4A-0F0094BC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E33A6-F603-4A29-9E57-3D4E773D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6E7C32-B52A-4AD4-9978-FB185BEC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D9459-A9AB-498A-8903-DF41046C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58296-CA33-4266-8A26-83540A14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35C6-C330-4A29-8F0E-11B90236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AEE5E-381D-4A2D-B036-6FCA72650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DEB1-0A63-4228-831F-F6027848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855D-738B-40B3-A388-9C6EC11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0F2A-8F57-47BA-BEEC-C3AA0DE9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7F441C-EC85-4F99-A236-6E0532191054}" type="slidenum"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4"/>
          <a:stretch/>
        </p:blipFill>
        <p:spPr>
          <a:xfrm>
            <a:off x="6084720" y="2914560"/>
            <a:ext cx="3314880" cy="3943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5"/>
          <a:stretch/>
        </p:blipFill>
        <p:spPr>
          <a:xfrm>
            <a:off x="6948360" y="1844640"/>
            <a:ext cx="1300320" cy="1363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041829-104A-40A7-BB73-8A2384541ADB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3"/>
          <a:stretch/>
        </p:blipFill>
        <p:spPr>
          <a:xfrm>
            <a:off x="7380360" y="26370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4"/>
          <a:stretch/>
        </p:blipFill>
        <p:spPr>
          <a:xfrm>
            <a:off x="5992920" y="4219560"/>
            <a:ext cx="3151080" cy="263844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3"/>
          <p:cNvGrpSpPr/>
          <p:nvPr/>
        </p:nvGrpSpPr>
        <p:grpSpPr>
          <a:xfrm>
            <a:off x="1835280" y="5661000"/>
            <a:ext cx="7305480" cy="1193760"/>
            <a:chOff x="1835280" y="5661000"/>
            <a:chExt cx="7305480" cy="1193760"/>
          </a:xfrm>
        </p:grpSpPr>
        <p:pic>
          <p:nvPicPr>
            <p:cNvPr id="88" name="Picture 4" descr=""/>
            <p:cNvPicPr/>
            <p:nvPr/>
          </p:nvPicPr>
          <p:blipFill>
            <a:blip r:embed="rId5"/>
            <a:stretch/>
          </p:blipFill>
          <p:spPr>
            <a:xfrm>
              <a:off x="1835280" y="5661000"/>
              <a:ext cx="454320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"/>
            <p:cNvPicPr/>
            <p:nvPr/>
          </p:nvPicPr>
          <p:blipFill>
            <a:blip r:embed="rId6"/>
            <a:stretch/>
          </p:blipFill>
          <p:spPr>
            <a:xfrm>
              <a:off x="5892840" y="5661000"/>
              <a:ext cx="3247920" cy="11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6"/>
          <p:cNvGrpSpPr/>
          <p:nvPr/>
        </p:nvGrpSpPr>
        <p:grpSpPr>
          <a:xfrm>
            <a:off x="0" y="5661000"/>
            <a:ext cx="7305840" cy="1193760"/>
            <a:chOff x="0" y="5661000"/>
            <a:chExt cx="7305840" cy="1193760"/>
          </a:xfrm>
        </p:grpSpPr>
        <p:pic>
          <p:nvPicPr>
            <p:cNvPr id="91" name="Picture 7" descr=""/>
            <p:cNvPicPr/>
            <p:nvPr/>
          </p:nvPicPr>
          <p:blipFill>
            <a:blip r:embed="rId7"/>
            <a:stretch/>
          </p:blipFill>
          <p:spPr>
            <a:xfrm>
              <a:off x="0" y="5661000"/>
              <a:ext cx="454356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8" descr=""/>
            <p:cNvPicPr/>
            <p:nvPr/>
          </p:nvPicPr>
          <p:blipFill>
            <a:blip r:embed="rId8"/>
            <a:stretch/>
          </p:blipFill>
          <p:spPr>
            <a:xfrm>
              <a:off x="4057560" y="5661000"/>
              <a:ext cx="3248280" cy="1193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9" descr=""/>
          <p:cNvPicPr/>
          <p:nvPr/>
        </p:nvPicPr>
        <p:blipFill>
          <a:blip r:embed="rId9"/>
          <a:stretch/>
        </p:blipFill>
        <p:spPr>
          <a:xfrm>
            <a:off x="0" y="4653000"/>
            <a:ext cx="147636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400828-D915-417D-9A6D-EA9E0770B4BD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0" y="4221000"/>
            <a:ext cx="2646360" cy="283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6178680" y="4221000"/>
            <a:ext cx="2965320" cy="21178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3"/>
          <p:cNvGrpSpPr/>
          <p:nvPr/>
        </p:nvGrpSpPr>
        <p:grpSpPr>
          <a:xfrm>
            <a:off x="1258920" y="6093000"/>
            <a:ext cx="7881840" cy="761760"/>
            <a:chOff x="1258920" y="6093000"/>
            <a:chExt cx="7881840" cy="761760"/>
          </a:xfrm>
        </p:grpSpPr>
        <p:pic>
          <p:nvPicPr>
            <p:cNvPr id="138" name="Picture 4" descr=""/>
            <p:cNvPicPr/>
            <p:nvPr/>
          </p:nvPicPr>
          <p:blipFill>
            <a:blip r:embed="rId5"/>
            <a:stretch/>
          </p:blipFill>
          <p:spPr>
            <a:xfrm>
              <a:off x="125892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"/>
            <p:cNvPicPr/>
            <p:nvPr/>
          </p:nvPicPr>
          <p:blipFill>
            <a:blip r:embed="rId6"/>
            <a:stretch/>
          </p:blipFill>
          <p:spPr>
            <a:xfrm>
              <a:off x="451800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"/>
            <p:cNvPicPr/>
            <p:nvPr/>
          </p:nvPicPr>
          <p:blipFill>
            <a:blip r:embed="rId7"/>
            <a:stretch/>
          </p:blipFill>
          <p:spPr>
            <a:xfrm>
              <a:off x="582300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7"/>
          <p:cNvGrpSpPr/>
          <p:nvPr/>
        </p:nvGrpSpPr>
        <p:grpSpPr>
          <a:xfrm>
            <a:off x="0" y="6093000"/>
            <a:ext cx="7881840" cy="761760"/>
            <a:chOff x="0" y="6093000"/>
            <a:chExt cx="7881840" cy="761760"/>
          </a:xfrm>
        </p:grpSpPr>
        <p:pic>
          <p:nvPicPr>
            <p:cNvPr id="142" name="Picture 8" descr=""/>
            <p:cNvPicPr/>
            <p:nvPr/>
          </p:nvPicPr>
          <p:blipFill>
            <a:blip r:embed="rId8"/>
            <a:stretch/>
          </p:blipFill>
          <p:spPr>
            <a:xfrm>
              <a:off x="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"/>
            <p:cNvPicPr/>
            <p:nvPr/>
          </p:nvPicPr>
          <p:blipFill>
            <a:blip r:embed="rId9"/>
            <a:stretch/>
          </p:blipFill>
          <p:spPr>
            <a:xfrm>
              <a:off x="325908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0" descr=""/>
            <p:cNvPicPr/>
            <p:nvPr/>
          </p:nvPicPr>
          <p:blipFill>
            <a:blip r:embed="rId10"/>
            <a:stretch/>
          </p:blipFill>
          <p:spPr>
            <a:xfrm>
              <a:off x="456408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A24586-5FFB-49B6-8684-809614E0E156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3"/>
          <a:stretch/>
        </p:blipFill>
        <p:spPr>
          <a:xfrm>
            <a:off x="-25560" y="4005360"/>
            <a:ext cx="2125800" cy="25542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"/>
          <p:cNvGrpSpPr/>
          <p:nvPr/>
        </p:nvGrpSpPr>
        <p:grpSpPr>
          <a:xfrm>
            <a:off x="0" y="5778360"/>
            <a:ext cx="9140760" cy="1076400"/>
            <a:chOff x="0" y="5778360"/>
            <a:chExt cx="9140760" cy="1076400"/>
          </a:xfrm>
        </p:grpSpPr>
        <p:pic>
          <p:nvPicPr>
            <p:cNvPr id="188" name="Picture 3" descr=""/>
            <p:cNvPicPr/>
            <p:nvPr/>
          </p:nvPicPr>
          <p:blipFill>
            <a:blip r:embed="rId4"/>
            <a:stretch/>
          </p:blipFill>
          <p:spPr>
            <a:xfrm>
              <a:off x="4824360" y="5778360"/>
              <a:ext cx="431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" descr=""/>
            <p:cNvPicPr/>
            <p:nvPr/>
          </p:nvPicPr>
          <p:blipFill>
            <a:blip r:embed="rId5"/>
            <a:stretch/>
          </p:blipFill>
          <p:spPr>
            <a:xfrm>
              <a:off x="1187280" y="5778360"/>
              <a:ext cx="431676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"/>
            <p:cNvPicPr/>
            <p:nvPr/>
          </p:nvPicPr>
          <p:blipFill>
            <a:blip r:embed="rId6"/>
            <a:stretch/>
          </p:blipFill>
          <p:spPr>
            <a:xfrm>
              <a:off x="0" y="5778360"/>
              <a:ext cx="431640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Picture 6" descr=""/>
          <p:cNvPicPr/>
          <p:nvPr/>
        </p:nvPicPr>
        <p:blipFill>
          <a:blip r:embed="rId7"/>
          <a:stretch/>
        </p:blipFill>
        <p:spPr>
          <a:xfrm>
            <a:off x="6691320" y="3619440"/>
            <a:ext cx="2556000" cy="3057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2CDBFD-DCD9-4C33-9116-AA2EFEF6FD4B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907560"/>
            <a:ext cx="72010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Тестирование как метод повышения профессиональной компетентности педагога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Кузьменко Л.Н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МКОУ Отрадненская СОШ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749952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Профессиональная компетентность педагога – необходимое условие повышения качества педагогического процесса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         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К основным составляющим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рофессиональной компетентности 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относятся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- </a:t>
            </a: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интеллектуально-педагогическая компетентность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коммуникативная компетентность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информационная компетентность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рефлексивная компетентность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16668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Тестирование 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— это метод, который позволяет выявить уровень знаний, умений и навыков, способностей и других качеств личности</a:t>
            </a:r>
            <a:br>
              <a:rPr sz="4000"/>
            </a:b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856800"/>
            <a:ext cx="82263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Тест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— это стандартизированное задание или особым образом связанные между собой задания, которые позволяют исследователю диагностировать меру выраженности исследуемого свойства у испытуемого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213920"/>
            <a:ext cx="82263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Таким образом,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 использование тестов в работе с педагогами способствует повышению профессиональной компетентности педагогов, стимулирует стремление к совершенствованию, приобретению все новых знаний и умений, обогащению деятельности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57200" y="274680"/>
            <a:ext cx="82296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2"/>
          <p:cNvGrpSpPr/>
          <p:nvPr/>
        </p:nvGrpSpPr>
        <p:grpSpPr>
          <a:xfrm>
            <a:off x="1258920" y="1989000"/>
            <a:ext cx="6854760" cy="2926080"/>
            <a:chOff x="1258920" y="1989000"/>
            <a:chExt cx="6854760" cy="2926080"/>
          </a:xfrm>
        </p:grpSpPr>
        <p:pic>
          <p:nvPicPr>
            <p:cNvPr id="247" name="Picture 3" descr=""/>
            <p:cNvPicPr/>
            <p:nvPr/>
          </p:nvPicPr>
          <p:blipFill>
            <a:blip r:embed="rId2"/>
            <a:stretch/>
          </p:blipFill>
          <p:spPr>
            <a:xfrm>
              <a:off x="1258920" y="1989000"/>
              <a:ext cx="6854760" cy="29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4"/>
            <p:cNvSpPr/>
            <p:nvPr/>
          </p:nvSpPr>
          <p:spPr>
            <a:xfrm>
              <a:off x="1258920" y="1989000"/>
              <a:ext cx="685476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9:41:19Z</dcterms:created>
  <dc:creator>10</dc:creator>
  <dc:description/>
  <dc:language>en-US</dc:language>
  <cp:lastModifiedBy>10</cp:lastModifiedBy>
  <dcterms:modified xsi:type="dcterms:W3CDTF">2015-04-29T17:09:36Z</dcterms:modified>
  <cp:revision>12</cp:revision>
  <dc:subject/>
  <dc:title>Слайд 1</dc:title>
</cp:coreProperties>
</file>