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gif" ContentType="image/gif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BE1E-DC82-462D-A7B8-F2246929A6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39AD-61FA-4547-AB93-BF4B7F33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1710-3CC0-4315-9E69-AC6E6F88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6FB9-AFEB-431A-961C-5FF033FE9D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DEFCA-D9AD-4243-B8BA-10219045C3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C18B5-1FE6-4FC7-8914-B5C30F8E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95607-7C99-49CF-ADBF-C836C6F3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D7569-054B-42C6-8F56-50616BFE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A9E07-FC33-435E-946B-09E2F862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D0589-60F2-4D0B-87C6-78D60077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8431F-A27F-462E-A1F9-BC7184FE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BAD6-533C-40B8-B6A0-E2A7E567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7D2EF-CB7A-4248-A593-8F8B711E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4879B-41DF-4756-AEA4-B2EB6DD2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F1C1D-92BA-4831-9A08-16E9C8C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F472F-39E1-4FC2-9967-727569A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9C634-4089-4983-92A5-3EE18B674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3190-CDAB-4F45-A52D-EA3290910B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B268-0402-46F4-B51D-EBAF91A7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07CA-E8E2-45D3-92A3-6B3C1837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5651-C42A-4455-A501-C57F0948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5EF0-37F0-4A57-A3A7-A3049F97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48CD-00CD-4E59-ADB0-B636A019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3C88-281D-4A85-837B-14BF5980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B98A-3AD3-43D5-A87F-B6F419C3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44A5-59B2-4AEC-94BF-06123061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36DD-DCC4-4360-9D8C-447CA430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BE22-54EE-4E41-88AE-24B966F5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4140-5D43-48FF-8FF7-2CE2018C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60E0-A56A-4D7C-8CB0-465C4BB6B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B84FF-5506-4EBC-A26D-CE3C914160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582EB-85D1-45C1-A471-EB644F2B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54A66-3C54-4403-8114-C10904A2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302A-D628-4D93-B09B-76FDEFFB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58819-E60D-4230-892D-2A170335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11B91-124B-4F05-B186-FC1857B4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78F07-2F8E-4E16-A440-6B09F8CA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582BC-33C9-4287-809E-F076DF58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06436-BE61-4F32-935E-3B6D6674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BC005-02B7-40F0-B5B6-95E41513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F7519-6CF6-4722-BA5F-FCE237FC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C9536-2C98-4D3C-AD71-D1F25AF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EE950-4C9C-4C02-A466-7313FCA2E0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779B6-A100-466C-9A2F-F54D77CA49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F85D-4CA6-41F2-841F-78A2F21B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1E7F1-E79F-4DB8-AB5F-88E3B3FC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C8414-2E37-495B-BC05-1133E5C5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24472-DE75-4B46-8CDA-928F1444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2DF99-9799-4CEE-A67F-92D18F65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54309-B302-4882-BF4B-904327EE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FC8EB-FAF1-4C99-BEF2-1236204E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C2093-FC99-4F9D-8187-22D9C67C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9CCBB-3174-401C-AD26-57F08664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CFE44-F608-484E-BA7A-8C5222A8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178B4-211B-4A71-900E-5914831B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03DC-91FE-4C41-B78F-51D6ADE1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2D15D-2301-47B7-8B4C-DD58E50BD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1A65-14AF-4AA7-A622-3760794A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7B90-81E1-43E1-91C2-F23555AF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D82A-97AD-4C6E-86BE-CE97D61F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764D70-7748-48C1-B007-002276BE464D}" type="slidenum"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4"/>
          <a:stretch/>
        </p:blipFill>
        <p:spPr>
          <a:xfrm>
            <a:off x="6084720" y="2914560"/>
            <a:ext cx="3314880" cy="3943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5"/>
          <a:stretch/>
        </p:blipFill>
        <p:spPr>
          <a:xfrm>
            <a:off x="6948360" y="1844640"/>
            <a:ext cx="1300320" cy="1363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C5C87F-295D-419A-B43B-1427B887D7A8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3"/>
          <a:stretch/>
        </p:blipFill>
        <p:spPr>
          <a:xfrm>
            <a:off x="7380360" y="26370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4"/>
          <a:stretch/>
        </p:blipFill>
        <p:spPr>
          <a:xfrm>
            <a:off x="5992920" y="4219560"/>
            <a:ext cx="3151080" cy="263844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3"/>
          <p:cNvGrpSpPr/>
          <p:nvPr/>
        </p:nvGrpSpPr>
        <p:grpSpPr>
          <a:xfrm>
            <a:off x="1835280" y="5661000"/>
            <a:ext cx="7305480" cy="1193760"/>
            <a:chOff x="1835280" y="5661000"/>
            <a:chExt cx="7305480" cy="1193760"/>
          </a:xfrm>
        </p:grpSpPr>
        <p:pic>
          <p:nvPicPr>
            <p:cNvPr id="88" name="Picture 4" descr=""/>
            <p:cNvPicPr/>
            <p:nvPr/>
          </p:nvPicPr>
          <p:blipFill>
            <a:blip r:embed="rId5"/>
            <a:stretch/>
          </p:blipFill>
          <p:spPr>
            <a:xfrm>
              <a:off x="1835280" y="5661000"/>
              <a:ext cx="454320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"/>
            <p:cNvPicPr/>
            <p:nvPr/>
          </p:nvPicPr>
          <p:blipFill>
            <a:blip r:embed="rId6"/>
            <a:stretch/>
          </p:blipFill>
          <p:spPr>
            <a:xfrm>
              <a:off x="5892840" y="5661000"/>
              <a:ext cx="3247920" cy="11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6"/>
          <p:cNvGrpSpPr/>
          <p:nvPr/>
        </p:nvGrpSpPr>
        <p:grpSpPr>
          <a:xfrm>
            <a:off x="0" y="5661000"/>
            <a:ext cx="7305840" cy="1193760"/>
            <a:chOff x="0" y="5661000"/>
            <a:chExt cx="7305840" cy="1193760"/>
          </a:xfrm>
        </p:grpSpPr>
        <p:pic>
          <p:nvPicPr>
            <p:cNvPr id="91" name="Picture 7" descr=""/>
            <p:cNvPicPr/>
            <p:nvPr/>
          </p:nvPicPr>
          <p:blipFill>
            <a:blip r:embed="rId7"/>
            <a:stretch/>
          </p:blipFill>
          <p:spPr>
            <a:xfrm>
              <a:off x="0" y="5661000"/>
              <a:ext cx="454356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8" descr=""/>
            <p:cNvPicPr/>
            <p:nvPr/>
          </p:nvPicPr>
          <p:blipFill>
            <a:blip r:embed="rId8"/>
            <a:stretch/>
          </p:blipFill>
          <p:spPr>
            <a:xfrm>
              <a:off x="4057560" y="5661000"/>
              <a:ext cx="3248280" cy="1193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9" descr=""/>
          <p:cNvPicPr/>
          <p:nvPr/>
        </p:nvPicPr>
        <p:blipFill>
          <a:blip r:embed="rId9"/>
          <a:stretch/>
        </p:blipFill>
        <p:spPr>
          <a:xfrm>
            <a:off x="0" y="4653000"/>
            <a:ext cx="147636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E5DFA8-D856-45CB-84D6-69E5D843BD3A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0" y="4221000"/>
            <a:ext cx="2646360" cy="2830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6178680" y="4221000"/>
            <a:ext cx="2965320" cy="21178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3"/>
          <p:cNvGrpSpPr/>
          <p:nvPr/>
        </p:nvGrpSpPr>
        <p:grpSpPr>
          <a:xfrm>
            <a:off x="1258920" y="6093000"/>
            <a:ext cx="7881840" cy="761760"/>
            <a:chOff x="1258920" y="6093000"/>
            <a:chExt cx="7881840" cy="761760"/>
          </a:xfrm>
        </p:grpSpPr>
        <p:pic>
          <p:nvPicPr>
            <p:cNvPr id="138" name="Picture 4" descr=""/>
            <p:cNvPicPr/>
            <p:nvPr/>
          </p:nvPicPr>
          <p:blipFill>
            <a:blip r:embed="rId5"/>
            <a:stretch/>
          </p:blipFill>
          <p:spPr>
            <a:xfrm>
              <a:off x="125892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"/>
            <p:cNvPicPr/>
            <p:nvPr/>
          </p:nvPicPr>
          <p:blipFill>
            <a:blip r:embed="rId6"/>
            <a:stretch/>
          </p:blipFill>
          <p:spPr>
            <a:xfrm>
              <a:off x="451800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"/>
            <p:cNvPicPr/>
            <p:nvPr/>
          </p:nvPicPr>
          <p:blipFill>
            <a:blip r:embed="rId7"/>
            <a:stretch/>
          </p:blipFill>
          <p:spPr>
            <a:xfrm>
              <a:off x="582300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7"/>
          <p:cNvGrpSpPr/>
          <p:nvPr/>
        </p:nvGrpSpPr>
        <p:grpSpPr>
          <a:xfrm>
            <a:off x="0" y="6093000"/>
            <a:ext cx="7881840" cy="761760"/>
            <a:chOff x="0" y="6093000"/>
            <a:chExt cx="7881840" cy="761760"/>
          </a:xfrm>
        </p:grpSpPr>
        <p:pic>
          <p:nvPicPr>
            <p:cNvPr id="142" name="Picture 8" descr=""/>
            <p:cNvPicPr/>
            <p:nvPr/>
          </p:nvPicPr>
          <p:blipFill>
            <a:blip r:embed="rId8"/>
            <a:stretch/>
          </p:blipFill>
          <p:spPr>
            <a:xfrm>
              <a:off x="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"/>
            <p:cNvPicPr/>
            <p:nvPr/>
          </p:nvPicPr>
          <p:blipFill>
            <a:blip r:embed="rId9"/>
            <a:stretch/>
          </p:blipFill>
          <p:spPr>
            <a:xfrm>
              <a:off x="325908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0" descr=""/>
            <p:cNvPicPr/>
            <p:nvPr/>
          </p:nvPicPr>
          <p:blipFill>
            <a:blip r:embed="rId10"/>
            <a:stretch/>
          </p:blipFill>
          <p:spPr>
            <a:xfrm>
              <a:off x="4564080" y="6093000"/>
              <a:ext cx="331776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1FE252-9EB4-4B60-BF06-18A51B590109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3"/>
          <a:stretch/>
        </p:blipFill>
        <p:spPr>
          <a:xfrm>
            <a:off x="-25560" y="4005360"/>
            <a:ext cx="2125800" cy="25542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"/>
          <p:cNvGrpSpPr/>
          <p:nvPr/>
        </p:nvGrpSpPr>
        <p:grpSpPr>
          <a:xfrm>
            <a:off x="0" y="5778360"/>
            <a:ext cx="9140760" cy="1076400"/>
            <a:chOff x="0" y="5778360"/>
            <a:chExt cx="9140760" cy="1076400"/>
          </a:xfrm>
        </p:grpSpPr>
        <p:pic>
          <p:nvPicPr>
            <p:cNvPr id="188" name="Picture 3" descr=""/>
            <p:cNvPicPr/>
            <p:nvPr/>
          </p:nvPicPr>
          <p:blipFill>
            <a:blip r:embed="rId4"/>
            <a:stretch/>
          </p:blipFill>
          <p:spPr>
            <a:xfrm>
              <a:off x="4824360" y="5778360"/>
              <a:ext cx="431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" descr=""/>
            <p:cNvPicPr/>
            <p:nvPr/>
          </p:nvPicPr>
          <p:blipFill>
            <a:blip r:embed="rId5"/>
            <a:stretch/>
          </p:blipFill>
          <p:spPr>
            <a:xfrm>
              <a:off x="1187280" y="5778360"/>
              <a:ext cx="431676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"/>
            <p:cNvPicPr/>
            <p:nvPr/>
          </p:nvPicPr>
          <p:blipFill>
            <a:blip r:embed="rId6"/>
            <a:stretch/>
          </p:blipFill>
          <p:spPr>
            <a:xfrm>
              <a:off x="0" y="5778360"/>
              <a:ext cx="431640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Picture 6" descr=""/>
          <p:cNvPicPr/>
          <p:nvPr/>
        </p:nvPicPr>
        <p:blipFill>
          <a:blip r:embed="rId7"/>
          <a:stretch/>
        </p:blipFill>
        <p:spPr>
          <a:xfrm>
            <a:off x="6691320" y="3619440"/>
            <a:ext cx="2556000" cy="3057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f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BE2A43-6C90-45ED-9DD6-CB2536B96113}" type="slidenum">
              <a:rPr b="0" lang="ru-RU" sz="1200" spc="-1" strike="noStrike">
                <a:solidFill>
                  <a:srgbClr val="898f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907560"/>
            <a:ext cx="72010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Тестирование как метод повышения профессиональной компетентности педагога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Кузьменко Л.Н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МКОУ Отрадненская СОШ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749952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Профессиональная компетентность педагога – необходимое условие повышения качества педагогического процесса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         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К основным составляющим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рофессиональной компетентности 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относятся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- </a:t>
            </a: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интеллектуально-педагогическая компетентность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коммуникативная компетентность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информационная компетентность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рефлексивная компетентность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16668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Тестирование 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— это метод, который позволяет выявить уровень знаний, умений и навыков, способностей и других качеств личности</a:t>
            </a:r>
            <a:br>
              <a:rPr sz="4000"/>
            </a:b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856800"/>
            <a:ext cx="82263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Тест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— это стандартизированное задание или особым образом связанные между собой задания, которые позволяют исследователю диагностировать меру выраженности исследуемого свойства у испытуемого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213920"/>
            <a:ext cx="82263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Таким образом,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 использование тестов в работе с педагогами способствует повышению профессиональной компетентности педагогов, стимулирует стремление к совершенствованию, приобретению все новых знаний и умений, обогащению деятельности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57200" y="274680"/>
            <a:ext cx="82296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2"/>
          <p:cNvGrpSpPr/>
          <p:nvPr/>
        </p:nvGrpSpPr>
        <p:grpSpPr>
          <a:xfrm>
            <a:off x="1258920" y="1989000"/>
            <a:ext cx="6854760" cy="2926080"/>
            <a:chOff x="1258920" y="1989000"/>
            <a:chExt cx="6854760" cy="2926080"/>
          </a:xfrm>
        </p:grpSpPr>
        <p:pic>
          <p:nvPicPr>
            <p:cNvPr id="247" name="Picture 3" descr=""/>
            <p:cNvPicPr/>
            <p:nvPr/>
          </p:nvPicPr>
          <p:blipFill>
            <a:blip r:embed="rId2"/>
            <a:stretch/>
          </p:blipFill>
          <p:spPr>
            <a:xfrm>
              <a:off x="1258920" y="1989000"/>
              <a:ext cx="6854760" cy="29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4"/>
            <p:cNvSpPr/>
            <p:nvPr/>
          </p:nvSpPr>
          <p:spPr>
            <a:xfrm>
              <a:off x="1258920" y="1989000"/>
              <a:ext cx="685476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9:41:19Z</dcterms:created>
  <dc:creator>10</dc:creator>
  <dc:description/>
  <dc:language>en-US</dc:language>
  <cp:lastModifiedBy>10</cp:lastModifiedBy>
  <dcterms:modified xsi:type="dcterms:W3CDTF">2015-04-29T17:09:36Z</dcterms:modified>
  <cp:revision>12</cp:revision>
  <dc:subject/>
  <dc:title>Слайд 1</dc:title>
</cp:coreProperties>
</file>