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003-4CC6-4F26-9FEF-20796904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8E6-CC83-4AF1-9BCB-3443D566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F84-B34E-41CC-A104-F21A72C1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CB2-B71D-4D59-8344-69FF258F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74E-32F3-4DCA-9070-9A770AA4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4D9-9833-4C2A-AAE7-6895270F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4F0-7102-41DD-ADB7-4C59185F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D08-8D60-4332-89BA-3583EE4C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989-B3F0-4283-8C59-50C97027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795-6244-459E-95B2-D64E1B9E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5BF-DD1B-4CF7-AF4B-6E4F9FA8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E7C-CF0A-43C8-A85B-1BE4771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637E-AE30-4FF7-90DA-A97A799C5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76440" y="36360"/>
            <a:ext cx="7785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1670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7892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жите, что вы умеете и не умеете дел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слова пишутся с большой букв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овите существительные-исключения во множественном чис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22400" y="-36360"/>
            <a:ext cx="8905680" cy="150480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2" descr=""/>
          <p:cNvPicPr/>
          <p:nvPr/>
        </p:nvPicPr>
        <p:blipFill>
          <a:blip r:embed="rId2"/>
          <a:stretch/>
        </p:blipFill>
        <p:spPr>
          <a:xfrm>
            <a:off x="-133200" y="1292400"/>
            <a:ext cx="9386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523800" y="-317520"/>
            <a:ext cx="8266320" cy="183528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" descr=""/>
          <p:cNvPicPr/>
          <p:nvPr/>
        </p:nvPicPr>
        <p:blipFill>
          <a:blip r:embed="rId2"/>
          <a:stretch/>
        </p:blipFill>
        <p:spPr>
          <a:xfrm>
            <a:off x="1292400" y="1285920"/>
            <a:ext cx="67719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82520" y="-109440"/>
            <a:ext cx="8918640" cy="17492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1" descr=""/>
          <p:cNvPicPr/>
          <p:nvPr/>
        </p:nvPicPr>
        <p:blipFill>
          <a:blip r:embed="rId2"/>
          <a:stretch/>
        </p:blipFill>
        <p:spPr>
          <a:xfrm>
            <a:off x="12600" y="2305080"/>
            <a:ext cx="91378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231840" y="328680"/>
            <a:ext cx="9009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16700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2" descr=""/>
          <p:cNvPicPr/>
          <p:nvPr/>
        </p:nvPicPr>
        <p:blipFill>
          <a:blip r:embed="rId2"/>
          <a:stretch/>
        </p:blipFill>
        <p:spPr>
          <a:xfrm>
            <a:off x="189000" y="1432080"/>
            <a:ext cx="85042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2" descr=""/>
          <p:cNvPicPr/>
          <p:nvPr/>
        </p:nvPicPr>
        <p:blipFill>
          <a:blip r:embed="rId1"/>
          <a:stretch/>
        </p:blipFill>
        <p:spPr>
          <a:xfrm>
            <a:off x="-122400" y="152280"/>
            <a:ext cx="9180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63680" y="-244440"/>
            <a:ext cx="8242200" cy="139680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" descr=""/>
          <p:cNvPicPr/>
          <p:nvPr/>
        </p:nvPicPr>
        <p:blipFill>
          <a:blip r:embed="rId2"/>
          <a:stretch/>
        </p:blipFill>
        <p:spPr>
          <a:xfrm>
            <a:off x="-92160" y="871560"/>
            <a:ext cx="89186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79624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-60480" y="60480"/>
            <a:ext cx="9375840" cy="31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0T09:46:31Z</dcterms:created>
  <dc:creator>Ксюша</dc:creator>
  <dc:description/>
  <dc:language>en-US</dc:language>
  <cp:lastModifiedBy>Ксюша</cp:lastModifiedBy>
  <dcterms:modified xsi:type="dcterms:W3CDTF">2015-05-10T10:39:44Z</dcterms:modified>
  <cp:revision>5</cp:revision>
  <dc:subject/>
  <dc:title>Lesson 62</dc:title>
</cp:coreProperties>
</file>