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9FA-37CB-48C2-8291-1048DD30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0D2-8E64-4A8F-A974-03C4EFDB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49D-8F68-4EC1-BA6E-27E818D2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B79-F91A-40B0-9D14-648D53ED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30C-9CCF-443E-906C-F11EFECE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4E0-655F-4621-8025-F77FBC26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82C-53F5-40F0-BD04-004C7A34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8AF-B339-4D80-9A1E-06876990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D76-DD26-476F-8379-D7C93E8A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9D6-41E8-452F-91AC-59A4395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B56-651F-4C81-ABEF-0D62FBE6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872-85C0-4A3A-BE56-EB262DC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6B6C-DE24-407F-9A57-576CE2DE8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76440" y="36360"/>
            <a:ext cx="7785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670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жите, что вы умеете и не умеете дел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слова пишутся с большой букв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овите существительные-исключения во множественном чис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22400" y="-36360"/>
            <a:ext cx="890568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2" descr=""/>
          <p:cNvPicPr/>
          <p:nvPr/>
        </p:nvPicPr>
        <p:blipFill>
          <a:blip r:embed="rId2"/>
          <a:stretch/>
        </p:blipFill>
        <p:spPr>
          <a:xfrm>
            <a:off x="-133200" y="1292400"/>
            <a:ext cx="9386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523800" y="-317520"/>
            <a:ext cx="8266320" cy="18352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2"/>
          <a:stretch/>
        </p:blipFill>
        <p:spPr>
          <a:xfrm>
            <a:off x="1292400" y="1285920"/>
            <a:ext cx="67719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82520" y="-109440"/>
            <a:ext cx="8918640" cy="17492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" descr=""/>
          <p:cNvPicPr/>
          <p:nvPr/>
        </p:nvPicPr>
        <p:blipFill>
          <a:blip r:embed="rId2"/>
          <a:stretch/>
        </p:blipFill>
        <p:spPr>
          <a:xfrm>
            <a:off x="12600" y="2305080"/>
            <a:ext cx="91378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231840" y="328680"/>
            <a:ext cx="9009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6700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2" descr=""/>
          <p:cNvPicPr/>
          <p:nvPr/>
        </p:nvPicPr>
        <p:blipFill>
          <a:blip r:embed="rId2"/>
          <a:stretch/>
        </p:blipFill>
        <p:spPr>
          <a:xfrm>
            <a:off x="189000" y="1432080"/>
            <a:ext cx="85042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2" descr=""/>
          <p:cNvPicPr/>
          <p:nvPr/>
        </p:nvPicPr>
        <p:blipFill>
          <a:blip r:embed="rId1"/>
          <a:stretch/>
        </p:blipFill>
        <p:spPr>
          <a:xfrm>
            <a:off x="-122400" y="152280"/>
            <a:ext cx="9180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63680" y="-244440"/>
            <a:ext cx="8242200" cy="13968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-92160" y="871560"/>
            <a:ext cx="8918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79624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-60480" y="60480"/>
            <a:ext cx="9375840" cy="31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0T09:46:31Z</dcterms:created>
  <dc:creator>Ксюша</dc:creator>
  <dc:description/>
  <dc:language>en-US</dc:language>
  <cp:lastModifiedBy>Ксюша</cp:lastModifiedBy>
  <dcterms:modified xsi:type="dcterms:W3CDTF">2015-05-10T10:39:44Z</dcterms:modified>
  <cp:revision>5</cp:revision>
  <dc:subject/>
  <dc:title>Lesson 62</dc:title>
</cp:coreProperties>
</file>