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778-D596-42A2-A1D7-F73CBA0B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D2F-3745-42A4-8DE1-CF44639F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759-1944-4056-8643-5AF38DC8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4FA-4A82-4CFC-AF60-548EB463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EE1-E8BD-4F0F-BE35-BE9C511C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B62-5DC3-4430-BA0F-8EB6E30D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44C-0008-49B1-BC6A-375E1281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BED-E968-4B0D-9F18-5D9EB8A2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65C-4D2F-42A6-B771-ED894F56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EE6-F422-4F2C-9B87-2FCCCC2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F10-BE2A-41AF-9F67-9BC44F7B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FE4-312A-424C-A178-1FF5F15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3974-8C70-4C57-8DCC-F4A5A9FE94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4149720"/>
            <a:ext cx="6912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Команда МБОУ СОШ п.Солидарность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«Наследники Слав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1311120" y="506520"/>
            <a:ext cx="74487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зультаты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19280" y="1197000"/>
            <a:ext cx="39243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ничтожение крупнейшей группировки немецких войск, захват столицы Германии, пленение высшего военного и политического руководства Герман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ение Берлина привело к деморализации немецких войск и сломило их волю к сопротивлению. Обладая все еще немалыми боевыми возможностями, вермахт капитулировал в течение ближайшей недели после того, как сложил оружие берлинский гарнизо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еря руководством Германии способности к управлению привели к практически полному прекращению организованного сопротивления со стороны германских войск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очь на 9 мая в берлинском предместье Карлхорсте был подписан Акт о капитуляции германских вооруженных си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 мая было объявлено в Советском Союзе Днем всенародного торжества - Праздником Побе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4" descr="http://ekabu2.unistoreserve.ru/532c62ade8d7b60d4229f480"/>
          <p:cNvPicPr/>
          <p:nvPr/>
        </p:nvPicPr>
        <p:blipFill>
          <a:blip r:embed="rId1"/>
          <a:stretch/>
        </p:blipFill>
        <p:spPr>
          <a:xfrm>
            <a:off x="1258920" y="1413000"/>
            <a:ext cx="4033800" cy="3600360"/>
          </a:xfrm>
          <a:prstGeom prst="rect">
            <a:avLst/>
          </a:prstGeom>
          <a:ln w="0">
            <a:noFill/>
          </a:ln>
        </p:spPr>
      </p:pic>
      <p:grpSp>
        <p:nvGrpSpPr>
          <p:cNvPr id="67" name="Прямоугольник 5"/>
          <p:cNvGrpSpPr/>
          <p:nvPr/>
        </p:nvGrpSpPr>
        <p:grpSpPr>
          <a:xfrm>
            <a:off x="4340160" y="4705200"/>
            <a:ext cx="970200" cy="324000"/>
            <a:chOff x="4340160" y="4705200"/>
            <a:chExt cx="970200" cy="324000"/>
          </a:xfrm>
        </p:grpSpPr>
        <p:pic>
          <p:nvPicPr>
            <p:cNvPr id="68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340160" y="4705200"/>
              <a:ext cx="970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356000" y="4724280"/>
              <a:ext cx="9367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Как мы работал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F:\МАКЕТ ФОТО\Photo0306.jpg"/>
          <p:cNvPicPr/>
          <p:nvPr/>
        </p:nvPicPr>
        <p:blipFill>
          <a:blip r:embed="rId1"/>
          <a:stretch/>
        </p:blipFill>
        <p:spPr>
          <a:xfrm>
            <a:off x="1187280" y="3429000"/>
            <a:ext cx="3816360" cy="342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2" name="Picture 3" descr="F:\фото макет\IMG_2372.JPG"/>
          <p:cNvPicPr/>
          <p:nvPr/>
        </p:nvPicPr>
        <p:blipFill>
          <a:blip r:embed="rId2"/>
          <a:stretch/>
        </p:blipFill>
        <p:spPr>
          <a:xfrm>
            <a:off x="4859280" y="1052640"/>
            <a:ext cx="4284720" cy="2860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фото макет\IMG_2369.JPG"/>
          <p:cNvPicPr/>
          <p:nvPr/>
        </p:nvPicPr>
        <p:blipFill>
          <a:blip r:embed="rId1"/>
          <a:stretch/>
        </p:blipFill>
        <p:spPr>
          <a:xfrm>
            <a:off x="4422600" y="3573360"/>
            <a:ext cx="4613400" cy="315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F:\фото макет\IMG_2410.JPG"/>
          <p:cNvPicPr/>
          <p:nvPr/>
        </p:nvPicPr>
        <p:blipFill>
          <a:blip r:embed="rId2"/>
          <a:stretch/>
        </p:blipFill>
        <p:spPr>
          <a:xfrm>
            <a:off x="1332000" y="189000"/>
            <a:ext cx="48956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F:\фото макет\IMG_2392.JPG"/>
          <p:cNvPicPr/>
          <p:nvPr/>
        </p:nvPicPr>
        <p:blipFill>
          <a:blip r:embed="rId1"/>
          <a:stretch/>
        </p:blipFill>
        <p:spPr>
          <a:xfrm>
            <a:off x="1258920" y="3429000"/>
            <a:ext cx="4681440" cy="329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F:\фото макет\IMG_2363.JPG"/>
          <p:cNvPicPr/>
          <p:nvPr/>
        </p:nvPicPr>
        <p:blipFill>
          <a:blip r:embed="rId2"/>
          <a:stretch/>
        </p:blipFill>
        <p:spPr>
          <a:xfrm>
            <a:off x="4067280" y="189000"/>
            <a:ext cx="48243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74278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Прямоугольник 2" descr=""/>
          <p:cNvPicPr/>
          <p:nvPr/>
        </p:nvPicPr>
        <p:blipFill>
          <a:blip r:embed="rId1"/>
          <a:stretch/>
        </p:blipFill>
        <p:spPr>
          <a:xfrm>
            <a:off x="1047600" y="2152800"/>
            <a:ext cx="79678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презент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87280" y="83664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ть беспримерный подвиг советских солдат в последней битве 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у учащихся чувства патриотизма, любви к Родине, уважение к её историческому прошл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чувства гордости за свой героический народ, за своих земля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F:\фото макет\IMG_2389.JPG"/>
          <p:cNvPicPr/>
          <p:nvPr/>
        </p:nvPicPr>
        <p:blipFill>
          <a:blip r:embed="rId1"/>
          <a:stretch/>
        </p:blipFill>
        <p:spPr>
          <a:xfrm>
            <a:off x="2448000" y="3429000"/>
            <a:ext cx="4895640" cy="326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рлинская опер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Содержимое 3" descr="305ca55e6723f4b74a3f1fd015a874f4_full.jpg"/>
          <p:cNvPicPr/>
          <p:nvPr/>
        </p:nvPicPr>
        <p:blipFill>
          <a:blip r:embed="rId1"/>
          <a:stretch/>
        </p:blipFill>
        <p:spPr>
          <a:xfrm>
            <a:off x="1403280" y="1341360"/>
            <a:ext cx="3600360" cy="4608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5003640" y="1557360"/>
            <a:ext cx="3711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рлинская стратегическая наступательная опер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 одна из последних стратегических операций советских войск на Европейском театре военных действий, в ходе которой Красная Армия заняла столицу Германии и победоносно завершила Великую Отечественную войну и Вторую мировую войну в Европе. Операция продолжалась 23 дня — с 16 апреля по 8 мая 1945 г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24000" y="1267920"/>
            <a:ext cx="4762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 апреля войска 1- го Белорусского и 1-го Украинского фронтов перешли в наступление. Чтобы ускорить продвижение войск, командование 1-м Белорусским фронтом в первый же день ввело в сражение танковые и механизированные корпуса. Советским войскам пришлось последовательно прорывать несколько полос обороны. На основных участках у Зееловских высот, прикрывавших Берлин, прорвать оборону удалось 17 апреля. Войска 1-го Украинского фронта форсировали реку Нейсе и в первый день наступления прорвали главную полосу обороны против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karta.bmp"/>
          <p:cNvPicPr/>
          <p:nvPr/>
        </p:nvPicPr>
        <p:blipFill>
          <a:blip r:embed="rId1"/>
          <a:stretch/>
        </p:blipFill>
        <p:spPr>
          <a:xfrm>
            <a:off x="1332000" y="1197000"/>
            <a:ext cx="2663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040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И вскоре по улицам танки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гудящей волной поползли.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По длинным людским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коридорам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Шли танки советской 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страны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Берлинской операц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участвовал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советские тан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Т – 34, КВ - 1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F:\фото макет\IMG_2373.JPG"/>
          <p:cNvPicPr/>
          <p:nvPr/>
        </p:nvPicPr>
        <p:blipFill>
          <a:blip r:embed="rId1"/>
          <a:stretch/>
        </p:blipFill>
        <p:spPr>
          <a:xfrm>
            <a:off x="4284720" y="3357720"/>
            <a:ext cx="478800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http://pusk.by/pictures/bse/jpg/0272015193.jpg"/>
          <p:cNvPicPr/>
          <p:nvPr/>
        </p:nvPicPr>
        <p:blipFill>
          <a:blip r:embed="rId2"/>
          <a:stretch/>
        </p:blipFill>
        <p:spPr>
          <a:xfrm>
            <a:off x="4284720" y="115920"/>
            <a:ext cx="4751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51280" y="620640"/>
            <a:ext cx="518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имал участие в боях н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краинском фронте в 4-ой танковой дивизии под командованием генерала Лелюшенко и наш земляк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иняев Фёдор Михайлович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31.12. 1921 г. С ноября 1940 г. проходил службу в рядах РККА. В ВОВ участвовал: с 26 июля по 31 декабря 1943 г. в составе Брянского фронта, с 22 февраля 1944 г. - в состав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краинского фронта. Гвардии рядовой. Старший разведчик 62-го Гвардейского отдельного истребительно-противотанкового арт. дивизиона 10-го Гвардейского танкового Уральского добровольческого корпу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 тяжело контужен. Освобождал Украину, Белоруссию, Румынию, Прагу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турмовал Берлин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граждён медалями и орденами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"Орден Славы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степени", 2 медали "За отвагу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"Орден Отечественной войны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даль "За взятие Берлина", "За освобождение Праги"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1963 г. работал в Архангельской школе, с 1980 г. - в школе п. Солидарность. Много лет возглавлял кружок технического творчества, который пользовался у ребят большой популярность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шёл из жизни в 2004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05"/>
          <p:cNvPicPr/>
          <p:nvPr/>
        </p:nvPicPr>
        <p:blipFill>
          <a:blip r:embed="rId1"/>
          <a:stretch/>
        </p:blipFill>
        <p:spPr>
          <a:xfrm>
            <a:off x="1258920" y="765000"/>
            <a:ext cx="2808360" cy="4535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403236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турм Берлин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25 апреля-2 мая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ершающая часть Берлинской наступательной операции 1945 год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 апреля дальнобойная артиллерия Красной Армии открыла огонь по Берлину. В 12 часов дня 25 апреля замкнулось кольцо вокруг Берлина. По оценке советского командования, гарнизон Берлина насчитывал не менее 200 тысяч человек, 3 тысячи орудий и 250 танков. К 26 апреля в штурме Берлина принимали участие шесть армий 1-го Белорусского фронта и три армии 1-го Украинского фронта. Бои в городе не прекращались ни днем, ни ночью. 29 апреля начались бои за рейхстаг. Ранним утром 1 мая над рейхстагом был поднят штурмовой флаг 150-й стрелковой дивизии, однако только в ночь на 2 мая гарнизон рейхстага капитулирова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3" descr="http://creativpodiya.com/wp-content/uploads/1335754827_znamya-pobedi-nad-reihstagom-1280x1024.jpg"/>
          <p:cNvPicPr/>
          <p:nvPr/>
        </p:nvPicPr>
        <p:blipFill>
          <a:blip r:embed="rId1"/>
          <a:stretch/>
        </p:blipFill>
        <p:spPr>
          <a:xfrm>
            <a:off x="1258920" y="692280"/>
            <a:ext cx="3673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1280" y="1773000"/>
            <a:ext cx="482436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ш земля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лин Николай Михайлович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лужил штурманом эскадриль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34-го гвардейского бомбардировочного авиационного полка (в составе 276 бомбардировочной авиационной дивизи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й воздушной армии, 3-го Белорусского фронта) в звании старшего лейтенан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лся 31.12.1921 г. В 1939 пошел служить в армию, в 1941 г. окончил Харьковское военное авиационное училище. На фронт попал в октябре 1941. По состоянию на март 1945 г. совершил 175 боевых вылетов на разведку и бомбардировку войск противни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одном из вылетов получил ранение, но смог посадить самолёт на своём аэродром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вание Героя Советского Союза присвое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29 июня 194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ойны продолжил службу в ВВС, в 1955 в звании майора был уволен в запа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л и работал в городе Елец Липецкой обл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шёл из жизни 9 июня 1977 г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&amp;Rcy;&amp;ocy;&amp;lcy;&amp;icy;&amp;ncy; &amp;Ncy;&amp;icy;&amp;kcy;&amp;ocy;&amp;lcy;&amp;acy;&amp;jcy; &amp;Mcy;&amp;icy;&amp;khcy;&amp;acy;&amp;jcy;&amp;lcy;&amp;ocy;&amp;vcy;&amp;icy;&amp;chcy; - &amp;Bcy;&amp;icy;&amp;ocy;&amp;gcy;&amp;rcy;&amp;acy;&amp;fcy;&amp;icy;&amp;yacy;"/>
          <p:cNvPicPr/>
          <p:nvPr/>
        </p:nvPicPr>
        <p:blipFill>
          <a:blip r:embed="rId1"/>
          <a:stretch/>
        </p:blipFill>
        <p:spPr>
          <a:xfrm>
            <a:off x="1258920" y="1125360"/>
            <a:ext cx="28814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77058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Нелёгкий путь на долю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выпал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Нам на дороге фронтовой.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В смертельный бой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с врагом вступали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Мы между небом и землёй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Берлинской операц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принимали участ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советские самолёт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ЯК – 3, ПЕ - 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Рисунок 3" descr="http://www.rgsu.net/netcat_files/userfiles/53/Press-sluzhba/8042014/Krim/5_b.jpg"/>
          <p:cNvPicPr/>
          <p:nvPr/>
        </p:nvPicPr>
        <p:blipFill>
          <a:blip r:embed="rId1"/>
          <a:stretch/>
        </p:blipFill>
        <p:spPr>
          <a:xfrm>
            <a:off x="4284720" y="115920"/>
            <a:ext cx="4680000" cy="338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F:\фото макет\IMG_2378.JPG"/>
          <p:cNvPicPr/>
          <p:nvPr/>
        </p:nvPicPr>
        <p:blipFill>
          <a:blip r:embed="rId2"/>
          <a:stretch/>
        </p:blipFill>
        <p:spPr>
          <a:xfrm>
            <a:off x="4284720" y="3573360"/>
            <a:ext cx="47149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Customer</cp:lastModifiedBy>
  <dcterms:modified xsi:type="dcterms:W3CDTF">2015-04-26T18:46:38Z</dcterms:modified>
  <cp:revision>76</cp:revision>
  <dc:subject/>
  <dc:title>Слайд 1</dc:title>
</cp:coreProperties>
</file>