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9DF9-F423-4B51-A8AF-C7FEC2BC0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AD13-A2B3-4CDF-B3A1-6AD45197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B2A9-7506-450E-9DEE-793CD4153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DF9A-877E-4245-ABAA-082698928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2286-6550-43A4-B6AB-BC22FDE8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D0B2-22B3-4B7F-AABE-E035F421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046E-A307-4215-8E8F-48018324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E958-BBC7-434A-B7B1-7A5CB8E6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3F57-FF9B-4D3F-88DA-BD71E918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94E5-70BF-4084-95C2-E46A95E9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D52D-FF34-454D-B0C6-33ADDDF9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026D-F458-4288-B695-E78AF7FD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09F6-12D6-4DEE-84FC-759E3F9AB2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68580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0" y="129528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57200"/>
            <a:ext cx="91440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 Р А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У Н С К И 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Н Т Е Л Е Е 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 У К О В С К И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 А Х О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Е 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У С Т О В С К И 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 Е К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А С О 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ркадий Петрович Гайда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(Голиков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Родился 22 января 1904 г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2211480" cy="3124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514600" y="228600"/>
            <a:ext cx="1919160" cy="3048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48320" y="228600"/>
            <a:ext cx="2228760" cy="2971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086600" y="304920"/>
            <a:ext cx="1905120" cy="2943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152280" y="3505320"/>
            <a:ext cx="227988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2438280" y="3505320"/>
            <a:ext cx="2452680" cy="3200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7"/>
          <a:stretch/>
        </p:blipFill>
        <p:spPr>
          <a:xfrm>
            <a:off x="4952880" y="3657600"/>
            <a:ext cx="1905120" cy="3038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8"/>
          <a:stretch/>
        </p:blipFill>
        <p:spPr>
          <a:xfrm>
            <a:off x="6934320" y="3733920"/>
            <a:ext cx="20509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Телеграмм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75248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-это срочное сообщение, предаваемое по телеграфу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Телеграф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81080"/>
            <a:ext cx="8229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- это система связи для быстрой  передачи на расстоянии и приема сообщений при помощи электрических сигналов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52280" y="762120"/>
          <a:ext cx="8839080" cy="5308560"/>
        </p:xfrm>
        <a:graphic>
          <a:graphicData uri="http://schemas.openxmlformats.org/drawingml/2006/table">
            <a:tbl>
              <a:tblPr/>
              <a:tblGrid>
                <a:gridCol w="4419720"/>
                <a:gridCol w="4419360"/>
              </a:tblGrid>
              <a:tr h="13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ук 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к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Любит мастер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ожет схитр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Умеет петь песн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Любит порядо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Честный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Запасливы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4724280" y="220968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Рази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1T12:31:57Z</dcterms:created>
  <dc:creator>Администратор</dc:creator>
  <dc:description/>
  <dc:language>en-US</dc:language>
  <cp:lastModifiedBy>AutoBVT</cp:lastModifiedBy>
  <dcterms:modified xsi:type="dcterms:W3CDTF">2014-04-21T16:24:5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