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113-432F-402C-9E6B-0CF8143C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4D4-577B-42AC-8729-CFAF109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259-70EC-4D76-A30C-34EBFB1D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AD1-304E-48B1-B02A-165767F2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0AE-194C-45F8-BEA0-3759EDD1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0A9-D063-4F82-BAA7-1F52E6D8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6EE-0191-45D4-A20E-DCE84661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E41-55B6-489C-977E-07C91AF7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66A-2BC9-47D6-9D09-B79D61F4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A11-5C8E-4159-A7A6-0DBD024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F0B-C11E-49CC-A486-DFA5A58D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1CE-31A1-4C5D-8ADE-BBA3157F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AC60-315E-41BB-9534-C15D7A0B0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685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29528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 Р А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У Н С К И 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Н Т Е Л Е Е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 У К О В С К И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 А Х О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Е 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У С Т О В С К И 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 Е К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А С О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ркадий Петрович Гайд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(Голик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одился 22 января 1904 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21148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191916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8320" y="22860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086600" y="304920"/>
            <a:ext cx="1905120" cy="29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52280" y="3505320"/>
            <a:ext cx="227988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438280" y="3505320"/>
            <a:ext cx="245268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952880" y="3657600"/>
            <a:ext cx="1905120" cy="3038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934320" y="3733920"/>
            <a:ext cx="205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Телеграмм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7524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это срочное сообщение, предаваемое по телеграф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Телегра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8108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- это система связи для быстрой  передачи на расстоянии и приема сообщений при помощи электрических сигнал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2280" y="762120"/>
          <a:ext cx="8839080" cy="5308560"/>
        </p:xfrm>
        <a:graphic>
          <a:graphicData uri="http://schemas.openxmlformats.org/drawingml/2006/table">
            <a:tbl>
              <a:tblPr/>
              <a:tblGrid>
                <a:gridCol w="4419720"/>
                <a:gridCol w="441936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к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к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юбит мастер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ожет схитр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ет петь песн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юбит поряд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естны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пасли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724280" y="22096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зи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12:31:57Z</dcterms:created>
  <dc:creator>Администратор</dc:creator>
  <dc:description/>
  <dc:language>en-US</dc:language>
  <cp:lastModifiedBy>AutoBVT</cp:lastModifiedBy>
  <dcterms:modified xsi:type="dcterms:W3CDTF">2014-04-21T16:24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