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EA5-2748-49A4-AFBB-9DFED0A60C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ить работу ребёнка отсканирован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92DF-2275-494F-88C6-73B8B6EC7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1BF-125C-4689-9FC9-FBD6D30A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53F-983A-4A80-A6A0-C1B0F38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3E2-04AB-42E0-A320-BA900AE6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F8F-6839-47CB-A96C-A87A59C4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05C-B296-4768-9AC1-C696AE67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0F00-58AB-438C-8614-6610CB26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A9D6-15D1-4E83-B7DB-75DD3F8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5C9C-E178-459A-92B3-A940450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8FEC-86D5-4E13-921B-F8E6973D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34B7-D9D1-4979-BFCD-885E64C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19BA-2ECC-4FF6-873C-9D82E2C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DF6-D5ED-49E3-A0BB-E0008C4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CFEB-87E8-46CE-876D-EC148D8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7415-84B8-4ABC-A1DE-21C92B5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914E-4ACC-4152-A5B4-052CC6E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B8B-7D35-4EFB-BA40-5F7A57BC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8062-5B8E-420F-AA93-71AF457E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D845-6768-4C12-9745-973391D0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F73D-0670-4B9F-87F7-F8459854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8C99-7825-4136-B7C8-72D7307D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4440-85C9-4EC3-8BCA-60DCA0E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F694-98CB-44A3-8563-87793603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0B5-E205-4483-882A-E65F875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F672-84FD-42F1-8BAB-D0368852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ED08-2ED3-4B11-A69D-1AEDDA36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648F-3B59-45DA-A549-08E924F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D7A3-07A9-4456-B703-632C02F7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FFCF-F51F-47FF-AFEF-AF4777F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BCCE-0B42-44C3-BEEA-CF69162B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C31A-C4E0-4542-BC86-C992DFEC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2FE9-17FC-4C95-9E2B-98B0505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7EE5-FC4D-406E-9FED-C6011861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673E8-4A18-4A0F-8EDC-C8E7D20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4D7-FA43-47B7-8C94-CE07087F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F14C-D5C1-4877-BE11-99058BF0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AB45-88D8-4EBE-A128-34166E49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B902-1F03-4CBC-A7ED-9493D9CF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D504-0529-4A7D-8C56-B49FBC2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FDF0-CC21-40C6-A979-E4B1773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6B7E-6594-4D59-9469-BB2411B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ECE8-5CED-4006-97A9-2B6B5D07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DE4E-3359-4347-AAEE-28368E63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55BE-E8AD-4AD8-8A72-8251F787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A26-A2A1-4742-B2D2-49FCB6C5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C2A-A3DA-444D-A133-32B01854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811-8EE6-488A-9F95-5070F414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5DD-08D7-4B43-8EA8-222769D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318-606C-4A43-985C-CF387CA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074-9C61-4801-88F1-92BC48634FE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BC1-68B4-4169-8C1A-2E592574F55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96C3-8CD1-498E-83E8-755B38FEB03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7408-91F7-42C3-9055-BEA1AF7CC9C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963720"/>
            <a:ext cx="5533920" cy="38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3924360" y="508464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ю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-логопед школы-интернат №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ляева Ольг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Trebuchet MS"/>
              </a:rPr>
              <a:t>Ошибки, наиболее часто встречающиеся на письм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недописывание элементов букв (связано с недоучетом их количества): Л вместо М; Х вместо Ж и т.д.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добавление лишних элементов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пропуски элементов, особенно при соединении букв, включающих одинаковый элемент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еркальное написание букв. 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rebuchet MS"/>
              </a:rPr>
              <a:t>Упражнения на устранение недостатков письменной речи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0" y="112536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Arial"/>
              </a:rPr>
              <a:t>Упражнение "Пишем вслух"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Чрезвычайно важный и ничем не заменимый прием: всё, что пишется, проговаривается пишущим вслух в момент написания и так, как оно пишется, с подчеркиванием, выделением слабых до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имер проще: "НА стОле стОЯл куВшин С мОлОком" (на стале стаял куфшин с малаком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Упражнение"Вглядись и разберись"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24000" y="2133360"/>
            <a:ext cx="7354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Пунктуация для дисграфиков и не только)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териал для работы - сборники диктантов (с уже поставленными запятыми, и проверьте, чтобы не было опечаток)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дание: внимательно вчитываясь, "фотографируя" текст, объяснить постановку каждого знака препинания вслух. Лучше (для среднего и старшего возраста), если объяснение будет звучать так: "Запятая между прилагательным "ясным" и союзом "и", во-первых, закрывает деепричастный оборот "...", а во-вторых, разделяет две части сложносочиненного предложения (грамматические основы: первая "...", вторая "..."), соединенные союзом "и"". </a:t>
            </a:r>
            <a:br>
              <a:rPr sz="500"/>
            </a:br>
            <a:br>
              <a:rPr sz="5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"Пропущенные буквы"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полняя это упражнение, предлагается пользоваться текстом-подсказкой, где все пропущенные буквы на своих местах. Упражнение развивает внимание и уверенность навыка письма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пример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__неч__о, н__ м__гл__ бы__ь и __е__и о т__м, ч__о__ы Лариосик __к__зал__я п__ед__те__е__. М__ши__ным ма__ло__ и к__ро__и__ом на__лу__ш__м об__аз__м б__ли с__аза__ы и най-турсов кольт и Ал__шин брау__ин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Упражнение «Лабиринты»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Лабиринты хорошо развивают крупную моторику (движения руки и предплечья), внимание, безотрывную линию. Следите, чтобы ребенок изменял положение руки, а не листа бумаги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айти разнообразные лабиринты можн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3657600"/>
            <a:ext cx="4876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0" y="2708280"/>
            <a:ext cx="5249880" cy="2925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6"/>
          <p:cNvSpPr/>
          <p:nvPr/>
        </p:nvSpPr>
        <p:spPr>
          <a:xfrm>
            <a:off x="979200" y="22050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гадайся, кто что лю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0" y="852480"/>
            <a:ext cx="4572000" cy="6010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24000" y="324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Перенеси фигурки на новые места. Нарисуй их в пустых кружо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4"/>
          <a:stretch/>
        </p:blipFill>
        <p:spPr>
          <a:xfrm>
            <a:off x="4060800" y="2421000"/>
            <a:ext cx="5083200" cy="42289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1"/>
          <p:cNvSpPr/>
          <p:nvPr/>
        </p:nvSpPr>
        <p:spPr>
          <a:xfrm>
            <a:off x="5179680" y="1989000"/>
            <a:ext cx="40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Какой дорогой ёжики дойдут до с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Чего нельзя делать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700"/>
            </a:b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НЕ ПРЕДЛАГАЙТЕ ДЕТЯМ ИСПРАВЛЯТЬ ОШИБКИ, НАУЧИТЕ ИХ НЕ ДЕЛАТЬ ОШИБОК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. Суть исправления дисграфии в том, чтобы искоренить саму мысль о том, что при письме можно эти самые ошибки допускать. Текст с ошибками лишний раз показывает ребенку, что ошибки возможны, даже, пожалуй, полезны в чем-то. Давайте забудем об этом... </a:t>
            </a:r>
            <a:br>
              <a:rPr sz="2400"/>
            </a:b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СПАСИБО ЗА ВНИМАНИЕ!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5"/>
          <p:cNvSpPr/>
          <p:nvPr/>
        </p:nvSpPr>
        <p:spPr>
          <a:xfrm flipV="1" rot="10800000">
            <a:off x="684000" y="1228680"/>
            <a:ext cx="75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Дисграфия — это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специфическ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  <a:ea typeface="Arial"/>
              </a:rPr>
              <a:t>расстройство письменной речи, проявляющееся в многочисленных типичных ошибках стойкого характера и обусловленное несформированностью высших психических функций, участвующих в процессе овладения навыками пись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250920" y="5445000"/>
            <a:ext cx="86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Специфические ошибки(т.е. не связанные с применением орфографических прави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1. Артикуляторно-акустическая форма дисграфии</a:t>
            </a:r>
            <a:r>
              <a:rPr b="1" i="1" lang="ru-RU" sz="4400" spc="-1" strike="noStrike">
                <a:solidFill>
                  <a:srgbClr val="008000"/>
                </a:solidFill>
                <a:latin typeface="Trebuchet MS"/>
              </a:rPr>
              <a:t>.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8520" y="2276640"/>
            <a:ext cx="903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Замена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Р-Л,      Т-Д          С-Ш,         П-Б         Ж-З      К-Г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Р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к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тол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ш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тол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ж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з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к    ковё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р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– ковё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ла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ш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ла       к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ж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 - к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з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а ка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 – ка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ш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ка     д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ж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дь – до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з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д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щ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но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нок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радь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е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ра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ц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плёно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плёнок        рукави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ц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 - рукави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            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 –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 (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, 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б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у</a:t>
            </a:r>
            <a:r>
              <a:rPr b="1" lang="ru-RU" sz="26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2600" spc="-1" strike="noStrike">
                <a:solidFill>
                  <a:srgbClr val="0000ff"/>
                </a:solidFill>
                <a:latin typeface="Trebuchet MS"/>
              </a:rPr>
              <a:t>лик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611280" y="30960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ой возникновения этого вида нарушений является неправильное произношение. Ребенок пишет слова так, как их произнос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07160" cy="95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2. Акустическая форма дисграф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20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</a:t>
            </a: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Смешиваются букв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обозначающие звонкие - глухие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    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(Б-П; В-Ф; Д-Т; Ж-Ш и т.д.)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свистящие - шипящие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(С-Ш; З-Ж и т.д.)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аффрикаты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и компоненты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    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(Ч-Щ; Ч-ТЬ; Ц-Т; Ц-С и т.д.)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rebuchet MS"/>
              </a:rPr>
              <a:t>Неправильное обозначение мягкости согласных: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"писмо", "лубит", "больит«…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43360" indent="-243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1619280" y="296712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чиной возникновения этого вида является нарушение дифференциации, распознавания близких звуков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250920" y="549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ар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вонкие – глухие согласны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 — С - «кослик», «вазилёк», «звою сум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 — П - «бодарил», «пельё», «балатка», «польш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Ж — Ш - «шдёт», «кружился снешок», «жишки», «ложад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Г — К — «долко», «собага», «груглый», «укол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— Ф — «портвель», «ворточка», «картовель», «ковта»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 - Т — «тавно», «деди», «дрещат», «втрук», «ситит», «итут дом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50920" y="3645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фрикаты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 — Щ — «стущал», «роча», «хичный», «щаст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 - Ц - «сквореч», «граци», «чапля», «цяст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 — Т — «черчит», «утитель», «Жуть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Ц – Т - девотька». «пцицы», «цвецет», «Пеця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Ц-С - «рельцы», «куриса», «улиса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56108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rebuchet MS"/>
              </a:rPr>
              <a:t>3. Дисграфия на почве нарушения языкового анализа и синтеза.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Это наиболее часто встречающаяся форма дисграфии у детей, страдающих нарушениями письменной речи. Для нее наиболее характерны следующие ошибки: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пропуски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букв и слогов;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перестановка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букв и (или) слогов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не дописывание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слов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написание лишних букв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в слове (бывает, когда ребенок, проговаривая при письме, очень долго "поет звук"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·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повторение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букв и (или) слогов;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.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контоминация</a:t>
            </a:r>
            <a:r>
              <a:rPr b="0" lang="ru-RU" sz="2500" spc="-1" strike="noStrike">
                <a:solidFill>
                  <a:srgbClr val="404040"/>
                </a:solidFill>
                <a:latin typeface="Trebuchet MS"/>
              </a:rPr>
              <a:t> - в одном слове слоги разных слов;                       </a:t>
            </a: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·  слитное написание предлогов, раздельное написание приставок ("настоле", "на ступила").</a:t>
            </a:r>
            <a:br>
              <a:rPr sz="1100"/>
            </a:b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1258920" y="2060640"/>
            <a:ext cx="631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ее возникновения — затруднения при делении предложений на 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слов на слоги, зв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50920" y="656640"/>
            <a:ext cx="878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ски гласных букв; всят-висят, урожй-урожа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ски согласных букв: комата-комната, вей-вс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уски слогов и частей слова: стрки-стрел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а гласных: пище-пищу, сесен-сосен, люгкий-легк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а согласных: тва-два, роча-роща, урошай-урожай, боказываед-показыва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тановки букв и слогов: онко-ок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писывание букв и слогов: на ветка-на ветках, диктан-диктан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ащивание слов лишними буквами и слогами: снег-сенег, диктанат-диктан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ажение слова: мальни-маленький, чайщик-ча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тное написание слов и их произвольное деление: бойчасов-бой часов, в ся-в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умение определить границы предложения в тексте, слитное написание предложений: Снег покрыл всю землю. Белым ковром. Замерзла Речка птицам голодно. — Снег покрыл всю землю белым ковром. Замерзла речка. Птицам гол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шение смягчения согласных: болшой-большой, умчалис-умчались, мач-мя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4. Аграмматическая дисграфия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Причина недоразвит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грамматического строя реч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Это выражается в неправильном написании окончаний слов, в неумении согласовать слова между соб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-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бенок пишет аграмматично, т.е. как бы вопреки правилам грамматики ("красивый сумка", "веселые день"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-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Аграмматизмы на письме отмечаются на уровне слова, словосочетания, предложения и текста.            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Trebuchet MS"/>
              </a:rPr>
              <a:t>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Trebuchet MS"/>
              </a:rPr>
              <a:t>    </a:t>
            </a:r>
            <a:br>
              <a:rPr sz="1700"/>
            </a:b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rebuchet MS"/>
              </a:rPr>
              <a:t>5. Оптическая дисграфия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се буквы русского алфавита состоят из набора одних и тех же элементов ("палочки", "овалы") и нескольких "специфичных" элементов. Одинаковые элементы по-разному комбинируясь в пространстве, и образуют различные буквенные знаки: и, ш, ц, щ; б, в, д, у..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Если ребенок не улавливает тонких различий между буквами, то это непременно приведет к трудностям усвоения начертания букв и к неправильному изображению их на письм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684360" y="5516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является в заменах и искажениях на письме графически сходных рукописных букв (и-ш, п-т, т-ш, в-д, б-д, л-м, э-с и 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477720" y="760320"/>
            <a:ext cx="842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ичина возникновения — несформированность зрительно-пространственных функций и зрительного анализа и синтеза.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chka</cp:lastModifiedBy>
  <dcterms:modified xsi:type="dcterms:W3CDTF">2013-10-24T13:16:14Z</dcterms:modified>
  <cp:revision>58</cp:revision>
  <dc:subject/>
  <dc:title>1. Артикуляторно-акустическая форма дисграфии. </dc:title>
</cp:coreProperties>
</file>