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318-FECE-47F1-8DD8-2637FB682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ить работу ребёнка отсканирован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7039-7CED-4109-917F-E35D09BE39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4B8-E506-4647-BDE6-4C0FEDC2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0F1-0CA9-470A-BD4C-9F4A908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E16-C9D2-404D-8F9A-FEE06AA9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81F-83EC-40F2-8CA5-CBA1A127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E18C-29D2-4141-8CCD-EC875CA8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F67-5908-483F-949E-E663581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42C3-E768-4134-869E-DF9A22D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E79A-21DD-4981-A776-5DFDF0C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3423-F838-4885-9E4E-7FAE410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9689-F36C-4BCA-A20F-8A1292CC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3232-852B-4081-9FC7-A6CAB17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D94-5CAA-4547-B4A1-8C8BF2D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E72-1122-457F-802D-6F3747C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8FA-2B68-4E17-B56D-E300C53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1C51-FE9A-4EFB-9D8D-9221CF3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BEA-0D2A-47A7-927A-0506EB5E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CC5-9DC6-4C56-881E-FF8A16DA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BE2D-B89F-4EB9-A3A3-8CE2B5F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89FC-B801-4264-8F8F-2D55C85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4D2A-4352-42C6-96EB-313B73B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8DDA-6DDD-4254-8777-D007AB3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FFB5-AFBB-46E6-94B2-D31279C6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107-4362-4A6E-8BEB-BBD52010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C687-5F9B-4615-9481-084CD53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76BB-ADC1-48BB-A6F0-BBA8776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2E73-5586-49EC-9944-F862260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1640-4C47-4AA5-B8D5-67FA71B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B052-E746-4876-ADAA-DDF2FF2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3BB5-062A-47FD-95AB-09B4ACDF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E973-41D7-4AA5-913D-86A51AEB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B193-D931-4CB3-8D8E-AFDC0317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FF1B-67AC-4281-A1EB-E7D21F4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13C1-C647-4A66-BDEB-D28E6A2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6EB-3DC1-46B4-B6D8-045277E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79DE-D339-4FF0-BE29-78F3243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0E3F-8581-4BC3-8E47-C2686196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652D-B302-4076-9C49-47F511D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9A649-D3A7-4F21-99B4-CE994D7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945D-B400-48B6-8C56-C9002776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07F3-3B75-4B41-B125-1308C63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8F0E-ED54-4207-9368-8615029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29B7-BB08-4D01-9F27-09A65220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4F2E-6E27-4B4A-A521-888E5762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23-3A00-428A-9C0B-51857C3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282-69E1-44B2-B292-F32B2B22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A22-7C0A-4E27-93A5-9A68D32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E5C-075F-422F-AF55-8DB95A3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797-F3AF-465E-B5F6-44A3E9B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50D-92B0-4A0D-BA21-16A3C8D2761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194F-DB20-4344-81C7-2F6EA8E17BB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25D-2DB2-4510-A650-21A60051E05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724-2FD0-487B-8999-60AD468C756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963720"/>
            <a:ext cx="5533920" cy="38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3924360" y="5084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-логопед школы-интернат №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ляева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rebuchet MS"/>
              </a:rPr>
              <a:t>Ошибки, наиболее часто встречающиеся на письм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недописывание элементов букв (связано с недоучетом их количества): Л вместо М; Х вместо Ж и т.д.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авление лишних элементов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пуски элементов, особенно при соединении букв, включающих одинаковый элемент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еркальное написание букв. 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rebuchet MS"/>
              </a:rPr>
              <a:t>Упражнения на устранение недостатков письменной реч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0" y="112536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Arial"/>
              </a:rPr>
              <a:t>Упражнение "Пишем вслух"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резвычайно важный и ничем не заменимый прием: всё, что пишется, проговаривается пишущим вслух в момент написания и так, как оно пишется, с подчеркиванием, выделением слабых до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мер проще: "НА стОле стОЯл куВшин С мОлОком" (на стале стаял куфшин с мала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Упражнение"Вглядись и разберись"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2133360"/>
            <a:ext cx="7354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Пунктуация для дисграфиков и не только)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териал для работы - сборники диктантов (с уже поставленными запятыми, и проверьте, чтобы не было опечаток)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дание: внимательно вчитываясь, "фотографируя" текст, объяснить постановку каждого знака препинания вслух. Лучше (для среднего и старшего возраста), если объяснение будет звучать так: "Запятая между прилагательным "ясным" и союзом "и", во-первых, закрывает деепричастный оборот "...", а во-вторых, разделяет две части сложносочиненного предложения (грамматические основы: первая "...", вторая "..."), соединенные союзом "и"". </a:t>
            </a:r>
            <a:br>
              <a:rPr sz="500"/>
            </a:br>
            <a:br>
              <a:rPr sz="5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"Пропущенные буквы"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полняя это упражнение, предлагается пользоваться текстом-подсказкой, где все пропущенные буквы на своих местах. Упражнение развивает внимание и уверенность навыка письма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пример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__неч__о, н__ м__гл__ бы__ь и __е__и о т__м, ч__о__ы Лариосик __к__зал__я п__ед__те__е__. М__ши__ным ма__ло__ и к__ро__и__ом на__лу__ш__м об__аз__м б__ли с__аза__ы и най-турсов кольт и Ал__шин брау__ин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Упражнение «Лабиринты»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Лабиринты хорошо развивают крупную моторику (движения руки и предплечья), внимание, безотрывную линию. Следите, чтобы ребенок изменял положение руки, а не листа бумаг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йти разнообразные лабиринты можн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3657600"/>
            <a:ext cx="4876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0" y="2708280"/>
            <a:ext cx="5249880" cy="2925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6"/>
          <p:cNvSpPr/>
          <p:nvPr/>
        </p:nvSpPr>
        <p:spPr>
          <a:xfrm>
            <a:off x="979200" y="22050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гадайся, кто что лю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0" y="852480"/>
            <a:ext cx="4572000" cy="6010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24000" y="324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Перенеси фигурки на новые места. Нарисуй их в пустых кружо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tretch/>
        </p:blipFill>
        <p:spPr>
          <a:xfrm>
            <a:off x="4060800" y="2421000"/>
            <a:ext cx="5083200" cy="42289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1"/>
          <p:cNvSpPr/>
          <p:nvPr/>
        </p:nvSpPr>
        <p:spPr>
          <a:xfrm>
            <a:off x="5179680" y="1989000"/>
            <a:ext cx="40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Какой дорогой ёжики дойдут до с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Чего нельзя делать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НЕ ПРЕДЛАГАЙТЕ ДЕТЯМ ИСПРАВЛЯТЬ ОШИБКИ, НАУЧИТЕ ИХ НЕ ДЕЛАТЬ ОШИБОК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 Суть исправления дисграфии в том, чтобы искоренить саму мысль о том, что при письме можно эти самые ошибки допускать. Текст с ошибками лишний раз показывает ребенку, что ошибки возможны, даже, пожалуй, полезны в чем-то. Давайте забудем об этом... </a:t>
            </a:r>
            <a:br>
              <a:rPr sz="2400"/>
            </a:b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5"/>
          <p:cNvSpPr/>
          <p:nvPr/>
        </p:nvSpPr>
        <p:spPr>
          <a:xfrm flipV="1" rot="10800000">
            <a:off x="684000" y="1228680"/>
            <a:ext cx="75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Дисграфия — это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специфическ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расстройство письменной речи, проявляющееся в многочисленных типичных ошибках стойкого характера и обусловленное несформированностью высших психических функций, участвующих в процессе овладения навыками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250920" y="5445000"/>
            <a:ext cx="86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пецифические ошибки(т.е. не связанные с применением орфографических прави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1. Артикуляторно-акустическая форма дисграфии</a:t>
            </a:r>
            <a:r>
              <a:rPr b="1" i="1" lang="ru-RU" sz="4400" spc="-1" strike="noStrike">
                <a:solidFill>
                  <a:srgbClr val="008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8520" y="2276640"/>
            <a:ext cx="90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Замена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-Л,      Т-Д          С-Ш,         П-Б         Ж-З      К-Г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к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тол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тол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к    ковё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– ковё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ла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ла       к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 - к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 к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 – к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     д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дь – д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д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щ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но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нок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адь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ц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плёно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плёнок        рукави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ц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 - рукави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 (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,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611280" y="30960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ой возникновения этого вида нарушений является неправильное произношение. Ребенок пишет слова так, как их произнос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07160" cy="95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2. Акустическая форма дисграф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20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</a:t>
            </a: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Смешиваются букв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обозначающие звонкие - глухие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Б-П; В-Ф; Д-Т; Ж-Ш и т.д.)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свистящие - шипящие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С-Ш; З-Ж и т.д.)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аффрикаты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и компоненты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Ч-Щ; Ч-ТЬ; Ц-Т; Ц-С и т.д.)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Неправильное обозначение мягкости согласных: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"писмо", "лубит", "больит«…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1619280" y="296712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ой возникновения этого вида является нарушение дифференциации, распознавания близких звуков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250920" y="549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вонкие – глухие согласны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 — С - «кослик», «вазилёк», «звою сум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 — П - «бодарил», «пельё», «балатка», «польш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Ж — Ш - «шдёт», «кружился снешок», «жишки», «ложад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 — К — «долко», «собага», «груглый», «укол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— Ф — «портвель», «ворточка», «картовель», «ковта»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 - Т — «тавно», «деди», «дрещат», «втрук», «ситит», «итут дом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50920" y="3645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фрика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— Щ — «стущал», «роча», «хичный», «щаст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- Ц - «сквореч», «граци», «чапля», «цяс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— Т — «черчит», «утитель», «Жуть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Ц – Т - девотька». «пцицы», «цвецет», «Пеця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Ц-С - «рельцы», «куриса», «улиса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56108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rebuchet MS"/>
              </a:rPr>
              <a:t>3. Дисграфия на почве нарушения языкового анализа и синтеза.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Это наиболее часто встречающаяся форма дисграфии у детей, страдающих нарушениями письменной речи. Для нее наиболее характерны следующие ошибки: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ропуски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слогов;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ерестановка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(или) слог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не дописывание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сл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написание лишних букв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 слове (бывает, когда ребенок, проговаривая при письме, очень долго "поет звук"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овторение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(или) слог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.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контоминация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- в одном слове слоги разных слов;                     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·  слитное написание предлогов, раздельное написание приставок ("настоле", "на ступила").</a:t>
            </a:r>
            <a:br>
              <a:rPr sz="1100"/>
            </a:b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1258920" y="2060640"/>
            <a:ext cx="631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ее возникновения — затруднения при делении предложений на 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лов на слоги, зв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50920" y="656640"/>
            <a:ext cx="878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гласных букв; всят-висят, урожй-урожа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согласных букв: комата-комната, вей-вс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слогов и частей слова: стрки-стрел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гласных: пище-пищу, сесен-сосен, люгкий-легк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согласных: тва-два, роча-роща, урошай-урожай, боказываед-показыва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тановки букв и слогов: онко-ок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писывание букв и слогов: на ветка-на ветках, диктан-дикта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ащивание слов лишними буквами и слогами: снег-сенег, диктанат-дикта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ажение слова: мальни-маленький, чайщик-ча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тное написание слов и их произвольное деление: бойчасов-бой часов, в ся-в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умение определить границы предложения в тексте, слитное написание предложений: Снег покрыл всю землю. Белым ковром. Замерзла Речка птицам голодно. — Снег покрыл всю землю белым ковром. Замерзла речка. Птицам гол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шение смягчения согласных: болшой-большой, умчалис-умчались, мач-мя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4. Аграмматическая дисграфия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Причина недоразвит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грамматического строя реч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Это выражается в неправильном написании окончаний слов, в неумении согласовать слова между соб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-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бенок пишет аграмматично, т.е. как бы вопреки правилам грамматики ("красивый сумка", "веселые день"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Аграмматизмы на письме отмечаются на уровне слова, словосочетания, предложения и текста.            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Trebuchet MS"/>
              </a:rPr>
              <a:t>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Trebuchet MS"/>
              </a:rPr>
              <a:t>    </a:t>
            </a:r>
            <a:br>
              <a:rPr sz="1700"/>
            </a:b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5. Оптическая дисграфия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буквы русского алфавита состоят из набора одних и тех же элементов ("палочки", "овалы") и нескольких "специфичных" элементов. Одинаковые элементы по-разному комбинируясь в пространстве, и образуют различные буквенные знаки: и, ш, ц, щ; б, в, д, у..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Если ребенок не улавливает тонких различий между буквами, то это непременно приведет к трудностям усвоения начертания букв и к неправильному изображению их на письм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684360" y="5516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является в заменах и искажениях на письме графически сходных рукописных букв (и-ш, п-т, т-ш, в-д, б-д, л-м, э-с и 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477720" y="76032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возникновения — несформированность зрительно-пространственных функций и зрительного анализа и синтеза.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chka</cp:lastModifiedBy>
  <dcterms:modified xsi:type="dcterms:W3CDTF">2013-10-24T13:16:14Z</dcterms:modified>
  <cp:revision>58</cp:revision>
  <dc:subject/>
  <dc:title>1. Артикуляторно-акустическая форма дисграфии. </dc:title>
</cp:coreProperties>
</file>