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3.png" ContentType="image/png"/>
  <Override PartName="/ppt/media/image23.gif" ContentType="image/gif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A4AA-0E80-4FCB-96DD-460E8C75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4D86-2C04-44A6-A361-8BE4CD2E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242C-E7E4-4668-B8F4-1340CA77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8577-D5BC-4EB2-AABF-D7C721B0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40F-688B-41FA-90A2-C9DBF985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690D-EF3B-4057-9A3C-608D02BB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CF17-F025-4EDB-8269-5054FB17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15C8-B4F1-4D10-9F07-7CA94124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3420-749E-4232-B8CD-4E611DFD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2F07-4321-4EF2-838E-DB9EE302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D909-1962-46BD-8CA5-AEF82154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22D1-A414-4C5F-99D8-20F10D77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D013-CC9D-43EA-8DA9-F74B0D856F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abirint-shop.ru/images/books/72302/big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58920" y="907920"/>
            <a:ext cx="6626160" cy="34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Урок литературного чтения 2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Arial"/>
              </a:rPr>
              <a:t>подготовила  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Arial"/>
              </a:rPr>
              <a:t>МАОУ Домодедовской СОШ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Arial"/>
              </a:rPr>
              <a:t>Лёвина Ирина Вале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75d1"/>
                </a:solidFill>
                <a:latin typeface="Arial"/>
              </a:rPr>
              <a:t>По теме: Э. Шим «Храбрый опён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reeform 26"/>
          <p:cNvSpPr/>
          <p:nvPr/>
        </p:nvSpPr>
        <p:spPr>
          <a:xfrm>
            <a:off x="1403280" y="6524640"/>
            <a:ext cx="5616720" cy="647640"/>
          </a:xfrm>
          <a:custGeom>
            <a:avLst/>
            <a:gdLst>
              <a:gd name="textAreaLeft" fmla="*/ 0 w 5616720"/>
              <a:gd name="textAreaRight" fmla="*/ 5617080 w 5616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5050" h="567">
                <a:moveTo>
                  <a:pt x="86" y="329"/>
                </a:moveTo>
                <a:cubicBezTo>
                  <a:pt x="110" y="306"/>
                  <a:pt x="127" y="275"/>
                  <a:pt x="152" y="255"/>
                </a:cubicBezTo>
                <a:cubicBezTo>
                  <a:pt x="167" y="243"/>
                  <a:pt x="186" y="234"/>
                  <a:pt x="201" y="222"/>
                </a:cubicBezTo>
                <a:cubicBezTo>
                  <a:pt x="234" y="195"/>
                  <a:pt x="248" y="176"/>
                  <a:pt x="292" y="165"/>
                </a:cubicBezTo>
                <a:cubicBezTo>
                  <a:pt x="300" y="159"/>
                  <a:pt x="308" y="153"/>
                  <a:pt x="317" y="148"/>
                </a:cubicBezTo>
                <a:cubicBezTo>
                  <a:pt x="325" y="144"/>
                  <a:pt x="334" y="144"/>
                  <a:pt x="341" y="140"/>
                </a:cubicBezTo>
                <a:cubicBezTo>
                  <a:pt x="429" y="88"/>
                  <a:pt x="287" y="160"/>
                  <a:pt x="374" y="107"/>
                </a:cubicBezTo>
                <a:cubicBezTo>
                  <a:pt x="415" y="82"/>
                  <a:pt x="474" y="86"/>
                  <a:pt x="522" y="74"/>
                </a:cubicBezTo>
                <a:cubicBezTo>
                  <a:pt x="547" y="58"/>
                  <a:pt x="569" y="51"/>
                  <a:pt x="596" y="41"/>
                </a:cubicBezTo>
                <a:cubicBezTo>
                  <a:pt x="848" y="49"/>
                  <a:pt x="906" y="58"/>
                  <a:pt x="1156" y="50"/>
                </a:cubicBezTo>
                <a:cubicBezTo>
                  <a:pt x="1233" y="33"/>
                  <a:pt x="1307" y="24"/>
                  <a:pt x="1386" y="17"/>
                </a:cubicBezTo>
                <a:cubicBezTo>
                  <a:pt x="1563" y="28"/>
                  <a:pt x="1463" y="22"/>
                  <a:pt x="1576" y="0"/>
                </a:cubicBezTo>
                <a:cubicBezTo>
                  <a:pt x="1719" y="3"/>
                  <a:pt x="1861" y="3"/>
                  <a:pt x="2004" y="8"/>
                </a:cubicBezTo>
                <a:cubicBezTo>
                  <a:pt x="2045" y="10"/>
                  <a:pt x="2043" y="63"/>
                  <a:pt x="2086" y="66"/>
                </a:cubicBezTo>
                <a:cubicBezTo>
                  <a:pt x="2163" y="71"/>
                  <a:pt x="2239" y="71"/>
                  <a:pt x="2316" y="74"/>
                </a:cubicBezTo>
                <a:cubicBezTo>
                  <a:pt x="2363" y="83"/>
                  <a:pt x="2364" y="96"/>
                  <a:pt x="2407" y="107"/>
                </a:cubicBezTo>
                <a:cubicBezTo>
                  <a:pt x="2437" y="104"/>
                  <a:pt x="2467" y="103"/>
                  <a:pt x="2497" y="99"/>
                </a:cubicBezTo>
                <a:cubicBezTo>
                  <a:pt x="2531" y="94"/>
                  <a:pt x="2562" y="68"/>
                  <a:pt x="2596" y="66"/>
                </a:cubicBezTo>
                <a:cubicBezTo>
                  <a:pt x="2829" y="53"/>
                  <a:pt x="2695" y="60"/>
                  <a:pt x="2999" y="50"/>
                </a:cubicBezTo>
                <a:cubicBezTo>
                  <a:pt x="3079" y="36"/>
                  <a:pt x="3121" y="9"/>
                  <a:pt x="3205" y="0"/>
                </a:cubicBezTo>
                <a:cubicBezTo>
                  <a:pt x="3316" y="14"/>
                  <a:pt x="3439" y="4"/>
                  <a:pt x="3550" y="8"/>
                </a:cubicBezTo>
                <a:cubicBezTo>
                  <a:pt x="3616" y="26"/>
                  <a:pt x="3680" y="66"/>
                  <a:pt x="3748" y="74"/>
                </a:cubicBezTo>
                <a:cubicBezTo>
                  <a:pt x="3784" y="78"/>
                  <a:pt x="3819" y="79"/>
                  <a:pt x="3855" y="82"/>
                </a:cubicBezTo>
                <a:cubicBezTo>
                  <a:pt x="3887" y="104"/>
                  <a:pt x="3920" y="106"/>
                  <a:pt x="3954" y="124"/>
                </a:cubicBezTo>
                <a:cubicBezTo>
                  <a:pt x="4057" y="113"/>
                  <a:pt x="4156" y="120"/>
                  <a:pt x="4258" y="132"/>
                </a:cubicBezTo>
                <a:cubicBezTo>
                  <a:pt x="4285" y="141"/>
                  <a:pt x="4315" y="151"/>
                  <a:pt x="4340" y="165"/>
                </a:cubicBezTo>
                <a:cubicBezTo>
                  <a:pt x="4357" y="175"/>
                  <a:pt x="4370" y="197"/>
                  <a:pt x="4390" y="198"/>
                </a:cubicBezTo>
                <a:cubicBezTo>
                  <a:pt x="4603" y="211"/>
                  <a:pt x="4477" y="205"/>
                  <a:pt x="4768" y="214"/>
                </a:cubicBezTo>
                <a:cubicBezTo>
                  <a:pt x="4774" y="220"/>
                  <a:pt x="4781" y="224"/>
                  <a:pt x="4785" y="231"/>
                </a:cubicBezTo>
                <a:cubicBezTo>
                  <a:pt x="4793" y="246"/>
                  <a:pt x="4784" y="276"/>
                  <a:pt x="4801" y="280"/>
                </a:cubicBezTo>
                <a:cubicBezTo>
                  <a:pt x="4901" y="304"/>
                  <a:pt x="4823" y="288"/>
                  <a:pt x="5040" y="296"/>
                </a:cubicBezTo>
                <a:cubicBezTo>
                  <a:pt x="5050" y="327"/>
                  <a:pt x="5033" y="337"/>
                  <a:pt x="4999" y="338"/>
                </a:cubicBezTo>
                <a:cubicBezTo>
                  <a:pt x="4873" y="343"/>
                  <a:pt x="4746" y="343"/>
                  <a:pt x="4620" y="346"/>
                </a:cubicBezTo>
                <a:cubicBezTo>
                  <a:pt x="4399" y="567"/>
                  <a:pt x="3947" y="184"/>
                  <a:pt x="3732" y="412"/>
                </a:cubicBezTo>
                <a:cubicBezTo>
                  <a:pt x="3690" y="401"/>
                  <a:pt x="3650" y="387"/>
                  <a:pt x="3608" y="379"/>
                </a:cubicBezTo>
                <a:cubicBezTo>
                  <a:pt x="3402" y="382"/>
                  <a:pt x="3197" y="395"/>
                  <a:pt x="2991" y="387"/>
                </a:cubicBezTo>
                <a:cubicBezTo>
                  <a:pt x="2973" y="386"/>
                  <a:pt x="2919" y="339"/>
                  <a:pt x="2892" y="329"/>
                </a:cubicBezTo>
                <a:cubicBezTo>
                  <a:pt x="2144" y="338"/>
                  <a:pt x="2031" y="345"/>
                  <a:pt x="1246" y="338"/>
                </a:cubicBezTo>
                <a:cubicBezTo>
                  <a:pt x="951" y="319"/>
                  <a:pt x="654" y="338"/>
                  <a:pt x="358" y="329"/>
                </a:cubicBezTo>
                <a:cubicBezTo>
                  <a:pt x="0" y="344"/>
                  <a:pt x="234" y="329"/>
                  <a:pt x="86" y="329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35213249"/>
          <p:cNvPicPr/>
          <p:nvPr/>
        </p:nvPicPr>
        <p:blipFill>
          <a:blip r:embed="rId2">
            <a:lum bright="12000"/>
          </a:blip>
          <a:stretch/>
        </p:blipFill>
        <p:spPr>
          <a:xfrm rot="21333600">
            <a:off x="1979640" y="620640"/>
            <a:ext cx="5975280" cy="6048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079513_337"/>
          <p:cNvPicPr/>
          <p:nvPr/>
        </p:nvPicPr>
        <p:blipFill>
          <a:blip r:embed="rId3">
            <a:lum bright="-6000"/>
          </a:blip>
          <a:srcRect l="36625" t="63809" r="32495" b="0"/>
          <a:stretch/>
        </p:blipFill>
        <p:spPr>
          <a:xfrm rot="1960200">
            <a:off x="1476360" y="256536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079513_337"/>
          <p:cNvPicPr/>
          <p:nvPr/>
        </p:nvPicPr>
        <p:blipFill>
          <a:blip r:embed="rId4">
            <a:lum bright="-6000"/>
          </a:blip>
          <a:srcRect l="36625" t="63809" r="32495" b="0"/>
          <a:stretch/>
        </p:blipFill>
        <p:spPr>
          <a:xfrm rot="1614600">
            <a:off x="2771640" y="2565000"/>
            <a:ext cx="1225800" cy="1162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079513_337"/>
          <p:cNvPicPr/>
          <p:nvPr/>
        </p:nvPicPr>
        <p:blipFill>
          <a:blip r:embed="rId5">
            <a:lum bright="-6000"/>
          </a:blip>
          <a:srcRect l="36625" t="63809" r="32495" b="0"/>
          <a:stretch/>
        </p:blipFill>
        <p:spPr>
          <a:xfrm rot="1960200">
            <a:off x="2484360" y="1268280"/>
            <a:ext cx="1225800" cy="1162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079513_337"/>
          <p:cNvPicPr/>
          <p:nvPr/>
        </p:nvPicPr>
        <p:blipFill>
          <a:blip r:embed="rId6">
            <a:lum bright="-6000"/>
          </a:blip>
          <a:srcRect l="36625" t="63809" r="32495" b="0"/>
          <a:stretch/>
        </p:blipFill>
        <p:spPr>
          <a:xfrm rot="1960200">
            <a:off x="5651640" y="429264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079513_337"/>
          <p:cNvPicPr/>
          <p:nvPr/>
        </p:nvPicPr>
        <p:blipFill>
          <a:blip r:embed="rId7">
            <a:lum bright="-6000"/>
          </a:blip>
          <a:srcRect l="36625" t="63809" r="32495" b="0"/>
          <a:stretch/>
        </p:blipFill>
        <p:spPr>
          <a:xfrm rot="1960200">
            <a:off x="4284720" y="76500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079513_337"/>
          <p:cNvPicPr/>
          <p:nvPr/>
        </p:nvPicPr>
        <p:blipFill>
          <a:blip r:embed="rId8">
            <a:lum bright="-6000"/>
          </a:blip>
          <a:srcRect l="36625" t="63809" r="32495" b="0"/>
          <a:stretch/>
        </p:blipFill>
        <p:spPr>
          <a:xfrm rot="21231600">
            <a:off x="6156000" y="220464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079513_337"/>
          <p:cNvPicPr/>
          <p:nvPr/>
        </p:nvPicPr>
        <p:blipFill>
          <a:blip r:embed="rId9">
            <a:lum bright="-6000"/>
          </a:blip>
          <a:srcRect l="36625" t="63809" r="32495" b="0"/>
          <a:stretch/>
        </p:blipFill>
        <p:spPr>
          <a:xfrm rot="19569600">
            <a:off x="6516720" y="3573000"/>
            <a:ext cx="1225440" cy="1162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079513_337"/>
          <p:cNvPicPr/>
          <p:nvPr/>
        </p:nvPicPr>
        <p:blipFill>
          <a:blip r:embed="rId10">
            <a:lum bright="-6000"/>
          </a:blip>
          <a:srcRect l="36625" t="63809" r="32495" b="0"/>
          <a:stretch/>
        </p:blipFill>
        <p:spPr>
          <a:xfrm rot="1960200">
            <a:off x="2195640" y="3933720"/>
            <a:ext cx="1225440" cy="11620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7"/>
          <p:cNvSpPr/>
          <p:nvPr/>
        </p:nvSpPr>
        <p:spPr>
          <a:xfrm>
            <a:off x="468360" y="260280"/>
            <a:ext cx="2879640" cy="865080"/>
          </a:xfrm>
          <a:prstGeom prst="cloudCallout">
            <a:avLst>
              <a:gd name="adj1" fmla="val -34342"/>
              <a:gd name="adj2" fmla="val 41194"/>
            </a:avLst>
          </a:prstGeom>
          <a:gradFill rotWithShape="0">
            <a:gsLst>
              <a:gs pos="0">
                <a:srgbClr val="bbe0e3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8"/>
          <p:cNvSpPr/>
          <p:nvPr/>
        </p:nvSpPr>
        <p:spPr>
          <a:xfrm>
            <a:off x="-252360" y="189000"/>
            <a:ext cx="2232000" cy="792000"/>
          </a:xfrm>
          <a:prstGeom prst="cloudCallout">
            <a:avLst>
              <a:gd name="adj1" fmla="val -17356"/>
              <a:gd name="adj2" fmla="val 14930"/>
            </a:avLst>
          </a:prstGeom>
          <a:gradFill rotWithShape="0">
            <a:gsLst>
              <a:gs pos="0">
                <a:srgbClr val="bbe0e3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9" descr="079513_337"/>
          <p:cNvPicPr/>
          <p:nvPr/>
        </p:nvPicPr>
        <p:blipFill>
          <a:blip r:embed="rId11">
            <a:lum bright="-6000"/>
          </a:blip>
          <a:srcRect l="36625" t="63809" r="32495" b="0"/>
          <a:stretch/>
        </p:blipFill>
        <p:spPr>
          <a:xfrm rot="18865200">
            <a:off x="5835240" y="1012320"/>
            <a:ext cx="1225800" cy="1162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3" descr=""/>
          <p:cNvPicPr/>
          <p:nvPr/>
        </p:nvPicPr>
        <p:blipFill>
          <a:blip r:embed="rId1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4" descr="Ёжик1"/>
          <p:cNvPicPr/>
          <p:nvPr/>
        </p:nvPicPr>
        <p:blipFill>
          <a:blip r:embed="rId13">
            <a:lum bright="-6000"/>
          </a:blip>
          <a:stretch/>
        </p:blipFill>
        <p:spPr>
          <a:xfrm rot="429600">
            <a:off x="9396000" y="5767560"/>
            <a:ext cx="1457280" cy="1090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079513_337"/>
          <p:cNvPicPr/>
          <p:nvPr/>
        </p:nvPicPr>
        <p:blipFill>
          <a:blip r:embed="rId14">
            <a:lum bright="-6000"/>
          </a:blip>
          <a:srcRect l="36625" t="63809" r="32495" b="0"/>
          <a:stretch/>
        </p:blipFill>
        <p:spPr>
          <a:xfrm rot="1222800">
            <a:off x="4716360" y="1988640"/>
            <a:ext cx="12258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7037E-006 L 0.07465 0.88125 E">
                                      <p:cBhvr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6 L 0.14549 0.65023 E">
                                      <p:cBhvr>
                                        <p:cTn id="121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L -0.06702 0.69213 E">
                                      <p:cBhvr>
                                        <p:cTn id="12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62 -0.04259 L 0.40139 0.28935 E">
                                      <p:cBhvr>
                                        <p:cTn id="12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-0.11621 C 0.0717 -0.11621 0.12778 -0.04144 0.12778 0.05046 C 0.12778 0.14236 0.0717 0.21713 0.00278 0.21713 C -0.06615 0.21713 -0.12222 0.14236 -0.12222 0.05046 C -0.12222 -0.04144 -0.06615 -0.11621 0.00278 -0.11621 Z">
                                      <p:cBhvr>
                                        <p:cTn id="130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2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07407E-006 L 0.99219 -0.05232 E">
                                      <p:cBhvr>
                                        <p:cTn id="142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81481E-006 L 1.12222 -0.03658 E">
                                      <p:cBhvr>
                                        <p:cTn id="149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8000"/>
                            </p:stCondLst>
                            <p:childTnLst>
                              <p:par>
                                <p:cTn id="1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5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2000"/>
                            </p:stCondLst>
                            <p:childTnLst>
                              <p:par>
                                <p:cTn id="1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4000"/>
                            </p:stCondLst>
                            <p:childTnLst>
                              <p:par>
                                <p:cTn id="1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6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6000"/>
                            </p:stCondLst>
                            <p:childTnLst>
                              <p:par>
                                <p:cTn id="163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3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9000"/>
                            </p:stCondLst>
                            <p:childTnLst>
                              <p:par>
                                <p:cTn id="168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3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7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-0.54427 0.01019 E">
                                      <p:cBhvr>
                                        <p:cTn id="174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7000"/>
                            </p:stCondLst>
                            <p:childTnLst>
                              <p:par>
                                <p:cTn id="176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1000"/>
                            </p:stCondLst>
                            <p:childTnLst>
                              <p:par>
                                <p:cTn id="18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-0.00399 0.47176 E">
                                      <p:cBhvr>
                                        <p:cTn id="18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3000"/>
                            </p:stCondLst>
                            <p:childTnLst>
                              <p:par>
                                <p:cTn id="18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8000"/>
                            </p:stCondLst>
                            <p:childTnLst>
                              <p:par>
                                <p:cTn id="192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 0.03148 C -0.07761 -0.11111 -0.07188 -0.33611 0.03489 -0.4699 C 0.14184 -0.60301 0.31041 -0.5949 0.41076 -0.45231 C 0.51076 -0.30926 0.50503 -0.08495 0.39826 0.04861 C 0.29097 0.18218 0.12239 0.17454 0.02222 0.03148 Z">
                                      <p:cBhvr>
                                        <p:cTn id="193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9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7000"/>
                            </p:stCondLst>
                            <p:childTnLst>
                              <p:par>
                                <p:cTn id="19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457200" y="274680"/>
            <a:ext cx="821844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ёнок</a:t>
            </a:r>
            <a:endParaRPr b="0" lang="en-US" sz="12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482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Неказист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-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некрасивый,                            непривлекатель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Кудельки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– кудря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Изображение 002"/>
          <p:cNvPicPr/>
          <p:nvPr/>
        </p:nvPicPr>
        <p:blipFill>
          <a:blip r:embed="rId4"/>
          <a:stretch/>
        </p:blipFill>
        <p:spPr>
          <a:xfrm>
            <a:off x="5292720" y="1773360"/>
            <a:ext cx="3456000" cy="4824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Изображение 008"/>
          <p:cNvPicPr/>
          <p:nvPr/>
        </p:nvPicPr>
        <p:blipFill>
          <a:blip r:embed="rId5"/>
          <a:stretch/>
        </p:blipFill>
        <p:spPr>
          <a:xfrm>
            <a:off x="5364000" y="1916280"/>
            <a:ext cx="33116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2" descr="Изображение 008"/>
          <p:cNvPicPr/>
          <p:nvPr/>
        </p:nvPicPr>
        <p:blipFill>
          <a:blip r:embed="rId2"/>
          <a:stretch/>
        </p:blipFill>
        <p:spPr>
          <a:xfrm>
            <a:off x="5292720" y="907920"/>
            <a:ext cx="3600360" cy="5545440"/>
          </a:xfrm>
          <a:prstGeom prst="rect">
            <a:avLst/>
          </a:prstGeom>
          <a:ln w="0">
            <a:noFill/>
          </a:ln>
        </p:spPr>
      </p:pic>
      <p:sp>
        <p:nvSpPr>
          <p:cNvPr id="93" name="WordArt 15"/>
          <p:cNvSpPr txBox="1"/>
          <p:nvPr/>
        </p:nvSpPr>
        <p:spPr>
          <a:xfrm>
            <a:off x="1692360" y="2781360"/>
            <a:ext cx="1762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рабр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16"/>
          <p:cNvSpPr txBox="1"/>
          <p:nvPr/>
        </p:nvSpPr>
        <p:spPr>
          <a:xfrm>
            <a:off x="1187280" y="1341360"/>
            <a:ext cx="2248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услив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WordArt 17"/>
          <p:cNvSpPr txBox="1"/>
          <p:nvPr/>
        </p:nvSpPr>
        <p:spPr>
          <a:xfrm>
            <a:off x="1116000" y="2060640"/>
            <a:ext cx="2685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нослив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WordArt 18"/>
          <p:cNvSpPr txBox="1"/>
          <p:nvPr/>
        </p:nvSpPr>
        <p:spPr>
          <a:xfrm>
            <a:off x="1619280" y="3500280"/>
            <a:ext cx="181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сёл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WordArt 19"/>
          <p:cNvSpPr txBox="1"/>
          <p:nvPr/>
        </p:nvSpPr>
        <p:spPr>
          <a:xfrm>
            <a:off x="1547640" y="620640"/>
            <a:ext cx="1676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ойк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WordArt 20"/>
          <p:cNvSpPr txBox="1"/>
          <p:nvPr/>
        </p:nvSpPr>
        <p:spPr>
          <a:xfrm>
            <a:off x="1258920" y="5445000"/>
            <a:ext cx="2552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ходчив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WordArt 21"/>
          <p:cNvSpPr txBox="1"/>
          <p:nvPr/>
        </p:nvSpPr>
        <p:spPr>
          <a:xfrm>
            <a:off x="1403280" y="414972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призн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WordArt 22"/>
          <p:cNvSpPr txBox="1"/>
          <p:nvPr/>
        </p:nvSpPr>
        <p:spPr>
          <a:xfrm>
            <a:off x="1763640" y="4797360"/>
            <a:ext cx="1486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овк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5"/>
          <p:cNvSpPr txBox="1"/>
          <p:nvPr/>
        </p:nvSpPr>
        <p:spPr>
          <a:xfrm>
            <a:off x="2484360" y="1484280"/>
            <a:ext cx="39625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У страха глаза велики.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WordArt 6"/>
          <p:cNvSpPr txBox="1"/>
          <p:nvPr/>
        </p:nvSpPr>
        <p:spPr>
          <a:xfrm>
            <a:off x="1979640" y="2276640"/>
            <a:ext cx="50101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Мал телом,  да велик делом.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1835280" y="3141720"/>
            <a:ext cx="52578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 Терпение и труд всё перетрут.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8"/>
          <p:cNvSpPr txBox="1"/>
          <p:nvPr/>
        </p:nvSpPr>
        <p:spPr>
          <a:xfrm>
            <a:off x="1403280" y="3860640"/>
            <a:ext cx="66294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. Будет время - и нам люди поклонятся.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9"/>
          <p:cNvSpPr txBox="1"/>
          <p:nvPr/>
        </p:nvSpPr>
        <p:spPr>
          <a:xfrm>
            <a:off x="1403280" y="4797360"/>
            <a:ext cx="6238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. Не красавец лицом,  да хорош умом.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1042920" y="549360"/>
            <a:ext cx="7416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всем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7" name="Picture 5" descr="AG00373_"/>
          <p:cNvPicPr/>
          <p:nvPr/>
        </p:nvPicPr>
        <p:blipFill>
          <a:blip r:embed="rId2"/>
          <a:stretch/>
        </p:blipFill>
        <p:spPr>
          <a:xfrm>
            <a:off x="2987640" y="2924280"/>
            <a:ext cx="28796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                                        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1403280" y="620640"/>
            <a:ext cx="65534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ок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 литературном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тению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780400" y="5343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«Белка и Ворон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900000" y="404640"/>
            <a:ext cx="727236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38160">
                  <a:solidFill>
                    <a:srgbClr val="00808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Эдуард Юрьевич</a:t>
            </a:r>
            <a:endParaRPr b="1" lang="en-US" sz="4400" spc="1" strike="noStrike">
              <a:ln w="38160">
                <a:solidFill>
                  <a:srgbClr val="00808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38160">
                  <a:solidFill>
                    <a:srgbClr val="00808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Шим</a:t>
            </a:r>
            <a:endParaRPr b="1" lang="en-US" sz="4400" spc="1" strike="noStrike">
              <a:ln w="38160">
                <a:solidFill>
                  <a:srgbClr val="00808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8" name="Picture 5" descr="Картинка 1 из 20">
            <a:hlinkClick r:id="rId2"/>
          </p:cNvPr>
          <p:cNvPicPr/>
          <p:nvPr/>
        </p:nvPicPr>
        <p:blipFill>
          <a:blip r:embed="rId3"/>
          <a:stretch/>
        </p:blipFill>
        <p:spPr>
          <a:xfrm rot="1326600">
            <a:off x="6084360" y="2420640"/>
            <a:ext cx="2095560" cy="3238560"/>
          </a:xfrm>
          <a:prstGeom prst="rect">
            <a:avLst/>
          </a:prstGeom>
          <a:ln w="0">
            <a:noFill/>
          </a:ln>
        </p:spPr>
      </p:pic>
      <p:sp>
        <p:nvSpPr>
          <p:cNvPr id="49" name="WordArt 8"/>
          <p:cNvSpPr txBox="1"/>
          <p:nvPr/>
        </p:nvSpPr>
        <p:spPr>
          <a:xfrm>
            <a:off x="324000" y="2421000"/>
            <a:ext cx="58338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"Храбрый Опёнок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1258920" y="1197000"/>
            <a:ext cx="1990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слёнок</a:t>
            </a:r>
            <a:endParaRPr b="0" lang="en-US" sz="18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5724360" y="1197000"/>
            <a:ext cx="1686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ровик</a:t>
            </a:r>
            <a:endParaRPr b="0" lang="en-US" sz="18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755640" y="2852640"/>
            <a:ext cx="2924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берёзовик</a:t>
            </a:r>
            <a:endParaRPr b="0" lang="en-US" sz="18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5796000" y="2708280"/>
            <a:ext cx="1733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ички</a:t>
            </a:r>
            <a:endParaRPr b="0" lang="en-US" sz="18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WordArt 8"/>
          <p:cNvSpPr txBox="1"/>
          <p:nvPr/>
        </p:nvSpPr>
        <p:spPr>
          <a:xfrm>
            <a:off x="1187280" y="4292640"/>
            <a:ext cx="2143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ыроежки</a:t>
            </a:r>
            <a:endParaRPr b="0" lang="en-US" sz="18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9"/>
          <p:cNvSpPr txBox="1"/>
          <p:nvPr/>
        </p:nvSpPr>
        <p:spPr>
          <a:xfrm>
            <a:off x="5435640" y="4292640"/>
            <a:ext cx="2714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осиновик</a:t>
            </a:r>
            <a:endParaRPr b="0" lang="en-US" sz="18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Боровик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- белые гриб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Кафтан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длинный пиджак.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1547640" y="476280"/>
            <a:ext cx="576108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 О Р О В И К И</a:t>
            </a:r>
            <a:endParaRPr b="1" lang="en-US" sz="18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Picture 7" descr="Изображение 003"/>
          <p:cNvPicPr/>
          <p:nvPr/>
        </p:nvPicPr>
        <p:blipFill>
          <a:blip r:embed="rId4"/>
          <a:stretch/>
        </p:blipFill>
        <p:spPr>
          <a:xfrm>
            <a:off x="5148360" y="1628640"/>
            <a:ext cx="3744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1547640" y="476280"/>
            <a:ext cx="576108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осиновики</a:t>
            </a:r>
            <a:endParaRPr b="1" lang="en-US" sz="18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Picture 9" descr="Изображение 004"/>
          <p:cNvPicPr/>
          <p:nvPr/>
        </p:nvPicPr>
        <p:blipFill>
          <a:blip r:embed="rId4"/>
          <a:stretch/>
        </p:blipFill>
        <p:spPr>
          <a:xfrm>
            <a:off x="2484360" y="1484280"/>
            <a:ext cx="4392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слята</a:t>
            </a:r>
            <a:endParaRPr b="1" lang="en-US" sz="24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Картузик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– небольшая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уражка, мужско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головной уб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 жёстким  козырьком.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Изображение"/>
          <p:cNvPicPr/>
          <p:nvPr/>
        </p:nvPicPr>
        <p:blipFill>
          <a:blip r:embed="rId4"/>
          <a:stretch/>
        </p:blipFill>
        <p:spPr>
          <a:xfrm>
            <a:off x="5022720" y="1600200"/>
            <a:ext cx="37260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ыроежки</a:t>
            </a:r>
            <a:endParaRPr b="1" lang="en-US" sz="1800" spc="1" strike="noStrike">
              <a:ln w="2844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Изображение 001"/>
          <p:cNvPicPr/>
          <p:nvPr/>
        </p:nvPicPr>
        <p:blipFill>
          <a:blip r:embed="rId3"/>
          <a:stretch/>
        </p:blipFill>
        <p:spPr>
          <a:xfrm>
            <a:off x="2771640" y="1628640"/>
            <a:ext cx="3745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ды                            сыроеж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цы                            масл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атцы                        подосинов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стрицы                     боров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 rot="1809600">
            <a:off x="2491920" y="3271680"/>
            <a:ext cx="3362400" cy="149400"/>
          </a:xfrm>
          <a:prstGeom prst="rightArrow">
            <a:avLst>
              <a:gd name="adj1" fmla="val 50000"/>
              <a:gd name="adj2" fmla="val 5626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 rot="808800">
            <a:off x="2555640" y="3284640"/>
            <a:ext cx="2949480" cy="144360"/>
          </a:xfrm>
          <a:prstGeom prst="rightArrow">
            <a:avLst>
              <a:gd name="adj1" fmla="val 50000"/>
              <a:gd name="adj2" fmla="val 51078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2"/>
          <p:cNvSpPr/>
          <p:nvPr/>
        </p:nvSpPr>
        <p:spPr>
          <a:xfrm flipV="1" rot="21130800">
            <a:off x="3053880" y="3349080"/>
            <a:ext cx="2594160" cy="141480"/>
          </a:xfrm>
          <a:prstGeom prst="rightArrow">
            <a:avLst>
              <a:gd name="adj1" fmla="val 50000"/>
              <a:gd name="adj2" fmla="val 4583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4"/>
          <p:cNvSpPr/>
          <p:nvPr/>
        </p:nvSpPr>
        <p:spPr>
          <a:xfrm flipV="1" rot="19749600">
            <a:off x="3081240" y="3225960"/>
            <a:ext cx="2814480" cy="136440"/>
          </a:xfrm>
          <a:prstGeom prst="rightArrow">
            <a:avLst>
              <a:gd name="adj1" fmla="val 50000"/>
              <a:gd name="adj2" fmla="val 51569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4:08:42Z</dcterms:created>
  <dc:creator>Дима</dc:creator>
  <dc:description/>
  <dc:language>en-US</dc:language>
  <cp:lastModifiedBy>Alex</cp:lastModifiedBy>
  <dcterms:modified xsi:type="dcterms:W3CDTF">2015-05-11T12:38:22Z</dcterms:modified>
  <cp:revision>19</cp:revision>
  <dc:subject/>
  <dc:title>                                            15 ноября                                            2007 года</dc:title>
</cp:coreProperties>
</file>