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3D3-5B2E-4A16-AD37-C52FDB4C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991-2FC2-4728-AA94-8039F24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1C8-D1CF-41CD-B22C-74302E05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B92-E760-4888-99ED-98786E2C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6C8-AB7D-4614-9D77-181FBE9A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CA0-5D20-47B6-8939-CFEB22A1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F2D-F53D-4432-BBBD-2172FDDA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316-1069-4F9A-8835-9A9E4613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C79-E507-4423-8C6A-32AB4165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E0A-CC7C-40ED-87D5-4074A7E7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07A-5E4B-43BC-8EF0-BE5D438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91B-83EB-4FB0-961C-2F633FA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F5C-5C77-4D1C-8BA4-E2EF5D53F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abirint-shop.ru/images/books/72302/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58920" y="907920"/>
            <a:ext cx="66261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рок литературного чтения 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подготовила 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МАОУ Домодедовской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Лёвин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"/>
              </a:rPr>
              <a:t>По теме: Э. Шим «Храбрый оп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6"/>
          <p:cNvSpPr/>
          <p:nvPr/>
        </p:nvSpPr>
        <p:spPr>
          <a:xfrm>
            <a:off x="1403280" y="6524640"/>
            <a:ext cx="5616720" cy="64764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050" h="567">
                <a:moveTo>
                  <a:pt x="86" y="329"/>
                </a:moveTo>
                <a:cubicBezTo>
                  <a:pt x="110" y="306"/>
                  <a:pt x="127" y="275"/>
                  <a:pt x="152" y="255"/>
                </a:cubicBezTo>
                <a:cubicBezTo>
                  <a:pt x="167" y="243"/>
                  <a:pt x="186" y="234"/>
                  <a:pt x="201" y="222"/>
                </a:cubicBezTo>
                <a:cubicBezTo>
                  <a:pt x="234" y="195"/>
                  <a:pt x="248" y="176"/>
                  <a:pt x="292" y="165"/>
                </a:cubicBezTo>
                <a:cubicBezTo>
                  <a:pt x="300" y="159"/>
                  <a:pt x="308" y="153"/>
                  <a:pt x="317" y="148"/>
                </a:cubicBezTo>
                <a:cubicBezTo>
                  <a:pt x="325" y="144"/>
                  <a:pt x="334" y="144"/>
                  <a:pt x="341" y="140"/>
                </a:cubicBezTo>
                <a:cubicBezTo>
                  <a:pt x="429" y="88"/>
                  <a:pt x="287" y="160"/>
                  <a:pt x="374" y="107"/>
                </a:cubicBezTo>
                <a:cubicBezTo>
                  <a:pt x="415" y="82"/>
                  <a:pt x="474" y="86"/>
                  <a:pt x="522" y="74"/>
                </a:cubicBezTo>
                <a:cubicBezTo>
                  <a:pt x="547" y="58"/>
                  <a:pt x="569" y="51"/>
                  <a:pt x="596" y="41"/>
                </a:cubicBezTo>
                <a:cubicBezTo>
                  <a:pt x="848" y="49"/>
                  <a:pt x="906" y="58"/>
                  <a:pt x="1156" y="50"/>
                </a:cubicBezTo>
                <a:cubicBezTo>
                  <a:pt x="1233" y="33"/>
                  <a:pt x="1307" y="24"/>
                  <a:pt x="1386" y="17"/>
                </a:cubicBezTo>
                <a:cubicBezTo>
                  <a:pt x="1563" y="28"/>
                  <a:pt x="1463" y="22"/>
                  <a:pt x="1576" y="0"/>
                </a:cubicBezTo>
                <a:cubicBezTo>
                  <a:pt x="1719" y="3"/>
                  <a:pt x="1861" y="3"/>
                  <a:pt x="2004" y="8"/>
                </a:cubicBezTo>
                <a:cubicBezTo>
                  <a:pt x="2045" y="10"/>
                  <a:pt x="2043" y="63"/>
                  <a:pt x="2086" y="66"/>
                </a:cubicBezTo>
                <a:cubicBezTo>
                  <a:pt x="2163" y="71"/>
                  <a:pt x="2239" y="71"/>
                  <a:pt x="2316" y="74"/>
                </a:cubicBezTo>
                <a:cubicBezTo>
                  <a:pt x="2363" y="83"/>
                  <a:pt x="2364" y="96"/>
                  <a:pt x="2407" y="107"/>
                </a:cubicBezTo>
                <a:cubicBezTo>
                  <a:pt x="2437" y="104"/>
                  <a:pt x="2467" y="103"/>
                  <a:pt x="2497" y="99"/>
                </a:cubicBezTo>
                <a:cubicBezTo>
                  <a:pt x="2531" y="94"/>
                  <a:pt x="2562" y="68"/>
                  <a:pt x="2596" y="66"/>
                </a:cubicBezTo>
                <a:cubicBezTo>
                  <a:pt x="2829" y="53"/>
                  <a:pt x="2695" y="60"/>
                  <a:pt x="2999" y="50"/>
                </a:cubicBezTo>
                <a:cubicBezTo>
                  <a:pt x="3079" y="36"/>
                  <a:pt x="3121" y="9"/>
                  <a:pt x="3205" y="0"/>
                </a:cubicBezTo>
                <a:cubicBezTo>
                  <a:pt x="3316" y="14"/>
                  <a:pt x="3439" y="4"/>
                  <a:pt x="3550" y="8"/>
                </a:cubicBezTo>
                <a:cubicBezTo>
                  <a:pt x="3616" y="26"/>
                  <a:pt x="3680" y="66"/>
                  <a:pt x="3748" y="74"/>
                </a:cubicBezTo>
                <a:cubicBezTo>
                  <a:pt x="3784" y="78"/>
                  <a:pt x="3819" y="79"/>
                  <a:pt x="3855" y="82"/>
                </a:cubicBezTo>
                <a:cubicBezTo>
                  <a:pt x="3887" y="104"/>
                  <a:pt x="3920" y="106"/>
                  <a:pt x="3954" y="124"/>
                </a:cubicBezTo>
                <a:cubicBezTo>
                  <a:pt x="4057" y="113"/>
                  <a:pt x="4156" y="120"/>
                  <a:pt x="4258" y="132"/>
                </a:cubicBezTo>
                <a:cubicBezTo>
                  <a:pt x="4285" y="141"/>
                  <a:pt x="4315" y="151"/>
                  <a:pt x="4340" y="165"/>
                </a:cubicBezTo>
                <a:cubicBezTo>
                  <a:pt x="4357" y="175"/>
                  <a:pt x="4370" y="197"/>
                  <a:pt x="4390" y="198"/>
                </a:cubicBezTo>
                <a:cubicBezTo>
                  <a:pt x="4603" y="211"/>
                  <a:pt x="4477" y="205"/>
                  <a:pt x="4768" y="214"/>
                </a:cubicBezTo>
                <a:cubicBezTo>
                  <a:pt x="4774" y="220"/>
                  <a:pt x="4781" y="224"/>
                  <a:pt x="4785" y="231"/>
                </a:cubicBezTo>
                <a:cubicBezTo>
                  <a:pt x="4793" y="246"/>
                  <a:pt x="4784" y="276"/>
                  <a:pt x="4801" y="280"/>
                </a:cubicBezTo>
                <a:cubicBezTo>
                  <a:pt x="4901" y="304"/>
                  <a:pt x="4823" y="288"/>
                  <a:pt x="5040" y="296"/>
                </a:cubicBezTo>
                <a:cubicBezTo>
                  <a:pt x="5050" y="327"/>
                  <a:pt x="5033" y="337"/>
                  <a:pt x="4999" y="338"/>
                </a:cubicBezTo>
                <a:cubicBezTo>
                  <a:pt x="4873" y="343"/>
                  <a:pt x="4746" y="343"/>
                  <a:pt x="4620" y="346"/>
                </a:cubicBezTo>
                <a:cubicBezTo>
                  <a:pt x="4399" y="567"/>
                  <a:pt x="3947" y="184"/>
                  <a:pt x="3732" y="412"/>
                </a:cubicBezTo>
                <a:cubicBezTo>
                  <a:pt x="3690" y="401"/>
                  <a:pt x="3650" y="387"/>
                  <a:pt x="3608" y="379"/>
                </a:cubicBezTo>
                <a:cubicBezTo>
                  <a:pt x="3402" y="382"/>
                  <a:pt x="3197" y="395"/>
                  <a:pt x="2991" y="387"/>
                </a:cubicBezTo>
                <a:cubicBezTo>
                  <a:pt x="2973" y="386"/>
                  <a:pt x="2919" y="339"/>
                  <a:pt x="2892" y="329"/>
                </a:cubicBezTo>
                <a:cubicBezTo>
                  <a:pt x="2144" y="338"/>
                  <a:pt x="2031" y="345"/>
                  <a:pt x="1246" y="338"/>
                </a:cubicBezTo>
                <a:cubicBezTo>
                  <a:pt x="951" y="319"/>
                  <a:pt x="654" y="338"/>
                  <a:pt x="358" y="329"/>
                </a:cubicBezTo>
                <a:cubicBezTo>
                  <a:pt x="0" y="344"/>
                  <a:pt x="234" y="329"/>
                  <a:pt x="86" y="329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960200">
            <a:off x="4284720" y="765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079513_337"/>
          <p:cNvPicPr/>
          <p:nvPr/>
        </p:nvPicPr>
        <p:blipFill>
          <a:blip r:embed="rId11">
            <a:lum bright="-6000"/>
          </a:blip>
          <a:srcRect l="36625" t="63809" r="32495" b="0"/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1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Ёжик1"/>
          <p:cNvPicPr/>
          <p:nvPr/>
        </p:nvPicPr>
        <p:blipFill>
          <a:blip r:embed="rId13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079513_337"/>
          <p:cNvPicPr/>
          <p:nvPr/>
        </p:nvPicPr>
        <p:blipFill>
          <a:blip r:embed="rId14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2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2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13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142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14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6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174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8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9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19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7000"/>
                            </p:stCondLst>
                            <p:childTnLst>
                              <p:par>
                                <p:cTn id="1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57200" y="274680"/>
            <a:ext cx="821844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ёнок</a:t>
            </a:r>
            <a:endParaRPr b="0" lang="en-US" sz="12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Неказис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екрасивый,                            непривлека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Кудельки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– кудря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Изображение 002"/>
          <p:cNvPicPr/>
          <p:nvPr/>
        </p:nvPicPr>
        <p:blipFill>
          <a:blip r:embed="rId4"/>
          <a:stretch/>
        </p:blipFill>
        <p:spPr>
          <a:xfrm>
            <a:off x="5292720" y="1773360"/>
            <a:ext cx="3456000" cy="482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Изображение 008"/>
          <p:cNvPicPr/>
          <p:nvPr/>
        </p:nvPicPr>
        <p:blipFill>
          <a:blip r:embed="rId5"/>
          <a:stretch/>
        </p:blipFill>
        <p:spPr>
          <a:xfrm>
            <a:off x="5364000" y="1916280"/>
            <a:ext cx="3311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Изображение 008"/>
          <p:cNvPicPr/>
          <p:nvPr/>
        </p:nvPicPr>
        <p:blipFill>
          <a:blip r:embed="rId2"/>
          <a:stretch/>
        </p:blipFill>
        <p:spPr>
          <a:xfrm>
            <a:off x="5292720" y="907920"/>
            <a:ext cx="3600360" cy="5545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15"/>
          <p:cNvSpPr txBox="1"/>
          <p:nvPr/>
        </p:nvSpPr>
        <p:spPr>
          <a:xfrm>
            <a:off x="1692360" y="2781360"/>
            <a:ext cx="176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рабр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6"/>
          <p:cNvSpPr txBox="1"/>
          <p:nvPr/>
        </p:nvSpPr>
        <p:spPr>
          <a:xfrm>
            <a:off x="1187280" y="1341360"/>
            <a:ext cx="22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услив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1116000" y="2060640"/>
            <a:ext cx="2685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нослив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18"/>
          <p:cNvSpPr txBox="1"/>
          <p:nvPr/>
        </p:nvSpPr>
        <p:spPr>
          <a:xfrm>
            <a:off x="1619280" y="3500280"/>
            <a:ext cx="181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ёл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9"/>
          <p:cNvSpPr txBox="1"/>
          <p:nvPr/>
        </p:nvSpPr>
        <p:spPr>
          <a:xfrm>
            <a:off x="1547640" y="620640"/>
            <a:ext cx="1676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й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258920" y="5445000"/>
            <a:ext cx="2552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ходчив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21"/>
          <p:cNvSpPr txBox="1"/>
          <p:nvPr/>
        </p:nvSpPr>
        <p:spPr>
          <a:xfrm>
            <a:off x="1403280" y="414972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приз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22"/>
          <p:cNvSpPr txBox="1"/>
          <p:nvPr/>
        </p:nvSpPr>
        <p:spPr>
          <a:xfrm>
            <a:off x="1763640" y="4797360"/>
            <a:ext cx="148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в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5"/>
          <p:cNvSpPr txBox="1"/>
          <p:nvPr/>
        </p:nvSpPr>
        <p:spPr>
          <a:xfrm>
            <a:off x="2484360" y="1484280"/>
            <a:ext cx="3962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У страха глаза велики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979640" y="2276640"/>
            <a:ext cx="5010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Мал телом,  да велик делом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1835280" y="3141720"/>
            <a:ext cx="5257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Терпение и труд всё перетрут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403280" y="3860640"/>
            <a:ext cx="6629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Будет время - и нам люди поклонятся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1403280" y="4797360"/>
            <a:ext cx="6238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. Не красавец лицом,  да хорош умом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042920" y="54936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5" descr="AG00373_"/>
          <p:cNvPicPr/>
          <p:nvPr/>
        </p:nvPicPr>
        <p:blipFill>
          <a:blip r:embed="rId2"/>
          <a:stretch/>
        </p:blipFill>
        <p:spPr>
          <a:xfrm>
            <a:off x="2987640" y="2924280"/>
            <a:ext cx="2879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403280" y="620640"/>
            <a:ext cx="6553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литератур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ени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780400" y="5343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Белка и Воро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900000" y="404640"/>
            <a:ext cx="72723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Эдуард Юрьевич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Шим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8" name="Picture 5" descr="Картинка 1 из 20">
            <a:hlinkClick r:id="rId2"/>
          </p:cNvPr>
          <p:cNvPicPr/>
          <p:nvPr/>
        </p:nvPicPr>
        <p:blipFill>
          <a:blip r:embed="rId3"/>
          <a:stretch/>
        </p:blipFill>
        <p:spPr>
          <a:xfrm rot="1326600">
            <a:off x="6084360" y="2420640"/>
            <a:ext cx="2095560" cy="3238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4000" y="2421000"/>
            <a:ext cx="583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"Храбрый Опён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58920" y="1197000"/>
            <a:ext cx="199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лёно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5724360" y="1197000"/>
            <a:ext cx="16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рови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755640" y="2852640"/>
            <a:ext cx="29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берёзови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5796000" y="2708280"/>
            <a:ext cx="1733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ички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187280" y="4292640"/>
            <a:ext cx="214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ыроежки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5435640" y="4292640"/>
            <a:ext cx="2714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осинови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Боровик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- белые гри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фтан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линный пиджак.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1547640" y="476280"/>
            <a:ext cx="57610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 О Р О В И К И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7" descr="Изображение 003"/>
          <p:cNvPicPr/>
          <p:nvPr/>
        </p:nvPicPr>
        <p:blipFill>
          <a:blip r:embed="rId4"/>
          <a:stretch/>
        </p:blipFill>
        <p:spPr>
          <a:xfrm>
            <a:off x="5148360" y="1628640"/>
            <a:ext cx="374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547640" y="476280"/>
            <a:ext cx="57610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осиновики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9" descr="Изображение 004"/>
          <p:cNvPicPr/>
          <p:nvPr/>
        </p:nvPicPr>
        <p:blipFill>
          <a:blip r:embed="rId4"/>
          <a:stretch/>
        </p:blipFill>
        <p:spPr>
          <a:xfrm>
            <a:off x="2484360" y="1484280"/>
            <a:ext cx="4392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лята</a:t>
            </a:r>
            <a:endParaRPr b="1" lang="en-US" sz="24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Картузик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небольша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уражка, мужск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ловной уб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 жёстким  козырьком.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Изображение"/>
          <p:cNvPicPr/>
          <p:nvPr/>
        </p:nvPicPr>
        <p:blipFill>
          <a:blip r:embed="rId4"/>
          <a:stretch/>
        </p:blipFill>
        <p:spPr>
          <a:xfrm>
            <a:off x="5022720" y="1600200"/>
            <a:ext cx="37260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ыроежки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Изображение 001"/>
          <p:cNvPicPr/>
          <p:nvPr/>
        </p:nvPicPr>
        <p:blipFill>
          <a:blip r:embed="rId3"/>
          <a:stretch/>
        </p:blipFill>
        <p:spPr>
          <a:xfrm>
            <a:off x="2771640" y="1628640"/>
            <a:ext cx="374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ы                            сырое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цы                            масл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тцы                        подосинов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стрицы                     боров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 rot="1809600">
            <a:off x="2491920" y="3271680"/>
            <a:ext cx="3362400" cy="149400"/>
          </a:xfrm>
          <a:prstGeom prst="rightArrow">
            <a:avLst>
              <a:gd name="adj1" fmla="val 50000"/>
              <a:gd name="adj2" fmla="val 5626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808800">
            <a:off x="2555640" y="3284640"/>
            <a:ext cx="2949480" cy="144360"/>
          </a:xfrm>
          <a:prstGeom prst="rightArrow">
            <a:avLst>
              <a:gd name="adj1" fmla="val 50000"/>
              <a:gd name="adj2" fmla="val 5107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 flipV="1" rot="21130800">
            <a:off x="3053880" y="3349080"/>
            <a:ext cx="2594160" cy="141480"/>
          </a:xfrm>
          <a:prstGeom prst="rightArrow">
            <a:avLst>
              <a:gd name="adj1" fmla="val 50000"/>
              <a:gd name="adj2" fmla="val 4583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 flipV="1" rot="19749600">
            <a:off x="3081240" y="3225960"/>
            <a:ext cx="2814480" cy="136440"/>
          </a:xfrm>
          <a:prstGeom prst="rightArrow">
            <a:avLst>
              <a:gd name="adj1" fmla="val 50000"/>
              <a:gd name="adj2" fmla="val 515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08:42Z</dcterms:created>
  <dc:creator>Дима</dc:creator>
  <dc:description/>
  <dc:language>en-US</dc:language>
  <cp:lastModifiedBy>Alex</cp:lastModifiedBy>
  <dcterms:modified xsi:type="dcterms:W3CDTF">2015-05-11T12:38:22Z</dcterms:modified>
  <cp:revision>19</cp:revision>
  <dc:subject/>
  <dc:title>                                            15 ноября                                            2007 года</dc:title>
</cp:coreProperties>
</file>