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E43-2A0E-4F9A-9E65-EF5D7B8C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625-145E-4A21-BFB1-046D9FFD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614-45A7-4355-965C-B4FFC8A4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9EE-A42E-413D-A441-098B7787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5E10-6682-4C60-8C32-94C03B45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E9E1-99F2-4D52-AE9C-4FE6423A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DF3E-F7C8-4DDF-A08A-924238AA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1003-77AE-4B80-AC4B-79FF3890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6F5A-86C9-403D-AD15-0E196C09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1D21-615F-4637-BC7B-324021E2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C1F5-4CA4-4510-BF2B-BC25464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87B-602D-49B4-AD01-1CC3834E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DE09-2214-45F8-B61C-E8D2C76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E046-2E3C-4842-996F-FD072481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B3A9-1502-4CB2-965E-000EA409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64D7-C1D9-45DB-BE17-F062A9C0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9F5C-4D82-46C4-AB6E-81573B9B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29E-7273-480E-96C1-04DFB77B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E6D-8213-4123-8FE7-3084EFB7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517-1755-42B9-9AFD-AAAFD216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5C9-0A59-4D7B-BB51-4C54F28F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1C3-296F-4F2E-8144-A82C2681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E88-722F-4F23-8AD8-25EB3E4A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59D-BB2D-41E1-A161-7AE43152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2AA9-8403-4614-BDE0-0C0371AF0E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2DA4-50E9-40DA-BA52-4B6BAB2732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М.Ю. Лермонтов</a:t>
            </a:r>
            <a:br>
              <a:rPr sz="4100"/>
            </a:b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«Ашик–Кериб»</a:t>
            </a:r>
            <a:br>
              <a:rPr sz="4100"/>
            </a:br>
            <a:r>
              <a:rPr b="0" i="1" lang="ru-RU" sz="2400" spc="-1" strike="noStrike">
                <a:solidFill>
                  <a:srgbClr val="336666"/>
                </a:solidFill>
                <a:latin typeface="Arial Black"/>
              </a:rPr>
              <a:t>Турецкая сказк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рок по литературному чт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4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Магуль-Мегер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3772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вышенными, кристально чистыми чувствами, верностью и благородством отличается и его возлюбленная Магуль-Мегери, дочь богатого турка. Несмотря на социальное неравенство, красавица всем сердцем полюбила бедного юношу. Нарушая строгие правила поведения, предписанные женщинам Востока, она сама пришла в дом возлюбленного. Магуль-Мегери смела, сообразительна, находчива, умеет добиваться своих целей. Она ни на йоту не отступила от клятвы, не потеряла веры в любовь. Девушка нашла способ напомнить юноше о сроке возвращения и не поверила в известие о его гибели, хотя были представлены ей вещественные доказательства. Все препятствия рушатся перед влюбленны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гуль-Мегери «поклялась умереть прежде, чем опустит голову на ложе Куршуд-бека». Значит, выдавали ее замуж насильно... Мы видим свадебный обряд, когда невеста сидит за занавеской, в то время как жених с гостями пирует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f_49a67cda0814f"/>
          <p:cNvPicPr/>
          <p:nvPr/>
        </p:nvPicPr>
        <p:blipFill>
          <a:blip r:embed="rId1"/>
          <a:stretch/>
        </p:blipFill>
        <p:spPr>
          <a:xfrm>
            <a:off x="4894200" y="1773360"/>
            <a:ext cx="3341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Ашик-Кериб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речив образ главного героя. Он беден, но обладает любящим, благородным сердцем, чудесными музыкальными способностями, лишен тщеславия и зависти. Несмотря на скромное положение, Ашик-Кериб полон чувства собственного достоинства, выше всего ценит свободу и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чувства к Магуль-Мигери притупились от богатства и славы, в результате чего он чуть не пропустил срок возвращения к своей возлюбл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2ЦОР"/>
          <p:cNvPicPr/>
          <p:nvPr/>
        </p:nvPicPr>
        <p:blipFill>
          <a:blip r:embed="rId1"/>
          <a:stretch/>
        </p:blipFill>
        <p:spPr>
          <a:xfrm>
            <a:off x="1098720" y="1905120"/>
            <a:ext cx="32684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ощ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5" name="Picture 6" descr="5_cr"/>
          <p:cNvPicPr/>
          <p:nvPr/>
        </p:nvPicPr>
        <p:blipFill>
          <a:blip r:embed="rId1"/>
          <a:stretch/>
        </p:blipFill>
        <p:spPr>
          <a:xfrm>
            <a:off x="914400" y="2443320"/>
            <a:ext cx="3467160" cy="2962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соперник Ашик-Кериба коварный Куршуд-бек в конце концов смиряется с судьбой и не позволяет брату причинить зло счастливым влюбленным, ибо понимает, что чистым и влюбленным сердцам ничто не может помешать соедин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шик-Кериб на радостях прощает Куршуд-бека и предлагает ему в жёны свою прекрасную сестру, обещая дать за ней богатое прида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Искушения</a:t>
            </a:r>
            <a:br>
              <a:rPr sz="2900"/>
            </a:br>
            <a:r>
              <a:rPr b="0" i="1" lang="ru-RU" sz="1800" spc="-1" strike="noStrike">
                <a:solidFill>
                  <a:srgbClr val="336666"/>
                </a:solidFill>
                <a:latin typeface="Arial Black"/>
              </a:rPr>
              <a:t>На чужом несчастье счастья не построишь.</a:t>
            </a:r>
            <a:br>
              <a:rPr sz="1800"/>
            </a:b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8" name="Picture 8" descr="Куршуд-бек"/>
          <p:cNvPicPr/>
          <p:nvPr/>
        </p:nvPicPr>
        <p:blipFill>
          <a:blip r:embed="rId1"/>
          <a:srcRect l="9655" t="0" r="15413" b="0"/>
          <a:stretch/>
        </p:blipFill>
        <p:spPr>
          <a:xfrm>
            <a:off x="1128600" y="1916280"/>
            <a:ext cx="3394080" cy="36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dehterev-lermontov-ashik-kerib-1-480x635"/>
          <p:cNvPicPr/>
          <p:nvPr/>
        </p:nvPicPr>
        <p:blipFill>
          <a:blip r:embed="rId2"/>
          <a:stretch/>
        </p:blipFill>
        <p:spPr>
          <a:xfrm>
            <a:off x="4788000" y="1916280"/>
            <a:ext cx="311148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Аллаха, пославшего святого Георг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1" name="Picture 8" descr="4цор_cr"/>
          <p:cNvPicPr/>
          <p:nvPr/>
        </p:nvPicPr>
        <p:blipFill>
          <a:blip r:embed="rId1"/>
          <a:stretch/>
        </p:blipFill>
        <p:spPr>
          <a:xfrm>
            <a:off x="971640" y="1989000"/>
            <a:ext cx="2733480" cy="381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_cr"/>
          <p:cNvPicPr/>
          <p:nvPr/>
        </p:nvPicPr>
        <p:blipFill>
          <a:blip r:embed="rId2"/>
          <a:stretch/>
        </p:blipFill>
        <p:spPr>
          <a:xfrm>
            <a:off x="5148360" y="1844640"/>
            <a:ext cx="3033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подруги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 Магуль-Мегер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друга Магуль-Мегери переживала за свою подругу, зная о её любви. Она разбудила спящего в саду Ашик-Кериба, чтобы влюблённые смогли поговорить. Именно тогда решилась их дальнейшая судьб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7_cr"/>
          <p:cNvPicPr/>
          <p:nvPr/>
        </p:nvPicPr>
        <p:blipFill>
          <a:blip r:embed="rId1"/>
          <a:stretch/>
        </p:blipFill>
        <p:spPr>
          <a:xfrm>
            <a:off x="4905360" y="2243160"/>
            <a:ext cx="3333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Ито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казка — ложь, да в ней намёк, добрым молодцам уро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3цор"/>
          <p:cNvPicPr/>
          <p:nvPr/>
        </p:nvPicPr>
        <p:blipFill>
          <a:blip r:embed="rId1"/>
          <a:stretch/>
        </p:blipFill>
        <p:spPr>
          <a:xfrm>
            <a:off x="2700360" y="3068640"/>
            <a:ext cx="36734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560" y="404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ихаил Юрьевич Лермонтов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(1814—1841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Picture 6" descr="ЦОР ЛЕРМОНТОВ"/>
          <p:cNvPicPr/>
          <p:nvPr/>
        </p:nvPicPr>
        <p:blipFill>
          <a:blip r:embed="rId1"/>
          <a:stretch/>
        </p:blipFill>
        <p:spPr>
          <a:xfrm>
            <a:off x="2700360" y="1773360"/>
            <a:ext cx="380196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6500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пиграф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т на свете силы более могущественной, чем любовь.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(И. Стравинский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бовь — это бесценный дар. Это единственная вещь, которую мы можем подарить и все же она у тебя остается.   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(Л. Толстой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бовь сильнее смерти и страха смерти. Только ею, только любовью держится и движется жизнь.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(И. Тургене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Актуализация ранее изученног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ение к известным биографическим фа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Пушкина, которому с ранних лет рассказывала сказки и пела песни Арина Родионовна, Лермонтова воспитывала немка Христиана Ремер, а гувернером был француз. Позднее поэт писал: «Как жалко, что у меня была мамушкой немка, а не русская: я не слыхал сказок народных». Только позднее, познакомившись с ними, нашел он, что в русских народных сказках «больше поэзии, чем во всей французской поэз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ервого появления в печати она входит в круг чтения детей, привлекая их занимательностью сюжета, необыкновенными коллизиями, благородством характеров, возвышенными чувствами, нравственной чистотой и преклонением перед искус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07560"/>
            <a:ext cx="76960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олковый словар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8446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трунный щипковый музыкальный инструмент, распространённый среди народов Закавказья, Ирана, Турции и некоторых друг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л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мальчик, па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ян-А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знатный госп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у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торож, рассы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ш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балалаеч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дерили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вятой Геор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7600" y="663120"/>
            <a:ext cx="71964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66"/>
                </a:solidFill>
                <a:latin typeface="Arial Black"/>
              </a:rPr>
              <a:t>Обложка книг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9" name="Picture 8" descr="1ЦОР"/>
          <p:cNvPicPr/>
          <p:nvPr/>
        </p:nvPicPr>
        <p:blipFill>
          <a:blip r:embed="rId1"/>
          <a:stretch/>
        </p:blipFill>
        <p:spPr>
          <a:xfrm>
            <a:off x="2916360" y="1268280"/>
            <a:ext cx="351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История создания сказ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ь сказки «Ашик-Кериб» обнаружена среди бумаг М.Ю.Лермонтова после его смерти. Она представляет собой только текст сказки, как предполагается, слышанной Лермонтовым в 1837 году. Лермонтовский «Ашик-Кериб» представляет азербайджанский вариант восточного сказания, бытующего в многочисленных национальных версиях. Лермонтов дал своему тексту подзаголовок «турецкая сказ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снове сказания об Ашик-Керибе лежит международный сюжет «возвращения мужа на свадебный пир жены». Этот сюжет представляет собой завершение классического развития ситуации: «любовь – разлука – верность (как правило, искушаемая) – счастливая встреч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матер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50920" y="1905120"/>
            <a:ext cx="4606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воими речами ты изрезал сердце моё в куски. Нынешнюю ночь я во сне видела, что на голове моей волосы побелели, а вот уж семь лет я ослепла от слёз. Скажи мне ты, который имеет его голос, когда мой сын придёт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важды со слезами она повторила ему просьб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11_cr"/>
          <p:cNvPicPr/>
          <p:nvPr/>
        </p:nvPicPr>
        <p:blipFill>
          <a:blip r:embed="rId1"/>
          <a:stretch/>
        </p:blipFill>
        <p:spPr>
          <a:xfrm>
            <a:off x="826920" y="1844640"/>
            <a:ext cx="27482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сест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5" descr="8_cr"/>
          <p:cNvPicPr/>
          <p:nvPr/>
        </p:nvPicPr>
        <p:blipFill>
          <a:blip r:embed="rId1"/>
          <a:stretch/>
        </p:blipFill>
        <p:spPr>
          <a:xfrm>
            <a:off x="826920" y="1844640"/>
            <a:ext cx="262440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51280" y="1916280"/>
            <a:ext cx="4608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Ашик-Кериб уходил странствовать, его сестра была ещё маленькой девочкой. За семь лет отсутствия брата, она превратилась в прекрасную дев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годы изменили её брата, сердце подсказывало ей, что это он. Она даже ослушалась несколько раз мать и впустила странника в дом, дала ему сааз, позволила на нём играть и первая сообщила матери о том, что её сын действительно вернулся ж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8:45:31Z</dcterms:created>
  <dc:creator>Людмила Ренжина</dc:creator>
  <dc:description/>
  <dc:language>en-US</dc:language>
  <cp:lastModifiedBy>DNA7 X86</cp:lastModifiedBy>
  <dcterms:modified xsi:type="dcterms:W3CDTF">2015-02-16T18:34:41Z</dcterms:modified>
  <cp:revision>8</cp:revision>
  <dc:subject/>
  <dc:title>М.Ю.Лермонтов «Ашик–Кериб» Турецкая сказка</dc:title>
</cp:coreProperties>
</file>