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05D-A5A5-4E99-A4DC-E655B465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5CB-29B7-40B1-8683-4B1DF7B6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4E7-7A8D-4A4B-9468-6A23067F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27C-D711-485F-ACB7-D59DB190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67B1-50BB-47D7-B2E0-2887C12F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D84-7C20-4A2E-B32B-EEA5AB1E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3D7-420A-44DC-B6DF-6557331E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1E3-F7F5-44F2-AAA6-42E025CF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D177-D44C-4DB8-9994-CDDB1691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0D7-CC3E-45E5-AC01-758C850C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8BE4-4417-491E-B5B2-1468A39D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D11-0E20-47DD-9EEF-A22079A3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2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54A4-8AA4-4B29-8A3E-915ED985D1C7}" type="datetime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67DB-2631-456C-9720-123BF51E9BEC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Здравствуйте, ребята!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Цели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научиться делить число 0 на натуральное число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Times New Roman"/>
              </a:rPr>
              <a:t>Упражнение 103</a:t>
            </a:r>
            <a:endParaRPr b="0" lang="en-US" sz="7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25909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(8-4*2):( 145687+156987+263489)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19051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1981080"/>
            <a:ext cx="3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9051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0574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21337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28600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</a:rPr>
              <a:t>Проверка</a:t>
            </a:r>
            <a:endParaRPr b="0" lang="en-US" sz="9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1905120"/>
            <a:ext cx="69343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01"/>
              </a:spcBef>
              <a:buClr>
                <a:srgbClr val="33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36699"/>
                </a:solidFill>
                <a:latin typeface="Times New Roman"/>
              </a:rPr>
              <a:t>8</a:t>
            </a:r>
            <a:endParaRPr b="0" lang="en-US" sz="96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spcBef>
                <a:spcPts val="6001"/>
              </a:spcBef>
              <a:buClr>
                <a:srgbClr val="336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36699"/>
                </a:solidFill>
                <a:latin typeface="Times New Roman"/>
              </a:rPr>
              <a:t>0</a:t>
            </a:r>
            <a:endParaRPr b="0" lang="en-US" sz="9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Упражнение 104</a:t>
            </a:r>
            <a:endParaRPr b="0" lang="en-US" sz="6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1752480"/>
            <a:ext cx="731520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6699"/>
                </a:solidFill>
                <a:latin typeface="Times New Roman"/>
              </a:rPr>
              <a:t>Х:256897=0</a:t>
            </a: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Times New Roman"/>
              </a:rPr>
              <a:t>Х=0*256897</a:t>
            </a: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Times New Roman"/>
              </a:rPr>
              <a:t>Х=0</a:t>
            </a: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6699"/>
                </a:solidFill>
                <a:latin typeface="Times New Roman"/>
              </a:rPr>
              <a:t>      </a:t>
            </a:r>
            <a:endParaRPr b="0" lang="en-US" sz="6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Упражнение 105</a:t>
            </a:r>
            <a:endParaRPr b="0" lang="en-US" sz="7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251460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(263548+698751-962299):15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182880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198108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43800" y="182880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</a:rPr>
              <a:t>Проверка:</a:t>
            </a:r>
            <a:endParaRPr b="0" lang="en-US" sz="9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2133720"/>
            <a:ext cx="64767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962299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Упражнение 108</a:t>
            </a:r>
            <a:endParaRPr b="0" lang="en-US" sz="7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17524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Дано: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Times New Roman"/>
              </a:rPr>
              <a:t>Упражнение 61</a:t>
            </a:r>
            <a:endParaRPr b="0" lang="en-US" sz="7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2209680"/>
            <a:ext cx="57150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6699"/>
                </a:solidFill>
                <a:latin typeface="Times New Roman"/>
              </a:rPr>
              <a:t>Х:53=0</a:t>
            </a:r>
            <a:endParaRPr b="0" lang="en-US" sz="6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99"/>
                </a:solidFill>
                <a:latin typeface="Times New Roman"/>
              </a:rPr>
              <a:t>Х= 0*53</a:t>
            </a:r>
            <a:endParaRPr b="0" lang="en-US" sz="6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99"/>
                </a:solidFill>
                <a:latin typeface="Times New Roman"/>
              </a:rPr>
              <a:t>Х=0</a:t>
            </a:r>
            <a:endParaRPr b="0" lang="en-US" sz="6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00cc"/>
                </a:solidFill>
                <a:latin typeface="Times New Roman"/>
              </a:rPr>
              <a:t>Проверка</a:t>
            </a:r>
            <a:endParaRPr b="0" lang="en-US" sz="9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2438280"/>
            <a:ext cx="60199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99"/>
                </a:solidFill>
                <a:latin typeface="Times New Roman"/>
              </a:rPr>
              <a:t>Х:9001=0</a:t>
            </a:r>
            <a:endParaRPr b="0" lang="en-US" sz="6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cc"/>
                </a:solidFill>
                <a:latin typeface="Times New Roman"/>
              </a:rPr>
              <a:t>Х= 0*9001</a:t>
            </a:r>
            <a:endParaRPr b="0" lang="en-US" sz="6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cc"/>
                </a:solidFill>
                <a:latin typeface="Times New Roman"/>
              </a:rPr>
              <a:t>Х=0</a:t>
            </a:r>
            <a:endParaRPr b="0" lang="en-US" sz="6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Times New Roman"/>
              </a:rPr>
              <a:t>Домашнее задание</a:t>
            </a:r>
            <a:endParaRPr b="0" lang="en-US" sz="6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2209680"/>
            <a:ext cx="7391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99"/>
                </a:solidFill>
                <a:latin typeface="Times New Roman"/>
              </a:rPr>
              <a:t>Уч. стр. 40 №107 (по желанию) Р.т. стр. 29 №60,62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Times New Roman"/>
              </a:rPr>
              <a:t>Таблица умножения на 9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213372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Times New Roman"/>
              </a:rPr>
              <a:t>18, 27, 32, 36, 45, 54,63</a:t>
            </a: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Цели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- Научиться делить число 0 на натуральное число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05120" y="13716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Times New Roman"/>
              </a:rPr>
              <a:t>До свидания!</a:t>
            </a:r>
            <a:endParaRPr b="0" lang="en-US" sz="7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Times New Roman"/>
              </a:rPr>
              <a:t>Таблица умножения на 9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13372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Times New Roman"/>
              </a:rPr>
              <a:t>18, 27, </a:t>
            </a:r>
            <a:r>
              <a:rPr b="1" lang="ru-RU" sz="5400" spc="-1" strike="noStrike">
                <a:solidFill>
                  <a:srgbClr val="000099"/>
                </a:solidFill>
                <a:latin typeface="Times New Roman"/>
              </a:rPr>
              <a:t>32</a:t>
            </a:r>
            <a:r>
              <a:rPr b="1" lang="ru-RU" sz="5400" spc="-1" strike="noStrike">
                <a:solidFill>
                  <a:srgbClr val="336699"/>
                </a:solidFill>
                <a:latin typeface="Times New Roman"/>
              </a:rPr>
              <a:t>, 36, 45, 54,63</a:t>
            </a: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52480" y="18288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Times New Roman"/>
              </a:rPr>
              <a:t>10, 20, 30, 40, 50, 60, 69</a:t>
            </a: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18288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Times New Roman"/>
              </a:rPr>
              <a:t>10, 20, 30, 40, 50, 60, </a:t>
            </a:r>
            <a:r>
              <a:rPr b="1" lang="ru-RU" sz="5400" spc="-1" strike="noStrike">
                <a:solidFill>
                  <a:srgbClr val="000099"/>
                </a:solidFill>
                <a:latin typeface="Times New Roman"/>
              </a:rPr>
              <a:t>69</a:t>
            </a: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18288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Times New Roman"/>
              </a:rPr>
              <a:t>10, 20, 30, 40, 50, 60, </a:t>
            </a:r>
            <a:r>
              <a:rPr b="1" lang="ru-RU" sz="5400" spc="-1" strike="noStrike">
                <a:solidFill>
                  <a:srgbClr val="000099"/>
                </a:solidFill>
                <a:latin typeface="Times New Roman"/>
              </a:rPr>
              <a:t>70</a:t>
            </a: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28800" y="175248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6699"/>
                </a:solidFill>
                <a:latin typeface="Times New Roman"/>
              </a:rPr>
              <a:t>0:5  0:9  0:2  0:10    0:15</a:t>
            </a: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05120" y="457200"/>
            <a:ext cx="5181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6699"/>
                </a:solidFill>
                <a:latin typeface="Times New Roman"/>
              </a:rPr>
              <a:t>0:5</a:t>
            </a:r>
            <a:endParaRPr b="0" lang="en-US" sz="9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6699"/>
                </a:solidFill>
                <a:latin typeface="Times New Roman"/>
              </a:rPr>
              <a:t>Х*5=0</a:t>
            </a:r>
            <a:endParaRPr b="0" lang="en-US" sz="9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6699"/>
                </a:solidFill>
                <a:latin typeface="Times New Roman"/>
              </a:rPr>
              <a:t>Х=0</a:t>
            </a:r>
            <a:endParaRPr b="0" lang="en-US" sz="9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6699"/>
                </a:solidFill>
                <a:latin typeface="Times New Roman"/>
              </a:rPr>
              <a:t>0:5=0</a:t>
            </a:r>
            <a:endParaRPr b="0" lang="en-US" sz="9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cc"/>
                </a:solidFill>
                <a:latin typeface="Times New Roman"/>
              </a:rPr>
              <a:t>Деление числа 0 на натуральное число.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toBVT</cp:lastModifiedBy>
  <dcterms:modified xsi:type="dcterms:W3CDTF">2014-02-17T16:49:4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