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4EFC-B09E-480B-BBF0-38A7A410B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9BC1-C432-4A9C-9DBB-CC63F0E9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7882-812F-4F55-9C29-6AA4EEB32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6E03-53D6-4D59-9E02-33AD30B18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F880-313D-4CA8-859B-04BA3A8DB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12FB-099E-4005-A0B6-A0541039F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873B-9A92-49CA-9A37-2F7EE8BD6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3A29-490C-45D8-8F40-3B74CAAC6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9CA7-5293-4543-9295-435A16B25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4C84-7492-46C9-A6F2-097D9728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1D58-5E17-4F33-A716-DCA65F61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FBFF-08B5-47F4-AFC8-5F1BC3EA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1" name="Arc 2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432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" name="Rectangle 4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01FB6-FCD5-434D-B5AC-9365EC494B84}" type="datetime"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B0B40-51D2-4575-A4AF-A53DAD659A5F}" type="slidenum"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Здравствуйте, ребята!</a:t>
            </a:r>
            <a:endParaRPr b="0" lang="en-US" sz="5400" spc="-1" strike="noStrike">
              <a:solidFill>
                <a:srgbClr val="0066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Times New Roman"/>
              </a:rPr>
              <a:t>Цели: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научиться делить число 0 на натуральное число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;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66ff"/>
                </a:solidFill>
                <a:latin typeface="Times New Roman"/>
              </a:rPr>
              <a:t>Упражнение 103</a:t>
            </a:r>
            <a:endParaRPr b="0" lang="en-US" sz="7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19320" y="259092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99"/>
                </a:solidFill>
                <a:latin typeface="Times New Roman"/>
              </a:rPr>
              <a:t>(8-4*2):( 145687+156987+263489)</a:t>
            </a:r>
            <a:endParaRPr b="0" lang="en-US" sz="4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0" y="1905120"/>
            <a:ext cx="38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52480" y="1981080"/>
            <a:ext cx="38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190512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76920" y="205740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21337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95480" y="2286000"/>
            <a:ext cx="30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transition>
    <p:push dir="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Times New Roman"/>
              </a:rPr>
              <a:t>Проверка</a:t>
            </a:r>
            <a:endParaRPr b="0" lang="en-US" sz="9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28800" y="1905120"/>
            <a:ext cx="693432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01"/>
              </a:spcBef>
              <a:buClr>
                <a:srgbClr val="3366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336699"/>
                </a:solidFill>
                <a:latin typeface="Times New Roman"/>
              </a:rPr>
              <a:t>8</a:t>
            </a:r>
            <a:endParaRPr b="0" lang="en-US" sz="96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spcBef>
                <a:spcPts val="6001"/>
              </a:spcBef>
              <a:buClr>
                <a:srgbClr val="3366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336699"/>
                </a:solidFill>
                <a:latin typeface="Times New Roman"/>
              </a:rPr>
              <a:t>0</a:t>
            </a:r>
            <a:endParaRPr b="0" lang="en-US" sz="96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transition>
    <p:push dir="d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</a:rPr>
              <a:t>Упражнение 104</a:t>
            </a:r>
            <a:endParaRPr b="0" lang="en-US" sz="6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00200" y="1752480"/>
            <a:ext cx="7315200" cy="49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6699"/>
                </a:solidFill>
                <a:latin typeface="Times New Roman"/>
              </a:rPr>
              <a:t>Х:256897=0</a:t>
            </a:r>
            <a:endParaRPr b="0" lang="en-US" sz="5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00"/>
                </a:solidFill>
                <a:latin typeface="Times New Roman"/>
              </a:rPr>
              <a:t>Х=0*256897</a:t>
            </a:r>
            <a:endParaRPr b="0" lang="en-US" sz="5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00"/>
                </a:solidFill>
                <a:latin typeface="Times New Roman"/>
              </a:rPr>
              <a:t>Х=0</a:t>
            </a:r>
            <a:endParaRPr b="0" lang="en-US" sz="5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336699"/>
                </a:solidFill>
                <a:latin typeface="Times New Roman"/>
              </a:rPr>
              <a:t>      </a:t>
            </a:r>
            <a:endParaRPr b="0" lang="en-US" sz="66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transition>
    <p:push dir="d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</a:rPr>
              <a:t>Упражнение 105</a:t>
            </a:r>
            <a:endParaRPr b="0" lang="en-US" sz="7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76520" y="251460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99"/>
                </a:solidFill>
                <a:latin typeface="Times New Roman"/>
              </a:rPr>
              <a:t>(263548+698751-962299):15</a:t>
            </a:r>
            <a:endParaRPr b="0" lang="en-US" sz="4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62520" y="1828800"/>
            <a:ext cx="3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638680" y="1981080"/>
            <a:ext cx="30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543800" y="1828800"/>
            <a:ext cx="30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transition>
    <p:push dir="d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2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Times New Roman"/>
              </a:rPr>
              <a:t>Проверка:</a:t>
            </a:r>
            <a:endParaRPr b="0" lang="en-US" sz="9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2133720"/>
            <a:ext cx="647676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999"/>
              </a:spcBef>
              <a:buClr>
                <a:srgbClr val="0000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Times New Roman"/>
              </a:rPr>
              <a:t>962299</a:t>
            </a:r>
            <a:endParaRPr b="0" lang="en-US" sz="48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spcBef>
                <a:spcPts val="2999"/>
              </a:spcBef>
              <a:buClr>
                <a:srgbClr val="0000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000099"/>
                </a:solidFill>
                <a:latin typeface="Times New Roman"/>
              </a:rPr>
              <a:t>0</a:t>
            </a:r>
            <a:endParaRPr b="0" lang="en-US" sz="48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spcBef>
                <a:spcPts val="2999"/>
              </a:spcBef>
              <a:buClr>
                <a:srgbClr val="0000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000099"/>
                </a:solidFill>
                <a:latin typeface="Times New Roman"/>
              </a:rPr>
              <a:t>0</a:t>
            </a:r>
            <a:endParaRPr b="0" lang="en-US" sz="48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spcBef>
                <a:spcPts val="2999"/>
              </a:spcBef>
              <a:buClr>
                <a:srgbClr val="0000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transition>
    <p:push dir="d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</a:rPr>
              <a:t>Упражнение 108</a:t>
            </a:r>
            <a:endParaRPr b="0" lang="en-US" sz="7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33720" y="1752480"/>
            <a:ext cx="6324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99"/>
                </a:solidFill>
                <a:latin typeface="Times New Roman"/>
              </a:rPr>
              <a:t>Дано:</a:t>
            </a:r>
            <a:endParaRPr b="0" lang="en-US" sz="40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66ff"/>
                </a:solidFill>
                <a:latin typeface="Times New Roman"/>
              </a:rPr>
              <a:t>Упражнение 61</a:t>
            </a:r>
            <a:endParaRPr b="0" lang="en-US" sz="7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2209680"/>
            <a:ext cx="571500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336699"/>
                </a:solidFill>
                <a:latin typeface="Times New Roman"/>
              </a:rPr>
              <a:t>Х:53=0</a:t>
            </a:r>
            <a:endParaRPr b="0" lang="en-US" sz="66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99"/>
                </a:solidFill>
                <a:latin typeface="Times New Roman"/>
              </a:rPr>
              <a:t>Х= 0*53</a:t>
            </a:r>
            <a:endParaRPr b="0" lang="en-US" sz="66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99"/>
                </a:solidFill>
                <a:latin typeface="Times New Roman"/>
              </a:rPr>
              <a:t>Х=0</a:t>
            </a:r>
            <a:endParaRPr b="0" lang="en-US" sz="66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transition>
    <p:push dir="d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6600cc"/>
                </a:solidFill>
                <a:latin typeface="Times New Roman"/>
              </a:rPr>
              <a:t>Проверка</a:t>
            </a:r>
            <a:endParaRPr b="0" lang="en-US" sz="9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57400" y="2438280"/>
            <a:ext cx="601992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6699"/>
                </a:solidFill>
                <a:latin typeface="Times New Roman"/>
              </a:rPr>
              <a:t>Х:9001=0</a:t>
            </a:r>
            <a:endParaRPr b="0" lang="en-US" sz="60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6600cc"/>
                </a:solidFill>
                <a:latin typeface="Times New Roman"/>
              </a:rPr>
              <a:t>Х= 0*9001</a:t>
            </a:r>
            <a:endParaRPr b="0" lang="en-US" sz="60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6600cc"/>
                </a:solidFill>
                <a:latin typeface="Times New Roman"/>
              </a:rPr>
              <a:t>Х=0</a:t>
            </a:r>
            <a:endParaRPr b="0" lang="en-US" sz="60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transition>
    <p:push dir="d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cc"/>
                </a:solidFill>
                <a:latin typeface="Times New Roman"/>
              </a:rPr>
              <a:t>Домашнее задание</a:t>
            </a:r>
            <a:endParaRPr b="0" lang="en-US" sz="6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00200" y="2209680"/>
            <a:ext cx="7391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6699"/>
                </a:solidFill>
                <a:latin typeface="Times New Roman"/>
              </a:rPr>
              <a:t>Уч. стр. 40 №107 (по желанию) Р.т. стр. 29 №60,62</a:t>
            </a:r>
            <a:endParaRPr b="0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ff"/>
                </a:solidFill>
                <a:latin typeface="Times New Roman"/>
              </a:rPr>
              <a:t>Таблица умножения на 9</a:t>
            </a:r>
            <a:endParaRPr b="0" lang="en-US" sz="4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2133720"/>
            <a:ext cx="73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6699"/>
                </a:solidFill>
                <a:latin typeface="Times New Roman"/>
              </a:rPr>
              <a:t>18, 27, 32, 36, 45, 54,63</a:t>
            </a:r>
            <a:endParaRPr b="0" lang="en-US" sz="5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Times New Roman"/>
              </a:rPr>
              <a:t>Цели: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- Научиться делить число 0 на натуральное число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push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905120" y="137160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6600"/>
                </a:solidFill>
                <a:latin typeface="Times New Roman"/>
              </a:rPr>
              <a:t>До свидания!</a:t>
            </a:r>
            <a:endParaRPr b="0" lang="en-US" sz="72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ff"/>
                </a:solidFill>
                <a:latin typeface="Times New Roman"/>
              </a:rPr>
              <a:t>Таблица умножения на 9</a:t>
            </a:r>
            <a:endParaRPr b="0" lang="en-US" sz="4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0200" y="2133720"/>
            <a:ext cx="73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6699"/>
                </a:solidFill>
                <a:latin typeface="Times New Roman"/>
              </a:rPr>
              <a:t>18, 27, </a:t>
            </a:r>
            <a:r>
              <a:rPr b="1" lang="ru-RU" sz="5400" spc="-1" strike="noStrike">
                <a:solidFill>
                  <a:srgbClr val="000099"/>
                </a:solidFill>
                <a:latin typeface="Times New Roman"/>
              </a:rPr>
              <a:t>32</a:t>
            </a:r>
            <a:r>
              <a:rPr b="1" lang="ru-RU" sz="5400" spc="-1" strike="noStrike">
                <a:solidFill>
                  <a:srgbClr val="336699"/>
                </a:solidFill>
                <a:latin typeface="Times New Roman"/>
              </a:rPr>
              <a:t>, 36, 45, 54,63</a:t>
            </a:r>
            <a:endParaRPr b="0" lang="en-US" sz="5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52480" y="182880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6699"/>
                </a:solidFill>
                <a:latin typeface="Times New Roman"/>
              </a:rPr>
              <a:t>10, 20, 30, 40, 50, 60, 69</a:t>
            </a:r>
            <a:endParaRPr b="0" lang="en-US" sz="5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752480" y="182880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6699"/>
                </a:solidFill>
                <a:latin typeface="Times New Roman"/>
              </a:rPr>
              <a:t>10, 20, 30, 40, 50, 60, </a:t>
            </a:r>
            <a:r>
              <a:rPr b="1" lang="ru-RU" sz="5400" spc="-1" strike="noStrike">
                <a:solidFill>
                  <a:srgbClr val="000099"/>
                </a:solidFill>
                <a:latin typeface="Times New Roman"/>
              </a:rPr>
              <a:t>69</a:t>
            </a:r>
            <a:endParaRPr b="0" lang="en-US" sz="5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752480" y="182880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6699"/>
                </a:solidFill>
                <a:latin typeface="Times New Roman"/>
              </a:rPr>
              <a:t>10, 20, 30, 40, 50, 60, </a:t>
            </a:r>
            <a:r>
              <a:rPr b="1" lang="ru-RU" sz="5400" spc="-1" strike="noStrike">
                <a:solidFill>
                  <a:srgbClr val="000099"/>
                </a:solidFill>
                <a:latin typeface="Times New Roman"/>
              </a:rPr>
              <a:t>70</a:t>
            </a:r>
            <a:endParaRPr b="0" lang="en-US" sz="5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828800" y="1752480"/>
            <a:ext cx="716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6699"/>
                </a:solidFill>
                <a:latin typeface="Times New Roman"/>
              </a:rPr>
              <a:t>0:5  0:9  0:2  0:10    0:15</a:t>
            </a:r>
            <a:endParaRPr b="0" lang="en-US" sz="5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905120" y="457200"/>
            <a:ext cx="5181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336699"/>
                </a:solidFill>
                <a:latin typeface="Times New Roman"/>
              </a:rPr>
              <a:t>0:5</a:t>
            </a:r>
            <a:endParaRPr b="0" lang="en-US" sz="96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336699"/>
                </a:solidFill>
                <a:latin typeface="Times New Roman"/>
              </a:rPr>
              <a:t>Х*5=0</a:t>
            </a:r>
            <a:endParaRPr b="0" lang="en-US" sz="96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336699"/>
                </a:solidFill>
                <a:latin typeface="Times New Roman"/>
              </a:rPr>
              <a:t>Х=0</a:t>
            </a:r>
            <a:endParaRPr b="0" lang="en-US" sz="96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336699"/>
                </a:solidFill>
                <a:latin typeface="Times New Roman"/>
              </a:rPr>
              <a:t>0:5=0</a:t>
            </a:r>
            <a:endParaRPr b="0" lang="en-US" sz="96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transition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cc"/>
                </a:solidFill>
                <a:latin typeface="Times New Roman"/>
              </a:rPr>
              <a:t>Деление числа 0 на натуральное число.</a:t>
            </a:r>
            <a:endParaRPr b="0" lang="en-US" sz="5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utoBVT</cp:lastModifiedBy>
  <dcterms:modified xsi:type="dcterms:W3CDTF">2014-02-17T16:49:49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