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02B-D2C1-4D45-9E14-14C5AC17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4C4-D165-4F65-9704-6289C2F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C1E-64C9-4F44-8368-81164B40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C35-F422-430F-A62F-75C477E2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5FD9-4D54-48D8-99D5-216DDF23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01A5-A072-421A-8935-9C54721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DEA-5284-4EC6-8FF6-29FF4E2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13FE-D868-435E-AAB2-E73898BC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16C-6F08-46F6-B6A5-CB76DD8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5420-E2E9-4DED-8CE3-BB8B9436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FF09-429B-4D90-A122-14CBD26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66F-A4F2-4B40-BF3F-B32D6B53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038C-4D61-49C2-997C-3DD1785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FF2B-8D47-4603-8A19-06A367C6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C78-05C6-4CA4-BFA1-F17B4150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37D0-9FA3-4F66-86E0-D7669A15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A01A-803F-4553-9AB3-0361744D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3B3-C450-405D-A262-66E4C25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598-38B3-4B1C-8844-6F56947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3B0-894F-4187-BBE8-ADA055F9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1AE-0F7F-4A1A-BBA6-912E794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ED6-4EAC-4BDB-BF17-267AA2F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D8E-84C3-41C0-AF18-AAD8EBD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E19-74FB-4CE1-91F8-772F50B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30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31AE-9099-40BB-8BD8-5814AD3F9B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1A2E-927D-4D6A-A99A-DC09A8A17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v.foto.radikal.ru/0703/41/acd76c604d2e.png"/>
          <p:cNvPicPr/>
          <p:nvPr/>
        </p:nvPicPr>
        <p:blipFill>
          <a:blip r:embed="rId3"/>
          <a:stretch/>
        </p:blipFill>
        <p:spPr>
          <a:xfrm>
            <a:off x="0" y="4726080"/>
            <a:ext cx="2057400" cy="2131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0C6-F13F-4921-BA34-DB7079541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769C-6364-4CC0-A672-EFE02808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тематика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  вокруг н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елей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ерево выше всех? Какое ниже все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тет ближе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6" descr="лес.jpg"/>
          <p:cNvPicPr/>
          <p:nvPr/>
        </p:nvPicPr>
        <p:blipFill>
          <a:blip r:embed="rId1"/>
          <a:stretch/>
        </p:blipFill>
        <p:spPr>
          <a:xfrm>
            <a:off x="1295280" y="762120"/>
            <a:ext cx="58006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время суток на карти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по порядку время суток начиная с но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6" descr="время суток.jpg"/>
          <p:cNvPicPr/>
          <p:nvPr/>
        </p:nvPicPr>
        <p:blipFill>
          <a:blip r:embed="rId1"/>
          <a:srcRect l="51392" t="0" r="0" b="68110"/>
          <a:stretch/>
        </p:blipFill>
        <p:spPr>
          <a:xfrm>
            <a:off x="6248520" y="582480"/>
            <a:ext cx="259236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время суток.jpg"/>
          <p:cNvPicPr/>
          <p:nvPr/>
        </p:nvPicPr>
        <p:blipFill>
          <a:blip r:embed="rId2"/>
          <a:srcRect l="0" t="34055" r="50002" b="36332"/>
          <a:stretch/>
        </p:blipFill>
        <p:spPr>
          <a:xfrm>
            <a:off x="228600" y="5731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83808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581280" y="3200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6" descr="время суток.jpg"/>
          <p:cNvPicPr/>
          <p:nvPr/>
        </p:nvPicPr>
        <p:blipFill>
          <a:blip r:embed="rId3"/>
          <a:srcRect l="0" t="0" r="50002" b="68110"/>
          <a:stretch/>
        </p:blipFill>
        <p:spPr>
          <a:xfrm>
            <a:off x="3390840" y="573120"/>
            <a:ext cx="266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337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у какой девочки длинные волосы, а у какой корот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6" descr="прическа 1.jpg"/>
          <p:cNvPicPr/>
          <p:nvPr/>
        </p:nvPicPr>
        <p:blipFill>
          <a:blip r:embed="rId1"/>
          <a:srcRect l="50013" t="0" r="0" b="7648"/>
          <a:stretch/>
        </p:blipFill>
        <p:spPr>
          <a:xfrm>
            <a:off x="5257800" y="762120"/>
            <a:ext cx="2590920" cy="2824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прическая 2.jpg"/>
          <p:cNvPicPr/>
          <p:nvPr/>
        </p:nvPicPr>
        <p:blipFill>
          <a:blip r:embed="rId2"/>
          <a:srcRect l="0" t="0" r="0" b="25481"/>
          <a:stretch/>
        </p:blipFill>
        <p:spPr>
          <a:xfrm>
            <a:off x="1828800" y="762120"/>
            <a:ext cx="2666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ом низкий, а какой высокий? Пока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доме много этажей, а в каком од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6" descr="дом высокий.jpg"/>
          <p:cNvPicPr/>
          <p:nvPr/>
        </p:nvPicPr>
        <p:blipFill>
          <a:blip r:embed="rId1"/>
          <a:stretch/>
        </p:blipFill>
        <p:spPr>
          <a:xfrm>
            <a:off x="380880" y="1066680"/>
            <a:ext cx="3648240" cy="2367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дом низкий.jpg"/>
          <p:cNvPicPr/>
          <p:nvPr/>
        </p:nvPicPr>
        <p:blipFill>
          <a:blip r:embed="rId2"/>
          <a:stretch/>
        </p:blipFill>
        <p:spPr>
          <a:xfrm>
            <a:off x="4376880" y="1066680"/>
            <a:ext cx="3595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2096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ого цвета узкая л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ого цвета широкая ле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6" descr="ленты.jpg"/>
          <p:cNvPicPr/>
          <p:nvPr/>
        </p:nvPicPr>
        <p:blipFill>
          <a:blip r:embed="rId1"/>
          <a:stretch/>
        </p:blipFill>
        <p:spPr>
          <a:xfrm>
            <a:off x="2133720" y="457200"/>
            <a:ext cx="4895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286000" y="48765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ыш-башенок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башенка находится между  двумя красны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горки бы будешь дольше катить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6" descr="площадка.jpg"/>
          <p:cNvPicPr/>
          <p:nvPr/>
        </p:nvPicPr>
        <p:blipFill>
          <a:blip r:embed="rId1"/>
          <a:stretch/>
        </p:blipFill>
        <p:spPr>
          <a:xfrm>
            <a:off x="1600200" y="304920"/>
            <a:ext cx="5302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 МКОУ СОШ  №256 г.Фоки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читай, сколько этажей в до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 покажи окна, у которых не прямоугольная форма. Сколько таких око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го цвета д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дом.jpg"/>
          <p:cNvPicPr/>
          <p:nvPr/>
        </p:nvPicPr>
        <p:blipFill>
          <a:blip r:embed="rId1"/>
          <a:stretch/>
        </p:blipFill>
        <p:spPr>
          <a:xfrm>
            <a:off x="2133720" y="447840"/>
            <a:ext cx="4724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860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сервировку стола. Сколько гостей приглашено на ча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формы спинка у стулье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формы тарел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стол.JPG"/>
          <p:cNvPicPr/>
          <p:nvPr/>
        </p:nvPicPr>
        <p:blipFill>
          <a:blip r:embed="rId1"/>
          <a:srcRect l="0" t="0" r="0" b="10463"/>
          <a:stretch/>
        </p:blipFill>
        <p:spPr>
          <a:xfrm>
            <a:off x="1905120" y="380880"/>
            <a:ext cx="5613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зови цвета у светофо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колько знаков «пешеходный переход»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колько людей переходят дорог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колько цветов ты насчитал на знаке «пешеходный переход»? Назо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светофор.jpg"/>
          <p:cNvPicPr/>
          <p:nvPr/>
        </p:nvPicPr>
        <p:blipFill>
          <a:blip r:embed="rId1"/>
          <a:stretch/>
        </p:blipFill>
        <p:spPr>
          <a:xfrm>
            <a:off x="1676520" y="779400"/>
            <a:ext cx="51051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вощ самый длинный на рисун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омидоров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кого овоща листья больше у помидоров или огурц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огород.jpg"/>
          <p:cNvPicPr/>
          <p:nvPr/>
        </p:nvPicPr>
        <p:blipFill>
          <a:blip r:embed="rId1"/>
          <a:stretch/>
        </p:blipFill>
        <p:spPr>
          <a:xfrm>
            <a:off x="1523880" y="685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ы растут на клумбе ближе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ы растут на клумбе дальше всего от т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цветов ты видишь меньше все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6" descr="клумба.jpg"/>
          <p:cNvPicPr/>
          <p:nvPr/>
        </p:nvPicPr>
        <p:blipFill>
          <a:blip r:embed="rId1"/>
          <a:stretch/>
        </p:blipFill>
        <p:spPr>
          <a:xfrm>
            <a:off x="2382840" y="533520"/>
            <a:ext cx="3637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096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колько рядов шоколада ты види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формы плитки шокола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каком ряду находится твой любимый шокола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читай слева направо, которой по счету стоит шоколад «Аленка»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шоколад.jpg"/>
          <p:cNvPicPr/>
          <p:nvPr/>
        </p:nvPicPr>
        <p:blipFill>
          <a:blip r:embed="rId1"/>
          <a:stretch/>
        </p:blipFill>
        <p:spPr>
          <a:xfrm>
            <a:off x="1371600" y="533520"/>
            <a:ext cx="60958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в кормуш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сидит на кормуш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негирей с ярко-красной грудк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тиц смотри влево, а сколько вправ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6" descr="птицы.jpg"/>
          <p:cNvPicPr/>
          <p:nvPr/>
        </p:nvPicPr>
        <p:blipFill>
          <a:blip r:embed="rId1"/>
          <a:stretch/>
        </p:blipFill>
        <p:spPr>
          <a:xfrm>
            <a:off x="1752480" y="457200"/>
            <a:ext cx="488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3623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белых машин на стоян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асных маш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цвета машина находится ближе всего к теб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6" descr="автостоянка.jpg"/>
          <p:cNvPicPr/>
          <p:nvPr/>
        </p:nvPicPr>
        <p:blipFill>
          <a:blip r:embed="rId1"/>
          <a:stretch/>
        </p:blipFill>
        <p:spPr>
          <a:xfrm>
            <a:off x="1600200" y="914400"/>
            <a:ext cx="5224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mbdou 82</cp:lastModifiedBy>
  <dcterms:modified xsi:type="dcterms:W3CDTF">2015-03-30T06:17:55Z</dcterms:modified>
  <cp:revision>49</cp:revision>
  <dc:subject/>
  <dc:title>Слайд 1</dc:title>
</cp:coreProperties>
</file>