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CBA-CEFA-4845-95E0-F9BC906A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E3E-1105-4828-B531-8847ADD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590-4B08-46ED-9F40-2654932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EFC-BD04-4DEB-8D14-3BC7DB5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DF0B-3AF5-4063-BFEF-3E5991B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AAB0-89D1-49F3-934D-C09D5535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6CC-904B-495B-85EE-89BF94CC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AA8-80BF-402F-8B0F-E022C150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A642-4E62-4975-8C58-3E82BB4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C30-F828-4E0F-A18F-9143961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6F89-7AB2-4917-BDE1-1255AC1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DAB-2891-4D9C-A527-74341B8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5AA-8200-47B1-8BED-8D4A52F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F55-D4F6-471E-AFA5-51CC237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5F18-7169-48FE-AAE5-F59D89B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7A6-CCFF-45F7-841A-75261B47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0D9-2352-472E-83FE-825FADF4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DC8-C3AB-438D-A2A8-743EB68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39D-033C-4726-B0AB-E1A40D1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A76-2194-417A-8F93-7204404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374-810C-4E09-B1C8-7066115B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23F-05EC-4805-B77F-39F3B5D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B8F-6147-407A-AE81-714193E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C1D-B516-46C5-9D55-8275D09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FCB-877A-41CE-B54F-C4003BE3E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9EC6-747D-4EE2-AEC0-2C4BDE0B4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3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B70-06F5-440A-995A-36E32C1B5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9C5A-56E3-4C2A-A66F-C78CEE0FE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вокруг н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елей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ерево выше всех? Какое ниже все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тет ближе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6" descr="лес.jpg"/>
          <p:cNvPicPr/>
          <p:nvPr/>
        </p:nvPicPr>
        <p:blipFill>
          <a:blip r:embed="rId1"/>
          <a:stretch/>
        </p:blipFill>
        <p:spPr>
          <a:xfrm>
            <a:off x="1295280" y="762120"/>
            <a:ext cx="58006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время суток на карти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по порядку время суток начиная с но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6" descr="время суток.jpg"/>
          <p:cNvPicPr/>
          <p:nvPr/>
        </p:nvPicPr>
        <p:blipFill>
          <a:blip r:embed="rId1"/>
          <a:srcRect l="51392" t="0" r="0" b="68110"/>
          <a:stretch/>
        </p:blipFill>
        <p:spPr>
          <a:xfrm>
            <a:off x="6248520" y="58248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время суток.jpg"/>
          <p:cNvPicPr/>
          <p:nvPr/>
        </p:nvPicPr>
        <p:blipFill>
          <a:blip r:embed="rId2"/>
          <a:srcRect l="0" t="34055" r="50002" b="36332"/>
          <a:stretch/>
        </p:blipFill>
        <p:spPr>
          <a:xfrm>
            <a:off x="228600" y="5731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83808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581280" y="3200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6" descr="время суток.jpg"/>
          <p:cNvPicPr/>
          <p:nvPr/>
        </p:nvPicPr>
        <p:blipFill>
          <a:blip r:embed="rId3"/>
          <a:srcRect l="0" t="0" r="50002" b="68110"/>
          <a:stretch/>
        </p:blipFill>
        <p:spPr>
          <a:xfrm>
            <a:off x="3390840" y="573120"/>
            <a:ext cx="266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337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у какой девочки длинные волосы, а у какой корот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6" descr="прическа 1.jpg"/>
          <p:cNvPicPr/>
          <p:nvPr/>
        </p:nvPicPr>
        <p:blipFill>
          <a:blip r:embed="rId1"/>
          <a:srcRect l="50013" t="0" r="0" b="7648"/>
          <a:stretch/>
        </p:blipFill>
        <p:spPr>
          <a:xfrm>
            <a:off x="5257800" y="762120"/>
            <a:ext cx="2590920" cy="2824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прическая 2.jpg"/>
          <p:cNvPicPr/>
          <p:nvPr/>
        </p:nvPicPr>
        <p:blipFill>
          <a:blip r:embed="rId2"/>
          <a:srcRect l="0" t="0" r="0" b="25481"/>
          <a:stretch/>
        </p:blipFill>
        <p:spPr>
          <a:xfrm>
            <a:off x="1828800" y="7621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ом низкий, а какой высокий? Пока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доме много этажей, а в каком од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6" descr="дом высокий.jpg"/>
          <p:cNvPicPr/>
          <p:nvPr/>
        </p:nvPicPr>
        <p:blipFill>
          <a:blip r:embed="rId1"/>
          <a:stretch/>
        </p:blipFill>
        <p:spPr>
          <a:xfrm>
            <a:off x="380880" y="1066680"/>
            <a:ext cx="3648240" cy="236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дом низкий.jpg"/>
          <p:cNvPicPr/>
          <p:nvPr/>
        </p:nvPicPr>
        <p:blipFill>
          <a:blip r:embed="rId2"/>
          <a:stretch/>
        </p:blipFill>
        <p:spPr>
          <a:xfrm>
            <a:off x="4376880" y="1066680"/>
            <a:ext cx="3595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2096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ого цвета узкая л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ого цвета широкая л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6" descr="ленты.jpg"/>
          <p:cNvPicPr/>
          <p:nvPr/>
        </p:nvPicPr>
        <p:blipFill>
          <a:blip r:embed="rId1"/>
          <a:stretch/>
        </p:blipFill>
        <p:spPr>
          <a:xfrm>
            <a:off x="2133720" y="457200"/>
            <a:ext cx="4895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286000" y="48765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ыш-башенок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башенка находится между  двумя красны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горки бы будешь дольше катить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6" descr="площадка.jpg"/>
          <p:cNvPicPr/>
          <p:nvPr/>
        </p:nvPicPr>
        <p:blipFill>
          <a:blip r:embed="rId1"/>
          <a:stretch/>
        </p:blipFill>
        <p:spPr>
          <a:xfrm>
            <a:off x="1600200" y="304920"/>
            <a:ext cx="5302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читай, сколько этажей в до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 покажи окна, у которых не прямоугольная форма. Сколько таких око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го цвета д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дом.jpg"/>
          <p:cNvPicPr/>
          <p:nvPr/>
        </p:nvPicPr>
        <p:blipFill>
          <a:blip r:embed="rId1"/>
          <a:stretch/>
        </p:blipFill>
        <p:spPr>
          <a:xfrm>
            <a:off x="2133720" y="447840"/>
            <a:ext cx="4724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860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сервировку стола. Сколько гостей приглашено на ча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формы спинка у стулье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формы тарел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стол.JPG"/>
          <p:cNvPicPr/>
          <p:nvPr/>
        </p:nvPicPr>
        <p:blipFill>
          <a:blip r:embed="rId1"/>
          <a:srcRect l="0" t="0" r="0" b="10463"/>
          <a:stretch/>
        </p:blipFill>
        <p:spPr>
          <a:xfrm>
            <a:off x="1905120" y="380880"/>
            <a:ext cx="5613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зови цвета у светоф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колько знаков «пешеходный переход»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колько людей переходят дорог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колько цветов ты насчитал на знаке «пешеходный переход»? Назо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светофор.jpg"/>
          <p:cNvPicPr/>
          <p:nvPr/>
        </p:nvPicPr>
        <p:blipFill>
          <a:blip r:embed="rId1"/>
          <a:stretch/>
        </p:blipFill>
        <p:spPr>
          <a:xfrm>
            <a:off x="1676520" y="779400"/>
            <a:ext cx="51051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вощ самый длинный на рисун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омидоров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го овоща листья больше у помидоров или огурц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огород.jpg"/>
          <p:cNvPicPr/>
          <p:nvPr/>
        </p:nvPicPr>
        <p:blipFill>
          <a:blip r:embed="rId1"/>
          <a:stretch/>
        </p:blipFill>
        <p:spPr>
          <a:xfrm>
            <a:off x="1523880" y="685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ы растут на клумбе ближе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ы растут на клумбе дальше всего от т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ов ты видишь меньше все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клумба.jpg"/>
          <p:cNvPicPr/>
          <p:nvPr/>
        </p:nvPicPr>
        <p:blipFill>
          <a:blip r:embed="rId1"/>
          <a:stretch/>
        </p:blipFill>
        <p:spPr>
          <a:xfrm>
            <a:off x="2382840" y="533520"/>
            <a:ext cx="3637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09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рядов шоколада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формы плитки шокола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каком ряду находится твой любимый шокола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читай слева направо, которой по счету стоит шоколад «Аленка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шоколад.jpg"/>
          <p:cNvPicPr/>
          <p:nvPr/>
        </p:nvPicPr>
        <p:blipFill>
          <a:blip r:embed="rId1"/>
          <a:stretch/>
        </p:blipFill>
        <p:spPr>
          <a:xfrm>
            <a:off x="1371600" y="533520"/>
            <a:ext cx="60958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в кормуш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сидит на кормуш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негирей с ярко-красной грудк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смотри влево, а сколько вправ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6" descr="птицы.jpg"/>
          <p:cNvPicPr/>
          <p:nvPr/>
        </p:nvPicPr>
        <p:blipFill>
          <a:blip r:embed="rId1"/>
          <a:stretch/>
        </p:blipFill>
        <p:spPr>
          <a:xfrm>
            <a:off x="1752480" y="457200"/>
            <a:ext cx="488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3623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елых машин на стоян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асных маш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машина находится ближе всего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6" descr="автостоянка.jpg"/>
          <p:cNvPicPr/>
          <p:nvPr/>
        </p:nvPicPr>
        <p:blipFill>
          <a:blip r:embed="rId1"/>
          <a:stretch/>
        </p:blipFill>
        <p:spPr>
          <a:xfrm>
            <a:off x="1600200" y="914400"/>
            <a:ext cx="5224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mbdou 82</cp:lastModifiedBy>
  <dcterms:modified xsi:type="dcterms:W3CDTF">2015-03-30T06:17:55Z</dcterms:modified>
  <cp:revision>49</cp:revision>
  <dc:subject/>
  <dc:title>Слайд 1</dc:title>
</cp:coreProperties>
</file>