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82E-F648-4A1F-A10A-29A5D679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AD8-DA96-402B-8585-87EE4DFF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1A9-5467-4CD5-9944-CE0BDA38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F39-5AC8-49BB-962F-B9F5631B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82B-6D91-4963-BAC3-2D79966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CFD-E005-4CEE-BE4B-0D0DD576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F5A-36E9-4B78-A06A-ECB6813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607-0895-431C-9C3F-CBB19A77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6EE-5959-46D4-BDAF-28B2105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7E9-A984-45EB-803F-B7414C3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EE0-0431-4C9F-A58B-135CFAB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AE4-4677-41E8-BEDD-0336570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F19-C81B-4726-BF34-E3A44204E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ерритория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урганинского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вляется  территорией культурно- исторического наследия Краснодарского края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39640" y="549360"/>
            <a:ext cx="692316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сторико-культурный облик района представляют 58 памятников истории и культуры, из них: 25 памятников военной истории, 17 памятников монументального искусства, 12 зданий- памятников, 4 памятника истории и архитектуры.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2500 объектов археологического наследия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74680" y="2209680"/>
            <a:ext cx="5715000" cy="367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286680" y="1700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Новое (все подряд) 033"/>
          <p:cNvPicPr/>
          <p:nvPr/>
        </p:nvPicPr>
        <p:blipFill>
          <a:blip r:embed="rId3"/>
          <a:stretch/>
        </p:blipFill>
        <p:spPr>
          <a:xfrm>
            <a:off x="539640" y="4653000"/>
            <a:ext cx="228276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556320" y="432576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3708360" y="5084640"/>
            <a:ext cx="206064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Анкетиро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 анке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выяснить какие достопримечательности Курганинского района   знают анкетируемые  и какие места отдыха жителей и гостей района пользуются популяр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SC00912"/>
          <p:cNvPicPr/>
          <p:nvPr/>
        </p:nvPicPr>
        <p:blipFill>
          <a:blip r:embed="rId1"/>
          <a:stretch/>
        </p:blipFill>
        <p:spPr>
          <a:xfrm>
            <a:off x="3059280" y="422100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DSC00844"/>
          <p:cNvPicPr/>
          <p:nvPr/>
        </p:nvPicPr>
        <p:blipFill>
          <a:blip r:embed="rId2"/>
          <a:stretch/>
        </p:blipFill>
        <p:spPr>
          <a:xfrm>
            <a:off x="4643280" y="836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оказали , что жители района хорошо осведомлены о достопримечательностях родного района. Наиболее популярны современные места отдыха и занятий спортом. Среди природных объектов  лидер по посещаемости Курганинский парк отды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Опрос по тем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«Достопримечательности станицы Михайловской Курганинского района райо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ошено 10 учащихся и 10взросл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928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опрашиваемые,  указали все достопримечательности станицы. Дети хорошо знают об исторических  памятниках  своей малой родины и о её природных красотах . Результаты опроса оформлены в виде диа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00009"/>
          <p:cNvPicPr/>
          <p:nvPr/>
        </p:nvPicPr>
        <p:blipFill>
          <a:blip r:embed="rId1"/>
          <a:stretch/>
        </p:blipFill>
        <p:spPr>
          <a:xfrm>
            <a:off x="179280" y="2997360"/>
            <a:ext cx="3384720" cy="2684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00055"/>
          <p:cNvPicPr/>
          <p:nvPr/>
        </p:nvPicPr>
        <p:blipFill>
          <a:blip r:embed="rId2"/>
          <a:srcRect l="6391" t="0" r="0" b="3030"/>
          <a:stretch/>
        </p:blipFill>
        <p:spPr>
          <a:xfrm>
            <a:off x="2268360" y="4221000"/>
            <a:ext cx="29530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395280" y="808200"/>
          <a:ext cx="8353440" cy="56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08200"/>
                    <a:ext cx="835344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Наблю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Курганинский парк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выяснить популярность данного места у жителей и гостей рай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0" y="1122840"/>
            <a:ext cx="499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етям и взросл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равиться прогу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парке. Люди не засор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естный парк. У люд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атает времени на прогул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будние д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SC00917"/>
          <p:cNvPicPr/>
          <p:nvPr/>
        </p:nvPicPr>
        <p:blipFill>
          <a:blip r:embed="rId1"/>
          <a:stretch/>
        </p:blipFill>
        <p:spPr>
          <a:xfrm>
            <a:off x="395280" y="4437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00876"/>
          <p:cNvPicPr/>
          <p:nvPr/>
        </p:nvPicPr>
        <p:blipFill>
          <a:blip r:embed="rId2"/>
          <a:stretch/>
        </p:blipFill>
        <p:spPr>
          <a:xfrm>
            <a:off x="3276720" y="400536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Изображение 007"/>
          <p:cNvPicPr/>
          <p:nvPr/>
        </p:nvPicPr>
        <p:blipFill>
          <a:blip r:embed="rId3"/>
          <a:srcRect l="33180" t="10221" r="0" b="14026"/>
          <a:stretch/>
        </p:blipFill>
        <p:spPr>
          <a:xfrm>
            <a:off x="6084720" y="4076640"/>
            <a:ext cx="28814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оведя наблюдения, опросы, анкетирование и проанализировав полученную информацию , пришла к выводу, что Курганинский район является одним из самых привлекательных районов края. Здесь много природных и архитектурных объектов , которые являются достопримечательностью района и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24000" y="404640"/>
            <a:ext cx="84675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я гипотеза нашла своё подтвержд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7" descr="Новое (все подряд) 033"/>
          <p:cNvPicPr/>
          <p:nvPr/>
        </p:nvPicPr>
        <p:blipFill>
          <a:blip r:embed="rId1"/>
          <a:stretch/>
        </p:blipFill>
        <p:spPr>
          <a:xfrm>
            <a:off x="5796000" y="3414600"/>
            <a:ext cx="30970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Изображение 007"/>
          <p:cNvPicPr/>
          <p:nvPr/>
        </p:nvPicPr>
        <p:blipFill>
          <a:blip r:embed="rId2"/>
          <a:srcRect l="33180" t="10221" r="0" b="14026"/>
          <a:stretch/>
        </p:blipFill>
        <p:spPr>
          <a:xfrm>
            <a:off x="3276720" y="4108320"/>
            <a:ext cx="3168360" cy="274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000009"/>
          <p:cNvPicPr/>
          <p:nvPr/>
        </p:nvPicPr>
        <p:blipFill>
          <a:blip r:embed="rId3"/>
          <a:stretch/>
        </p:blipFill>
        <p:spPr>
          <a:xfrm>
            <a:off x="179280" y="3645000"/>
            <a:ext cx="316872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54:05Z</dcterms:created>
  <dc:creator>Admin</dc:creator>
  <dc:description/>
  <dc:language>en-US</dc:language>
  <cp:lastModifiedBy>Валя</cp:lastModifiedBy>
  <dcterms:modified xsi:type="dcterms:W3CDTF">2015-05-11T09:28:26Z</dcterms:modified>
  <cp:revision>19</cp:revision>
  <dc:subject/>
  <dc:title>Слайд 1</dc:title>
</cp:coreProperties>
</file>