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2B17-D0AC-4D89-BB49-8DED35E0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B3AD-77EE-4459-AF32-EE17154E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381D-0098-4103-94E8-9EDEEA08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E4CB-2AD1-49FD-B81B-E1F7C256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1A26-E33A-4CE3-AB72-0C8F95DC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7C58-72A7-4E6D-B818-ED163CF6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BEF5-EE06-4251-9ADE-2D282819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91AA-A686-427C-AF6D-AB5E2F9D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C9F2-ED99-4F57-9182-3511FEAA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A704-C68D-4C45-A4FC-D1CBBE6D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70E7-30B1-4C6E-BDC5-04298E4F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5BD5-00E4-4036-BEE6-3436375F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9814-68DB-4E1E-8C4A-3FF0B04E0F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Территория </a:t>
            </a: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Курганинского </a:t>
            </a: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рай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является  территорией культурно- исторического наследия Краснодарского края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539640" y="549360"/>
            <a:ext cx="692316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потез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Историко-культурный облик района представляют 58 памятников истории и культуры, из них: 25 памятников военной истории, 17 памятников монументального искусства, 12 зданий- памятников, 4 памятника истории и архитектуры.</a:t>
            </a: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2500 объектов археологического наследия</a:t>
            </a: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274680" y="2209680"/>
            <a:ext cx="5715000" cy="367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6286680" y="17002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Новое (все подряд) 033"/>
          <p:cNvPicPr/>
          <p:nvPr/>
        </p:nvPicPr>
        <p:blipFill>
          <a:blip r:embed="rId3"/>
          <a:stretch/>
        </p:blipFill>
        <p:spPr>
          <a:xfrm>
            <a:off x="539640" y="4653000"/>
            <a:ext cx="2282760" cy="223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6556320" y="4325760"/>
            <a:ext cx="2376720" cy="1781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5"/>
          <a:stretch/>
        </p:blipFill>
        <p:spPr>
          <a:xfrm>
            <a:off x="3708360" y="5084640"/>
            <a:ext cx="2060640" cy="15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Arial"/>
              </a:rPr>
              <a:t>Анкетирова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Цель анкетир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339933"/>
                </a:solidFill>
                <a:latin typeface="Arial"/>
              </a:rPr>
              <a:t>выяснить какие достопримечательности Курганинского района   знают анкетируемые  и какие места отдыха жителей и гостей района пользуются популяр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DSC00912"/>
          <p:cNvPicPr/>
          <p:nvPr/>
        </p:nvPicPr>
        <p:blipFill>
          <a:blip r:embed="rId1"/>
          <a:stretch/>
        </p:blipFill>
        <p:spPr>
          <a:xfrm>
            <a:off x="3059280" y="4221000"/>
            <a:ext cx="3108240" cy="2332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DSC00844"/>
          <p:cNvPicPr/>
          <p:nvPr/>
        </p:nvPicPr>
        <p:blipFill>
          <a:blip r:embed="rId2"/>
          <a:stretch/>
        </p:blipFill>
        <p:spPr>
          <a:xfrm>
            <a:off x="4643280" y="83664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Результаты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показали , что жители района хорошо осведомлены о достопримечательностях родного района. Наиболее популярны современные места отдыха и занятий спортом. Среди природных объектов  лидер по посещаемости Курганинский парк отды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Arial"/>
              </a:rPr>
              <a:t>Опрос по тем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49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«Достопримечательности станицы Михайловской Курганинского района райо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ошено 10 учащихся и 10взрослых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5928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ывод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опрашиваемые,  указали все достопримечательности станицы. Дети хорошо знают об исторических  памятниках  своей малой родины и о её природных красотах . Результаты опроса оформлены в виде диа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000009"/>
          <p:cNvPicPr/>
          <p:nvPr/>
        </p:nvPicPr>
        <p:blipFill>
          <a:blip r:embed="rId1"/>
          <a:stretch/>
        </p:blipFill>
        <p:spPr>
          <a:xfrm>
            <a:off x="179280" y="2997360"/>
            <a:ext cx="3384720" cy="2684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000055"/>
          <p:cNvPicPr/>
          <p:nvPr/>
        </p:nvPicPr>
        <p:blipFill>
          <a:blip r:embed="rId2"/>
          <a:srcRect l="6391" t="0" r="0" b="3030"/>
          <a:stretch/>
        </p:blipFill>
        <p:spPr>
          <a:xfrm>
            <a:off x="2268360" y="4221000"/>
            <a:ext cx="295308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Arial"/>
              </a:rPr>
              <a:t>диаграм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395280" y="808200"/>
          <a:ext cx="8353440" cy="56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808200"/>
                    <a:ext cx="8353440" cy="56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Arial"/>
              </a:rPr>
              <a:t>Наблю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00"/>
                </a:solidFill>
                <a:uFillTx/>
                <a:latin typeface="Arial"/>
              </a:rPr>
              <a:t>Курганинский парк отды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9900"/>
                </a:solidFill>
                <a:latin typeface="Arial"/>
              </a:rPr>
              <a:t>выяснить популярность данного места у жителей и гостей рай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572000" y="1122840"/>
            <a:ext cx="499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ывод: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Детям и взросл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нравиться прогули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 парке. Люди не засоря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местный парк. У людей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хватает времени на прогул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 будние дн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DSC00917"/>
          <p:cNvPicPr/>
          <p:nvPr/>
        </p:nvPicPr>
        <p:blipFill>
          <a:blip r:embed="rId1"/>
          <a:stretch/>
        </p:blipFill>
        <p:spPr>
          <a:xfrm>
            <a:off x="395280" y="443700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DSC00876"/>
          <p:cNvPicPr/>
          <p:nvPr/>
        </p:nvPicPr>
        <p:blipFill>
          <a:blip r:embed="rId2"/>
          <a:stretch/>
        </p:blipFill>
        <p:spPr>
          <a:xfrm>
            <a:off x="3276720" y="4005360"/>
            <a:ext cx="3097080" cy="2322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Изображение 007"/>
          <p:cNvPicPr/>
          <p:nvPr/>
        </p:nvPicPr>
        <p:blipFill>
          <a:blip r:embed="rId3"/>
          <a:srcRect l="33180" t="10221" r="0" b="14026"/>
          <a:stretch/>
        </p:blipFill>
        <p:spPr>
          <a:xfrm>
            <a:off x="6084720" y="4076640"/>
            <a:ext cx="288144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роведя наблюдения, опросы, анкетирование и проанализировав полученную информацию , пришла к выводу, что Курганинский район является одним из самых привлекательных районов края. Здесь много природных и архитектурных объектов , которые являются достопримечательностью района и кр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4"/>
          <p:cNvSpPr txBox="1"/>
          <p:nvPr/>
        </p:nvSpPr>
        <p:spPr>
          <a:xfrm>
            <a:off x="324000" y="404640"/>
            <a:ext cx="84675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я гипотеза нашла своё подтвержде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Picture 7" descr="Новое (все подряд) 033"/>
          <p:cNvPicPr/>
          <p:nvPr/>
        </p:nvPicPr>
        <p:blipFill>
          <a:blip r:embed="rId1"/>
          <a:stretch/>
        </p:blipFill>
        <p:spPr>
          <a:xfrm>
            <a:off x="5796000" y="3414600"/>
            <a:ext cx="3097080" cy="3029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Изображение 007"/>
          <p:cNvPicPr/>
          <p:nvPr/>
        </p:nvPicPr>
        <p:blipFill>
          <a:blip r:embed="rId2"/>
          <a:srcRect l="33180" t="10221" r="0" b="14026"/>
          <a:stretch/>
        </p:blipFill>
        <p:spPr>
          <a:xfrm>
            <a:off x="3276720" y="4108320"/>
            <a:ext cx="3168360" cy="2749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000009"/>
          <p:cNvPicPr/>
          <p:nvPr/>
        </p:nvPicPr>
        <p:blipFill>
          <a:blip r:embed="rId3"/>
          <a:stretch/>
        </p:blipFill>
        <p:spPr>
          <a:xfrm>
            <a:off x="179280" y="3645000"/>
            <a:ext cx="3168720" cy="25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4:54:05Z</dcterms:created>
  <dc:creator>Admin</dc:creator>
  <dc:description/>
  <dc:language>en-US</dc:language>
  <cp:lastModifiedBy>Валя</cp:lastModifiedBy>
  <dcterms:modified xsi:type="dcterms:W3CDTF">2015-05-11T09:28:26Z</dcterms:modified>
  <cp:revision>19</cp:revision>
  <dc:subject/>
  <dc:title>Слайд 1</dc:title>
</cp:coreProperties>
</file>