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23698-F8AE-4185-BA7C-6A7C730C2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2F491-89EB-4193-A76B-612DFAF8D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FB7C4-F1F8-4FFF-B422-A17F9B3A6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D2D38-E368-4CA0-B097-09B4CC1DB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4374D-9CBA-44CD-AD06-989F95285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C59F8-DDFF-49E3-A85A-08C9C0730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C11CB-84F8-4FBC-B91F-012EA99F5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6D423-0DE7-4F32-977E-2E06993AD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0FD1E-B311-4A92-B842-B63EFCE54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39E0A-EC63-469B-B8D3-71745FAE3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2050D-4D6D-4577-B271-0186508D0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54149-D216-4EE1-BBB3-156157B41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8DC51-6F60-4235-BA99-D5821AFC5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1E0D0-991D-4DB4-9284-C69465C8E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7AC48-2B05-434C-97AC-63D933D92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3E7B0-0F33-4AA5-A58E-07CA030E8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CAEE4-B74A-4C17-86D3-CA67C758C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88B2BC-8244-4006-9D66-EA9585CD24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1F38B7-7FE0-4DDF-AFAB-C89086ECC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285D9D-2C58-46EF-AA62-524AF7257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44425B-7068-440B-8FD4-B0F32681F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FA3953-580B-444A-A281-4964A6A22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9432-B101-4DEF-BE22-D725370FB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8B1ACA-098D-4922-BDE4-830322C29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CC09D4-556B-4B01-9783-A6CE107AD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97B39F-F5FA-477A-8CB2-8CCD51FCE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3ECFB9-C560-4263-B6EA-4225BF6F8C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CAF17F-E094-458D-9529-B692031980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ADDFF48-45D7-464F-9987-481F62C007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37EED3B-DE22-491E-982C-54E627545D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2BDC57-52D2-4055-9054-7D72D9ECAF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86344-FE04-4332-A9F2-40FD939CE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BD65C-493D-4864-8351-E7E147EE9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ED16-6502-4FE6-9250-EB3D2922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52E831-8C37-40C7-AA16-9FDB9523C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7268A-F1BB-4E4E-8F37-C0E46D7E7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96A6D-DCBE-45E8-A542-75EF10055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F55B1-CD9E-45F6-B842-FFB4C6A99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DFC3E-48D6-48D5-8D69-D5E031BEC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341A7-E927-4178-AACC-7E1A57623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2F725-8F8E-404F-847C-E884A0250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B0B81C-C8B9-4B6A-A2D9-89758B9101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A0DBCA-8328-4037-8144-E82E86ECFB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572E7CE-0913-4E0F-A14A-3A8C9A0015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784C-D8A5-4ACE-8479-0D37C07A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614097-01FF-4236-9938-C111328077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E6E917-4E70-4BDF-8C9A-7AFFFF3AF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7596BA-7ECB-49A6-A6F6-845A25037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E0C054-488B-4757-8D12-ECE8075D2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017E73-8E62-47CE-87B2-EB48CB443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E75A13-18BB-4490-AB01-C4B60B222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05E5FC-2756-497C-9F4A-E8852E933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CEBF79-5415-4850-ACA5-3E49FA9A6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FD1337-A7E1-474D-8C62-A3C69F80B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33D8448-19C4-49AB-99A2-AC663C7EB9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F3FB-5E03-4430-A863-2BA12820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0E336EB-A9DA-4A40-A4E1-179AB3B7E7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687A2C7-CFDA-4799-AA7D-36B99EA306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5030E3D-2F45-4EA6-998B-4D5604625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51AD11-DC09-4C02-97C8-9B17503C63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2382F63-6824-4FBD-B766-BC98121D1D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544FFD1-CD11-461B-B076-4FFEDF29D5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3EB7BE-074F-4B7D-AF29-BBF31FF064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4A85240-0C99-4628-9853-E769ABDDB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3F5301-9E28-458E-97B8-22488DBA7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3FB891-FB3B-4818-930B-7E53D7120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CD20-9E67-4554-8B82-8A2CFC02A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7B0C491-9E76-4B63-ABA3-CBD5F533F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7E991B1-C19D-4EA4-94B3-5812128654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0CF9E82-F433-4788-BC6C-7FF8B31A86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C9BF77-C97E-4EB9-9D05-3743923D9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A797A2-DD94-4A4C-BC0D-0A39F2B1F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45FA722-8D24-4081-A148-656B6D744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D7E7CA7-0B6E-4604-8EF1-7172264469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DF0C6F-0AE3-4F16-BE1F-CD0CB9D063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FC596E-13D4-44AC-A046-CB996CA59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C744C5-5E36-44EF-9213-F314B9ADD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8C63-E297-4EE4-A187-D938BDE3E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670993-D476-44E3-88BA-9E0F9BAB7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923E27-6BEE-48D1-8A73-F97D86F11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BE255F2-5F75-443A-AAEB-24053CEFE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32DBE3A-6273-4F92-A76B-8AF7E4B088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159731D-FBDE-4243-9FCA-A38AC316C6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23232"/>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1F2D-C535-4182-95FE-08AC44E2A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0121-82B6-4E91-8BDB-C692E6EAB37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6c0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9d8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9d8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cec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6c0aa">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cec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6c0aa">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6c0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1E02-54D5-4E1F-BE6A-89E02FAE632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84F0-8015-428E-AFA1-4B82C1338BE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6c0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9d8cc">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9d8c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cec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6c0aa">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cec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6c0aa">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6c0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3ded1"/>
                </a:solidFill>
                <a:latin typeface="Century Schoolbook"/>
              </a:rPr>
              <a:t>Click to edit the title text format</a:t>
            </a:r>
            <a:endParaRPr b="0" lang="en-US" sz="3000" spc="-1" strike="noStrike">
              <a:solidFill>
                <a:srgbClr val="e3ded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3ded1"/>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3ded1"/>
                </a:solidFill>
                <a:latin typeface="Century Schoolbook"/>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D388-0D67-47F0-87FC-205745BA1881}" type="slidenum">
              <a:rPr b="1" lang="ru-RU" sz="1400" spc="-1" strike="noStrike">
                <a:solidFill>
                  <a:srgbClr val="ffffff"/>
                </a:solidFill>
                <a:latin typeface="Century School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9524-6BB4-4B57-A598-996FCFA2513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6c0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6c0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3E44-9265-4365-86B6-1CBD249D78B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6c0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6c0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3232"/>
                </a:solidFill>
                <a:latin typeface="Century Schoolbook"/>
              </a:rPr>
              <a:t>Click to edit the title text format</a:t>
            </a:r>
            <a:endParaRPr b="0" lang="en-US" sz="3000" spc="-1" strike="noStrike">
              <a:solidFill>
                <a:srgbClr val="323232"/>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d36f0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6c0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daca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2323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23232"/>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4824-DEC1-48BB-8B76-A34D3621E9B5}"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1071720"/>
            <a:ext cx="6172200" cy="235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23232"/>
                </a:solidFill>
                <a:latin typeface="Century Schoolbook"/>
              </a:rPr>
              <a:t>ПОВЫШЕНИЕ РОДИТЕЛЬСКОЙ КОМПЕТЕНТНОСТИ В ВОПРОСАХ РЕЧЕВОГО РАЗВИТИЯ РЕБЕНКА </a:t>
            </a:r>
            <a:endParaRPr b="0" lang="en-US" sz="3000" spc="-1" strike="noStrike">
              <a:solidFill>
                <a:srgbClr val="323232"/>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С 01.09.2013 по 25.05.2014</a:t>
            </a: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Автор: учитель-логопед МБОУ </a:t>
            </a:r>
            <a:endParaRPr b="0" lang="en-US" sz="18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 </a:t>
            </a:r>
            <a:r>
              <a:rPr b="1" lang="ru-RU" sz="1800" spc="-1" strike="noStrike">
                <a:solidFill>
                  <a:srgbClr val="323232"/>
                </a:solidFill>
                <a:latin typeface="Century Schoolbook"/>
              </a:rPr>
              <a:t>«Никифоровская СОШ №2» Сычева И.А.</a:t>
            </a:r>
            <a:endParaRPr b="0" lang="en-US" sz="18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23232"/>
                </a:solidFill>
                <a:latin typeface="Century Schoolbook"/>
              </a:rPr>
              <a:t>2015г.</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ПОДГОТОВИТЕЛЬНЫЙ ЭТАП</a:t>
            </a:r>
            <a:endParaRPr b="0" lang="en-US" sz="3000" spc="-1" strike="noStrike">
              <a:solidFill>
                <a:srgbClr val="323232"/>
              </a:solidFill>
              <a:latin typeface="Century Schoolbook"/>
            </a:endParaRPr>
          </a:p>
        </p:txBody>
      </p:sp>
      <p:graphicFrame>
        <p:nvGraphicFramePr>
          <p:cNvPr id="370" name=""/>
          <p:cNvGraphicFramePr/>
          <p:nvPr/>
        </p:nvGraphicFramePr>
        <p:xfrm>
          <a:off x="457200" y="1600200"/>
          <a:ext cx="7467480" cy="3619440"/>
        </p:xfrm>
        <a:graphic>
          <a:graphicData uri="http://schemas.openxmlformats.org/drawingml/2006/table">
            <a:tbl>
              <a:tblPr/>
              <a:tblGrid>
                <a:gridCol w="1328760"/>
                <a:gridCol w="3649680"/>
                <a:gridCol w="2489040"/>
              </a:tblGrid>
              <a:tr h="42084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рок</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ормы и</a:t>
                      </a:r>
                      <a:br>
                        <a:rPr sz="1200"/>
                      </a:br>
                      <a:r>
                        <a:rPr b="1" lang="ru-RU" sz="1200" spc="-1" strike="noStrike">
                          <a:solidFill>
                            <a:srgbClr val="ffffff"/>
                          </a:solidFill>
                          <a:latin typeface="Times New Roman"/>
                          <a:ea typeface="Times New Roman"/>
                        </a:rPr>
                        <a:t>методы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одержание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9860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 1 октября</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marL="343080" indent="-343080">
                        <a:lnSpc>
                          <a:spcPct val="115000"/>
                        </a:lnSpc>
                        <a:spcAft>
                          <a:spcPts val="1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нкетирование родителей</a:t>
                      </a:r>
                      <a:endParaRPr b="0" lang="en-US" sz="14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Сбор дидактических</a:t>
                      </a:r>
                      <a:br>
                        <a:rPr sz="1400"/>
                      </a:br>
                      <a:r>
                        <a:rPr b="0" lang="ru-RU" sz="1400" spc="-1" strike="noStrike">
                          <a:solidFill>
                            <a:srgbClr val="000000"/>
                          </a:solidFill>
                          <a:latin typeface="Times New Roman"/>
                          <a:ea typeface="Times New Roman"/>
                        </a:rPr>
                        <a:t>материалов</a:t>
                      </a:r>
                      <a:endParaRPr b="0" lang="en-US" sz="14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Заключение дополнительных договоров </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учение уровня компетентности родителей в вопросах речевого развития</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бор материалов по темам «Дыхательная гимнастика», «Артикуляционные упражнения», «Мелкая моторика» и др.</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тановление единых требований родителей и логопеда к ребенку, посещающего логогруппу</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КРИТЕРИИ ЭФФЕКТИВНОСТИ </a:t>
            </a:r>
            <a:endParaRPr b="0" lang="en-US" sz="3000" spc="-1" strike="noStrike">
              <a:solidFill>
                <a:srgbClr val="323232"/>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Для детей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положительная динамика речевого развития;</a:t>
            </a:r>
            <a:br>
              <a:rPr sz="1900"/>
            </a:br>
            <a:r>
              <a:rPr b="0" lang="ru-RU" sz="1900" spc="-1" strike="noStrike">
                <a:solidFill>
                  <a:srgbClr val="000000"/>
                </a:solidFill>
                <a:latin typeface="Century Schoolbook"/>
              </a:rPr>
              <a:t>успешная социальная адаптация в  ОУ и семье;</a:t>
            </a:r>
            <a:br>
              <a:rPr sz="1900"/>
            </a:br>
            <a:r>
              <a:rPr b="0" lang="ru-RU" sz="1900" spc="-1" strike="noStrike">
                <a:solidFill>
                  <a:srgbClr val="000000"/>
                </a:solidFill>
                <a:latin typeface="Century Schoolbook"/>
              </a:rPr>
              <a:t>индивидуальный подход к каждому ребенку.</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Для родителей</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положительная оценка деятельности  ОУ;</a:t>
            </a:r>
            <a:br>
              <a:rPr sz="1900"/>
            </a:br>
            <a:r>
              <a:rPr b="0" lang="ru-RU" sz="1900" spc="-1" strike="noStrike">
                <a:solidFill>
                  <a:srgbClr val="000000"/>
                </a:solidFill>
                <a:latin typeface="Century Schoolbook"/>
              </a:rPr>
              <a:t>готовность и желание помогать  ОУ;</a:t>
            </a:r>
            <a:br>
              <a:rPr sz="1900"/>
            </a:br>
            <a:r>
              <a:rPr b="0" lang="ru-RU" sz="1900" spc="-1" strike="noStrike">
                <a:solidFill>
                  <a:srgbClr val="000000"/>
                </a:solidFill>
                <a:latin typeface="Century Schoolbook"/>
              </a:rPr>
              <a:t>использование знаний по развитию речи детей в домашних условиях и, особенно, в летнее время</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Для педагогов</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положительный психологический климат между логопедом и педагогами;</a:t>
            </a:r>
            <a:br>
              <a:rPr sz="1900"/>
            </a:br>
            <a:r>
              <a:rPr b="0" lang="ru-RU" sz="1900" spc="-1" strike="noStrike">
                <a:solidFill>
                  <a:srgbClr val="000000"/>
                </a:solidFill>
                <a:latin typeface="Century Schoolbook"/>
              </a:rPr>
              <a:t>заинтересованность педагогов в творчестве и инновациях;</a:t>
            </a:r>
            <a:br>
              <a:rPr sz="1900"/>
            </a:br>
            <a:r>
              <a:rPr b="0" lang="ru-RU" sz="1900" spc="-1" strike="noStrike">
                <a:solidFill>
                  <a:srgbClr val="000000"/>
                </a:solidFill>
                <a:latin typeface="Century Schoolbook"/>
              </a:rPr>
              <a:t> </a:t>
            </a:r>
            <a:br>
              <a:rPr sz="1900"/>
            </a:br>
            <a:r>
              <a:rPr b="0" lang="ru-RU" sz="1900" spc="-1" strike="noStrike">
                <a:solidFill>
                  <a:srgbClr val="000000"/>
                </a:solidFill>
                <a:latin typeface="Century Schoolbook"/>
              </a:rPr>
              <a:t> </a:t>
            </a:r>
            <a:br>
              <a:rPr sz="1900"/>
            </a:br>
            <a:r>
              <a:rPr b="0" lang="ru-RU"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ОСНОВНОЙ ЭТАП</a:t>
            </a:r>
            <a:endParaRPr b="0" lang="en-US" sz="3000" spc="-1" strike="noStrike">
              <a:solidFill>
                <a:srgbClr val="323232"/>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разработали и апробировали систему методических мероприятий для родителей по вопросам речевого развития  школьников;</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Полученные во время занятий с логопедом знания, речевые умения детей закрепляются в игровой форме в повседневной жизни. </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Формы и методы работы:</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проведение семинара -практикума, мастер классов, консультаций, «круглых столов»,  проведение конкурсов (скороговорщиков, чтецов), проведение праздника красивой и  правильной речи и других форм работы  (ежемесячно);</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проведение индивидуальных консультаций (по необходимости);</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 </a:t>
            </a:r>
            <a:r>
              <a:rPr b="0" lang="ru-RU" sz="1700" spc="-1" strike="noStrike">
                <a:solidFill>
                  <a:srgbClr val="000000"/>
                </a:solidFill>
                <a:latin typeface="Century Schoolbook"/>
              </a:rPr>
              <a:t>создание информационно-методического стенда «Шпаргалки для родителей» , логопедической копилки «Семейная игротека»; (ежемесячно);</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знакомство с инновационной технологией «Синквейн»</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 </a:t>
            </a:r>
            <a:r>
              <a:rPr b="0" lang="ru-RU" sz="1700" spc="-1" strike="noStrike">
                <a:solidFill>
                  <a:srgbClr val="000000"/>
                </a:solidFill>
                <a:latin typeface="Century Schoolbook"/>
              </a:rPr>
              <a:t>ведение «Дневника успеха» (ежемесячно, родителями) </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680"/>
            <a:ext cx="746748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700" spc="-1" strike="noStrike">
              <a:solidFill>
                <a:srgbClr val="323232"/>
              </a:solidFill>
              <a:latin typeface="Century Schoolbook"/>
            </a:endParaRPr>
          </a:p>
        </p:txBody>
      </p:sp>
      <p:graphicFrame>
        <p:nvGraphicFramePr>
          <p:cNvPr id="376" name=""/>
          <p:cNvGraphicFramePr/>
          <p:nvPr/>
        </p:nvGraphicFramePr>
        <p:xfrm>
          <a:off x="357120" y="785880"/>
          <a:ext cx="8215560" cy="8744040"/>
        </p:xfrm>
        <a:graphic>
          <a:graphicData uri="http://schemas.openxmlformats.org/drawingml/2006/table">
            <a:tbl>
              <a:tblPr/>
              <a:tblGrid>
                <a:gridCol w="1147680"/>
                <a:gridCol w="2907000"/>
                <a:gridCol w="4160880"/>
              </a:tblGrid>
              <a:tr h="4237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рок</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ормы и</a:t>
                      </a:r>
                      <a:br>
                        <a:rPr sz="1200"/>
                      </a:br>
                      <a:r>
                        <a:rPr b="1" lang="ru-RU" sz="1200" spc="-1" strike="noStrike">
                          <a:solidFill>
                            <a:srgbClr val="ffffff"/>
                          </a:solidFill>
                          <a:latin typeface="Times New Roman"/>
                          <a:ea typeface="Times New Roman"/>
                        </a:rPr>
                        <a:t>методы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одержание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4691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тябр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ябр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кабр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нварь</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еврал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рт</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прел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й</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руглый стол</a:t>
                      </a:r>
                      <a:r>
                        <a:rPr b="0" lang="ru-RU" sz="1400" spc="-1" strike="noStrike">
                          <a:solidFill>
                            <a:srgbClr val="000000"/>
                          </a:solidFill>
                          <a:latin typeface="Times New Roman"/>
                          <a:ea typeface="Times New Roman"/>
                        </a:rPr>
                        <a:t> «Почему ребенок говорит неправильно».</a:t>
                      </a:r>
                      <a:br>
                        <a:rPr sz="1400"/>
                      </a:br>
                      <a:r>
                        <a:rPr b="1" lang="ru-RU" sz="1400" spc="-1" strike="noStrike">
                          <a:solidFill>
                            <a:srgbClr val="000000"/>
                          </a:solidFill>
                          <a:latin typeface="Times New Roman"/>
                          <a:ea typeface="Times New Roman"/>
                        </a:rPr>
                        <a:t>Мастер класс</a:t>
                      </a:r>
                      <a:r>
                        <a:rPr b="0" lang="ru-RU" sz="1400" spc="-1" strike="noStrike">
                          <a:solidFill>
                            <a:srgbClr val="000000"/>
                          </a:solidFill>
                          <a:latin typeface="Times New Roman"/>
                          <a:ea typeface="Times New Roman"/>
                        </a:rPr>
                        <a:t> «Упражнения для развития мышц речевого аппарата»</a:t>
                      </a:r>
                      <a:br>
                        <a:rPr sz="1400"/>
                      </a:br>
                      <a:r>
                        <a:rPr b="1" lang="ru-RU" sz="1400" spc="-1" strike="noStrike">
                          <a:solidFill>
                            <a:srgbClr val="000000"/>
                          </a:solidFill>
                          <a:latin typeface="Times New Roman"/>
                          <a:ea typeface="Times New Roman"/>
                        </a:rPr>
                        <a:t>Семинар практикум</a:t>
                      </a:r>
                      <a:br>
                        <a:rPr sz="1400"/>
                      </a:br>
                      <a:r>
                        <a:rPr b="0" lang="ru-RU" sz="1400" spc="-1" strike="noStrike">
                          <a:solidFill>
                            <a:srgbClr val="000000"/>
                          </a:solidFill>
                          <a:latin typeface="Times New Roman"/>
                          <a:ea typeface="Times New Roman"/>
                        </a:rPr>
                        <a:t>«Пальчиками играем речь развивае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онсультация </a:t>
                      </a:r>
                      <a:r>
                        <a:rPr b="0" lang="ru-RU" sz="1400" spc="-1" strike="noStrike">
                          <a:solidFill>
                            <a:srgbClr val="000000"/>
                          </a:solidFill>
                          <a:latin typeface="Times New Roman"/>
                          <a:ea typeface="Times New Roman"/>
                        </a:rPr>
                        <a:t>«Речевое дыхание основа правильной реч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астер класс</a:t>
                      </a:r>
                      <a:br>
                        <a:rPr sz="1400"/>
                      </a:br>
                      <a:r>
                        <a:rPr b="0" lang="ru-RU" sz="1400" spc="-1" strike="noStrike">
                          <a:solidFill>
                            <a:srgbClr val="000000"/>
                          </a:solidFill>
                          <a:latin typeface="Times New Roman"/>
                          <a:ea typeface="Times New Roman"/>
                        </a:rPr>
                        <a:t>«Научитесь слышать звуки»</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еминар-практикум </a:t>
                      </a:r>
                      <a:r>
                        <a:rPr b="0" lang="ru-RU" sz="1400" spc="-1" strike="noStrike">
                          <a:solidFill>
                            <a:srgbClr val="000000"/>
                          </a:solidFill>
                          <a:latin typeface="Times New Roman"/>
                          <a:ea typeface="Times New Roman"/>
                        </a:rPr>
                        <a:t>«Инновационная технология- «Синквейн»</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онкурс чтецов/скороговорщиков</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аздник красивой и правильной речи</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мен мнениями, анализ анкетирования, просвещение родителей о причинах речевых отклонений</a:t>
                      </a:r>
                      <a:br>
                        <a:rPr sz="1400"/>
                      </a:br>
                      <a:r>
                        <a:rPr b="0" lang="ru-RU" sz="1400" spc="-1" strike="noStrike">
                          <a:solidFill>
                            <a:srgbClr val="000000"/>
                          </a:solidFill>
                          <a:latin typeface="Times New Roman"/>
                          <a:ea typeface="Times New Roman"/>
                        </a:rPr>
                        <a:t>Рекомендации по выполнению артикуляционной гимнастик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общение о взаимосвязи развития речи и мелкой моторики рук, рекомендации по проведению пальчиковой гимнастик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матическая консультация с практической частью</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учение комплексу упражнений для развития фонематического слуха у детей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явление родителями ораторских и творческих способностей на интересном речевом материале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мен впечатлений родителей о коррекционном воздействии на ребенка в домашних условиях</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монстрация речевых умений и навыков, приобретенных на занятиях</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74268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Логопедическая копилка «Семейная игротека»</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полнение копилки новыми материалами для использования в домашних условиях по плану клуба</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9536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дивидуальные консультац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азание помощи родителям по интересующим их вопросам</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4304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формление информационно-методического стенда «Шпаргалки для родителей»</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етический материал, направленный на формирование знаний родителей об особенностях развития речи детей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9536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жемесяч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дение «Дневника успеха»</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иксация родителями достижений детей в речевом развит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ЗАКЛЮЧИТЕЛЬНЫЙ ЭТАП</a:t>
            </a:r>
            <a:endParaRPr b="0" lang="en-US" sz="3000" spc="-1" strike="noStrike">
              <a:solidFill>
                <a:srgbClr val="323232"/>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Итоговое мероприятие «Праздник красивой и правильной речи»;</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Анализ достигнутых результатов по критериям;</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Транслировать опыт работы по данной теме для учителей-логопедов, педагогов района </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Вывод:  </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оставленные задачи решены, цель достигнута</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роект является эффективным. Он оптимизирует образовательный процесс, малозатратный, выполним без дополнительных материальных и человеческих ресурсов.</a:t>
            </a:r>
            <a:endParaRPr b="0" lang="en-US" sz="20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323232"/>
              </a:solidFill>
              <a:latin typeface="Century Schoolbook"/>
            </a:endParaRPr>
          </a:p>
        </p:txBody>
      </p:sp>
      <p:graphicFrame>
        <p:nvGraphicFramePr>
          <p:cNvPr id="380" name=""/>
          <p:cNvGraphicFramePr/>
          <p:nvPr/>
        </p:nvGraphicFramePr>
        <p:xfrm>
          <a:off x="457200" y="1600200"/>
          <a:ext cx="7467480" cy="2476440"/>
        </p:xfrm>
        <a:graphic>
          <a:graphicData uri="http://schemas.openxmlformats.org/drawingml/2006/table">
            <a:tbl>
              <a:tblPr/>
              <a:tblGrid>
                <a:gridCol w="1114560"/>
                <a:gridCol w="3863880"/>
                <a:gridCol w="2489040"/>
              </a:tblGrid>
              <a:tr h="4201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рок</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ормы и</a:t>
                      </a:r>
                      <a:br>
                        <a:rPr sz="1200"/>
                      </a:br>
                      <a:r>
                        <a:rPr b="1" lang="ru-RU" sz="1200" spc="-1" strike="noStrike">
                          <a:solidFill>
                            <a:srgbClr val="ffffff"/>
                          </a:solidFill>
                          <a:latin typeface="Times New Roman"/>
                          <a:ea typeface="Times New Roman"/>
                        </a:rPr>
                        <a:t>методы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одержание работы</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266920">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й</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прель</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ниторинг (анкетирование) работы логопеда с родителями</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ниторинг детей</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entury Schoolbook"/>
                        </a:rPr>
                        <a:t>Транслировать опыт работы по данной теме для учителей-логопедов, педагогов района </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явление уровня родительской компетентности в вопросах речевого развития детей</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явление уровня речевого развития детей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АНАЛИЗ ДОСТИГНУТЫХ РЕЗУЛЬТАТОВ</a:t>
            </a:r>
            <a:endParaRPr b="0" lang="en-US" sz="3000" spc="-1" strike="noStrike">
              <a:solidFill>
                <a:srgbClr val="323232"/>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установления родительских отношений (тест-опросник родительского отношения к детям (ОРО) Л. Я. Варга и В. В. Столина.)</a:t>
            </a:r>
            <a:endParaRPr b="0" lang="en-US" sz="18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 анкетирования (письменный опрос) </a:t>
            </a:r>
            <a:r>
              <a:rPr b="0" i="1" lang="ru-RU" sz="1800" spc="-1" strike="noStrike" u="sng">
                <a:solidFill>
                  <a:srgbClr val="000000"/>
                </a:solidFill>
                <a:uFillTx/>
                <a:latin typeface="Times New Roman"/>
                <a:ea typeface="Times New Roman"/>
              </a:rPr>
              <a:t> </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чало года.</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20%  (15%) - родителей  не могут дать объективную оценку психо-речевому развитию ребенка, как правило, с ребенком занимаются редко, речевой дефект не замечают.</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4%-37% (40,5%) -  не адекватно реагируют  на поставленный их ребенку диагноз. </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8%-37% (37,5%) -  родителей дают адекватную оценку состояния ребенка, могут раскрыть суть проблемы, принимают дефект ребенка, но им не хватает элементарной педагогической грамотности.</a:t>
            </a:r>
            <a:endParaRPr b="0" lang="en-US" sz="18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0%-–  не серьезно относятся к выполнению домашних заданий, как одно из составляющих всей работы логопеда.</a:t>
            </a:r>
            <a:endParaRPr b="0" lang="en-US" sz="18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857160"/>
            <a:ext cx="7467480" cy="561672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нец года</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97% - родителей   могут дать объективную оценку психо-речевому развитию ребенка,  занимаются регулярно со своим ребенком и активно содействуют  исправлению его  речевого дефекта.</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85% -  принимают сознательно рекомендации специалистов  и соглашаются  с поставленными  ими диагнозами. </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80% - достигают необходимого уровня педагогической грамотности.</a:t>
            </a:r>
            <a:endParaRPr b="0" lang="en-US" sz="2400" spc="-1" strike="noStrike">
              <a:solidFill>
                <a:srgbClr val="000000"/>
              </a:solidFill>
              <a:latin typeface="Century Schoolbook"/>
            </a:endParaRPr>
          </a:p>
          <a:p>
            <a:pPr marL="272880" indent="-272880" algn="just">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90% - оказывают своим детям регулярную помощь  в выполнении домашних заданий.</a:t>
            </a:r>
            <a:endParaRPr b="0" lang="en-US" sz="24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23232"/>
                </a:solidFill>
                <a:latin typeface="Times New Roman"/>
                <a:ea typeface="Times New Roman"/>
              </a:rPr>
              <a:t>ДИАГНОСТИКА</a:t>
            </a:r>
            <a:br>
              <a:rPr sz="2800"/>
            </a:br>
            <a:r>
              <a:rPr b="0" lang="ru-RU" sz="2800" spc="-1" strike="noStrike">
                <a:solidFill>
                  <a:srgbClr val="323232"/>
                </a:solidFill>
                <a:latin typeface="Times New Roman"/>
                <a:ea typeface="Times New Roman"/>
              </a:rPr>
              <a:t> РОДИТЕЛЬСКОГО ОТНОШЕНИЯ К ДЕТЯМ</a:t>
            </a:r>
            <a:endParaRPr b="0" lang="en-US" sz="2800" spc="-1" strike="noStrike">
              <a:solidFill>
                <a:srgbClr val="323232"/>
              </a:solidFill>
              <a:latin typeface="Century Schoolbook"/>
            </a:endParaRPr>
          </a:p>
        </p:txBody>
      </p:sp>
      <p:pic>
        <p:nvPicPr>
          <p:cNvPr id="385" name="Содержимое 3" descr=""/>
          <p:cNvPicPr/>
          <p:nvPr/>
        </p:nvPicPr>
        <p:blipFill>
          <a:blip r:embed="rId1"/>
          <a:stretch/>
        </p:blipFill>
        <p:spPr>
          <a:xfrm>
            <a:off x="1571760" y="2214720"/>
            <a:ext cx="5572080" cy="292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ИСПОЛЬЗУЕМЫЕ ИСТОЧНИКИ</a:t>
            </a:r>
            <a:endParaRPr b="0" lang="en-US" sz="3000" spc="-1" strike="noStrike">
              <a:solidFill>
                <a:srgbClr val="323232"/>
              </a:solidFill>
              <a:latin typeface="Century Schoolbook"/>
            </a:endParaRPr>
          </a:p>
        </p:txBody>
      </p:sp>
      <p:sp>
        <p:nvSpPr>
          <p:cNvPr id="387" name=""/>
          <p:cNvSpPr txBox="1"/>
          <p:nvPr/>
        </p:nvSpPr>
        <p:spPr>
          <a:xfrm>
            <a:off x="456840" y="1428840"/>
            <a:ext cx="7467480" cy="504504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Бабина Е.С. Партнерство дошкольного образовательного учреждения и семьи в логопедической работе. Логопед 2005 N 5.</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ушкина Н.Д. Синквейн в работе по развитию речи дошкольников. Логопед 2005 N 5.</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Жукова Н.С., Мастюкова Е.М., Филичева Г.Б. «Логопедия». Екатеринбург, 1998</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иличева Т.Б. «Основы логопедии» М.Просвещение 1989.</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Фомичева М.Ф. Воспитание у детей правильного произношения. М. Воронеж, 1997.</a:t>
            </a:r>
            <a:endParaRPr b="0" lang="en-US" sz="2400" spc="-1" strike="noStrike">
              <a:solidFill>
                <a:srgbClr val="000000"/>
              </a:solidFill>
              <a:latin typeface="Century Schoolbook"/>
            </a:endParaRPr>
          </a:p>
          <a:p>
            <a:pPr marL="264600" indent="-26460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АКТУАЛЬНОСТЬ</a:t>
            </a:r>
            <a:endParaRPr b="0" lang="en-US" sz="3000" spc="-1" strike="noStrike">
              <a:solidFill>
                <a:srgbClr val="323232"/>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дним из важнейших направлений в коррекционно-воспитательной деятельности логопеда  ОУ является работа с родителями – как одно из условий оптимизации педагогического процесса и социализации ребенка, имеющего речевые нарушения. Очень важно сделать родителей активными участниками педагогического процесса, научить их адекватно оценивать и развивать своего ребенка. </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туальность и востребованность проекта определяются реальными потребностями системы отечественного  школьного образования и существующими противоречиями между:</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остом количества детей с речевыми нарушениями и отсутствием возможности оказания коррекционно-логопедической помощи всем нуждающимся в условиях  ОУ общеразвивающего вида;</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обходимостью участия родителей в коррекционно-логопедическом процессе и отсутствием эффективных технологий взаимодействия образовательного учреждения и семьи по данному направлению;</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ходя из вышеизложенного, я вижу актуальность и значимость проблемы повышения компетентности родителей в вопросах речевого развития детей. Во-первых, родители являются авторитетом для него, а во-вторых, они ежедневно могут закреплять навыки в непосредственном общении. </a:t>
            </a:r>
            <a:endParaRPr b="0" lang="en-US" sz="16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680"/>
            <a:ext cx="746748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АНАЛИЗ ОПЫТА</a:t>
            </a:r>
            <a:endParaRPr b="0" lang="en-US" sz="3000" spc="-1" strike="noStrike">
              <a:solidFill>
                <a:srgbClr val="323232"/>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Вопросами семейного воспитания детей с проблемами в развитии речи занимались Г.А. Волкова, Ю.Ф. Гаркуша, Г.В. Гуровец, С.Т. Григорян, Л.Н. Ефименкова, Н.Л. Крылова, В.И. Лубовский, Е.М. Мастюкова, Э.В. Миронова, А.Г. Московкина, Н.В. Новоторцева, Л.П. Носкова, В.И. Селиверстов, Т.Б. Филичева, Г.В. Чиркина и др. Авторы подчеркивают роль ближайшего окружения (семьи) в процессе коррекционно-педагогического воздействия на детей, имеющих речевые нарушения, и считают организацию правильного семейного воспитания таких детей одним из условий создания для них среды развития. Особое место в данном процессе отводят повышению психолого-педагогической культуры родителей. Важнейшими предпосылками для повышения эффективности работы авторы называют формирование у родителей мотивированного отношения к коррекционной работе и активное включение в нее.</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entury Schoolbook"/>
              </a:rPr>
              <a:t>Изучив литературу по вопросам речевого развития и вопросам взаимодействия логопеда с семьями воспитанников, я пришла к выводу о разработке практико-ориентированного проекта, в котором приняли бы участие и дети, и родители, и специалисты  ОУ. </a:t>
            </a:r>
            <a:endParaRPr b="0" lang="en-US" sz="17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ЦЕЛЬ  И ЗАДАЧИ</a:t>
            </a:r>
            <a:endParaRPr b="0" lang="en-US" sz="3000" spc="-1" strike="noStrike">
              <a:solidFill>
                <a:srgbClr val="323232"/>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entury Schoolbook"/>
              </a:rPr>
              <a:t>Цель проект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Повышение уровня компетентности родителей в вопросах речевого развития детей.</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entury Schoolbook"/>
              </a:rPr>
              <a:t>Задачи:</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выяснение образовательных потребностей родителей и уровень их компетентности в вопросах речевого развития, установить контакт с ее членами, согласовать воспитательное воздействие на ребенк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разработка модели реализации проект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 </a:t>
            </a:r>
            <a:r>
              <a:rPr b="0" lang="ru-RU" sz="1900" spc="-1" strike="noStrike">
                <a:solidFill>
                  <a:srgbClr val="000000"/>
                </a:solidFill>
                <a:latin typeface="Century Schoolbook"/>
              </a:rPr>
              <a:t>апробация системы методических мероприятий для родителей по вопросам речевого развития  младших школьников  ;</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создание логопедической копилки для родителей «Семейная игротека»;</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Разработка и применение единых требований, предъявляемых к родителям и ребёнку, общего подхода к воспитанию;</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entury Schoolbook"/>
              </a:rPr>
              <a:t>Распространение опыта работы.</a:t>
            </a: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НОВИЗНА ПРОЕКТА</a:t>
            </a:r>
            <a:endParaRPr b="0" lang="en-US" sz="3000" spc="-1" strike="noStrike">
              <a:solidFill>
                <a:srgbClr val="323232"/>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000000"/>
                </a:solidFill>
                <a:latin typeface="Times New Roman"/>
                <a:ea typeface="Times New Roman"/>
              </a:rPr>
              <a:t>Проблема выстраивания отношений педагогов и родителей  – актуальна и сегодня.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основе современного взгляда на взаимодействие  с семьей заложен  приоритет семейного воспитания. ( Закон об образовании Р. Ф.)</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овизна этих отношений выражается в </a:t>
            </a:r>
            <a:r>
              <a:rPr b="0" i="1" lang="ru-RU" sz="2000" spc="-1" strike="noStrike">
                <a:solidFill>
                  <a:srgbClr val="000000"/>
                </a:solidFill>
                <a:latin typeface="Times New Roman"/>
                <a:ea typeface="Times New Roman"/>
              </a:rPr>
              <a:t>мотивации, сотрудничестве, взаимодействи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еобходимо обновить и систематизировать  эффективные подходы,  формы, принципы  с учетом изменившейся ситуации. </a:t>
            </a:r>
            <a:endParaRPr b="0" lang="en-US" sz="2000" spc="-1" strike="noStrike">
              <a:solidFill>
                <a:srgbClr val="000000"/>
              </a:solidFill>
              <a:latin typeface="Century Schoolbook"/>
            </a:endParaRPr>
          </a:p>
          <a:p>
            <a:pPr marL="272880" indent="-272880">
              <a:lnSpc>
                <a:spcPct val="10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УЧАСТНИКИ ПРОЕКТА</a:t>
            </a:r>
            <a:endParaRPr b="0" lang="en-US" sz="3000" spc="-1" strike="noStrike">
              <a:solidFill>
                <a:srgbClr val="323232"/>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уководитель: Сычева Ирина Александровна</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Рабочая группа: учителя начальных классов, библиотекарь, педагог-психолог, медицинский работник. </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Благополучатели: дети младшего школьного возраста, их родители.</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СРОКИ РЕАЛИЗАЦИИ ПРОЕКТА</a:t>
            </a:r>
            <a:endParaRPr b="0" lang="en-US" sz="3000" spc="-1" strike="noStrike">
              <a:solidFill>
                <a:srgbClr val="323232"/>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этап- подготовительный с 01.09.2013 по 01.10.2013</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2 этап- основной   с 01.10.2013 по 25.05.2014</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3 этап- заключительный (аналитический)</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ОЖИДАЕМЫЕ РЕЗУЛЬТАТЫ</a:t>
            </a:r>
            <a:endParaRPr b="0" lang="en-US" sz="3000" spc="-1" strike="noStrike">
              <a:solidFill>
                <a:srgbClr val="323232"/>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1. Активное включение родителей  в коррекционно-развивающий процесс по устранению речевых недостатков детей в домашних условиях . </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2. Самостоятельное использование  родителями материалов из логопедической копилки .</a:t>
            </a: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3.Повышение педагогической компетентности родителей в вопросах речевого развития ребенка.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23232"/>
                </a:solidFill>
                <a:latin typeface="Century Schoolbook"/>
              </a:rPr>
              <a:t>ПОДГОТОВИТЕЛЬНЫЙ ЭТАП</a:t>
            </a:r>
            <a:endParaRPr b="0" lang="en-US" sz="3000" spc="-1" strike="noStrike">
              <a:solidFill>
                <a:srgbClr val="323232"/>
              </a:solidFill>
              <a:latin typeface="Century Schoolbook"/>
            </a:endParaRPr>
          </a:p>
        </p:txBody>
      </p:sp>
      <p:sp>
        <p:nvSpPr>
          <p:cNvPr id="368" name=""/>
          <p:cNvSpPr txBox="1"/>
          <p:nvPr/>
        </p:nvSpPr>
        <p:spPr>
          <a:xfrm>
            <a:off x="456840" y="1428840"/>
            <a:ext cx="7467480" cy="5045040"/>
          </a:xfrm>
          <a:prstGeom prst="rect">
            <a:avLst/>
          </a:prstGeom>
          <a:noFill/>
          <a:ln w="0">
            <a:noFill/>
          </a:ln>
        </p:spPr>
        <p:txBody>
          <a:bodyPr anchor="t">
            <a:normAutofit fontScale="98000"/>
          </a:bodyPr>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Провели контент –анализ по теме «Участие родителей в вопросах речевого развития ребенка»</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ли рабочую группу</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работали план</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ыяснила образовательные потребности родителей и уровень их компетентности в вопросах речевого развития, установила контакт с ее членами, согласовала воспитательное воздействие на ребенка (анкета)</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ыработали и приняли единые требования, предъявляемые к родителям и ребёнку, в вопросах речевого развития, заключили дополнительные договоры между учителем логопедом и родителями.</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готовили материальную и методическую базу: игровые упражнения, тексты, тесты, слоговые таблицы, направленных на формирование  правильной речи,   разработали презентации с собственными играми и упражнениями для методической копилки.</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азработали критерии эффективности проекта</a:t>
            </a: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lnSpc>
                <a:spcPct val="80000"/>
              </a:lnSpc>
              <a:spcBef>
                <a:spcPts val="60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5-11T15:11:30Z</dcterms:modified>
  <cp:revision>58</cp:revision>
  <dc:subject/>
  <dc:title>повышение родительской компетентности в вопросах речевого развития ребенка </dc:title>
</cp:coreProperties>
</file>