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png" ContentType="image/png"/>
  <Override PartName="/ppt/media/image7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dt" idx="5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6939C-4E90-4C38-86E2-87F56A12A3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E4437-8C01-4EB7-9DF7-B6A9CE6891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761684-5022-4585-8788-88A677E295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83004-DC61-4407-8587-B195FE6AAE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469912-36DE-4125-95A0-115A3D17DD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C5163-E0DE-4002-9B24-BC74031182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69E1E0-E979-4D85-8DF8-F7EC7E9556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21F15-B92C-4B68-9D8C-2C08CFE6E3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44274-899E-443D-8D53-FFCD33E4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095F0-F2E1-4279-9A78-E2117BFA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1F117-1385-47C8-8E75-C369CB00A6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CD9E6-0E61-4701-A92D-964F61400D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61371-0070-48DA-865F-27789FCC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16567-6914-4E81-8658-BA9CDF77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54A8D-2B74-4B63-B607-DC83D5F0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6757B-9768-4B06-8534-7CCE32CA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49501-33B5-44CC-BE32-2DFDEB92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EB237-9C7A-4133-A0CD-2F4799DC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D3CE0-3EDF-438C-A7F3-95115451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22BFE-4F45-497A-8826-A510F4C1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837C1-BE4E-401E-B0EB-22510585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C0621-BBA6-412D-862B-87A0AEAB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D5B40-0082-4465-894F-D5295DA1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5F4F2-021F-49A6-9209-153EE49DAD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1494E-1A82-4856-8D10-6D24A32C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5A024-B1FC-484D-96D0-2F9CDBA3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9B6F1-38A8-4EAC-B5BC-EBA2217A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5ECDD-2A62-4032-B7C6-622C298C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F9AE5-79C0-4860-A6F9-ED8ECA06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1FA40-283D-4CDD-B2BC-4C01EB05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4A95F-2A94-4332-A853-2C925ECA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360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57DC58-580A-487F-947E-92CC2293887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Picture 9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Oval 11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360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1F61CA-9797-40C1-856C-B6C706C257C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528040" cy="5634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5000760" y="500076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а 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ёвина Ирина Валентин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ОУ Домодедовская  СОШ №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1434960" y="189000"/>
            <a:ext cx="7499520" cy="60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Цели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асширить кругозор учащихся, обратить внимание на трудное существование  птиц зимо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ививать любовь к природе и воспитывать гуманность, рассказать о пользе пти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знакомить с многообразием и особенностями зимующих в наших краях птиц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казать необходимость и способы оказания помощи птицам зим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Оборудование: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исунки детей о птицах, кормушки, изготовленные руками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2744640" cy="2833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6759720" y="0"/>
            <a:ext cx="2384280" cy="2997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4"/>
          <a:stretch/>
        </p:blipFill>
        <p:spPr>
          <a:xfrm>
            <a:off x="826920" y="3500280"/>
            <a:ext cx="3100680" cy="3168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5"/>
          <a:stretch/>
        </p:blipFill>
        <p:spPr>
          <a:xfrm>
            <a:off x="5867280" y="4221000"/>
            <a:ext cx="2633760" cy="198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</cp:lastModifiedBy>
  <dcterms:modified xsi:type="dcterms:W3CDTF">2015-05-11T12:27:57Z</dcterms:modified>
  <cp:revision>51</cp:revision>
  <dc:subject/>
  <dc:title>Покормите птиц!</dc:title>
</cp:coreProperties>
</file>