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5B9FE-A279-490A-83F0-043898CEAC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32594-0452-4C14-ADC4-2ACC85BEC4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46C483-04AC-4700-B284-7F93407E9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7B07A-B3CB-4273-98C0-0A136DC457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88D0EB-B09E-4C5C-8F6F-8FE27235D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56D5F-989C-41D4-AE13-1651AA0DAB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2766B4-F8EE-4FB4-B7AC-5C3BA3CFA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966B-1E51-45A9-84E1-C5797C061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6CB1-357C-4A61-BA3A-9CF0614E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0EB9-62F1-4A1A-A924-930B4624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999F-4022-4732-8BC7-A438C642CD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912BC-5B11-4B93-81B6-D561E83AF5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D64C3-5B64-45B3-B971-DE40E224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44C2C-7EAB-4774-ABBF-133EB1E0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3D60E-A30E-41F1-A0C8-21B6FCF1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9A025-D091-4065-9D44-EFE0C2A1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EDD1A-EE03-43A1-A188-99806EC3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3C3F8-F03B-4129-8D09-31472CB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9692-C748-4B80-8933-901CCF0B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1EAFE-1F18-4E0A-8AA7-555C6EE4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A859A-24E6-4440-B5E8-B666F923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A3DFE-6E52-4683-93FF-225B8943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0664A-28F7-4B4D-AE05-A529E144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146CF-99B0-4454-8CDD-498D46A0E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B039-4432-4342-A64C-EC51DEF0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44ED-1064-4D1C-852F-BC581F17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BAD1-DA71-4FA1-BD1B-DDC27D69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70D2-83D1-4B6C-BC74-6E0F3CCD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2337-3ABB-4B2F-B80B-207F2501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1568-8373-4412-AE9D-7630815A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1C35A-BA5F-4BE3-9439-7CAF125C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FC96ED-4BC9-4060-9EA3-32BCEBD752F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319AEC-3F71-4FB7-A060-A78567B164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528040" cy="5634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5000760" y="500076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а 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ёвина Ирина Валенти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ОУ Домодедовская 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434960" y="189000"/>
            <a:ext cx="749952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Цели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сширить кругозор учащихся, обратить внимание на трудное существование  птиц зим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вивать любовь к природе и воспитывать гуманность, рассказать о пользе пт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знакомить с многообразием и особенностями зимующих в наших краях птиц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казать необходимость и способы оказания помощи птицам зи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орудование: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исунки детей о птицах, кормушки, изготовленные руками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744640" cy="2833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6759720" y="0"/>
            <a:ext cx="2384280" cy="299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3100680" cy="316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5867280" y="4221000"/>
            <a:ext cx="2633760" cy="19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15-05-11T12:27:57Z</dcterms:modified>
  <cp:revision>51</cp:revision>
  <dc:subject/>
  <dc:title>Покормите птиц!</dc:title>
</cp:coreProperties>
</file>