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B0F-A5A5-47F9-8AB1-6529D05D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7DFF-E356-4787-A66E-F95FDA36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E122-9FAF-4F14-8A14-D1543972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E4F-0B13-49D0-A37A-7E36E3EF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F10-32F2-4077-B894-5CB34D7B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E12-3CE5-4170-A581-42B19EA8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BEB8-B4C9-405D-887F-85ED3983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E5F-99B7-4BA6-B31E-55BA08B1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ED5-FF3F-4DF3-B8C9-6DA77E82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1FC-66DE-4631-B28F-AAFD617B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B7F-436F-4667-A4C7-613B99FF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4BA-DE39-4373-816C-51F446A2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45A7-97B1-4EFE-9432-34BC916247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akprosto.ru/kak-897880-kak-sdat-normy-gto#ixzz3YT0ZU6sv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428760" y="28584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« Кадетская школа « Патриот» ЭМ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4429080" y="4286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  <a:ea typeface="Calibri"/>
              </a:rPr>
              <a:t>Подготовил: учитель физической культуры Мариничев Вадим Владимирови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072240" y="614376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  <a:ea typeface="Calibri"/>
              </a:rPr>
              <a:t>Энгельс 2015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643280" y="1643040"/>
            <a:ext cx="385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Calibri"/>
              </a:rPr>
              <a:t>Мониторинг норм « Комплекса ГТ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Users\Админ\Desktop\гто\12-regionov-gto.jpg"/>
          <p:cNvPicPr/>
          <p:nvPr/>
        </p:nvPicPr>
        <p:blipFill>
          <a:blip r:embed="rId1"/>
          <a:stretch/>
        </p:blipFill>
        <p:spPr>
          <a:xfrm>
            <a:off x="357120" y="1143000"/>
            <a:ext cx="4357800" cy="307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7"/>
          <p:cNvSpPr/>
          <p:nvPr/>
        </p:nvSpPr>
        <p:spPr>
          <a:xfrm>
            <a:off x="2195640" y="3933720"/>
            <a:ext cx="504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6948360" y="3933720"/>
            <a:ext cx="5032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857160" y="571680"/>
            <a:ext cx="7072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Недостаточное оснащение школ учебно- материальной баз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ысокая заболеваемост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Малоподвижный образ жизни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лохая экологическая обстан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Слишком малая заинтересованность детей спор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Новости 1beautynews.com Page 129"/>
          <p:cNvPicPr/>
          <p:nvPr/>
        </p:nvPicPr>
        <p:blipFill>
          <a:blip r:embed="rId1"/>
          <a:stretch/>
        </p:blipFill>
        <p:spPr>
          <a:xfrm>
            <a:off x="714240" y="2857680"/>
            <a:ext cx="442944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Семейный образ жизни Блог о здоровом образе жизни"/>
          <p:cNvPicPr/>
          <p:nvPr/>
        </p:nvPicPr>
        <p:blipFill>
          <a:blip r:embed="rId2"/>
          <a:stretch/>
        </p:blipFill>
        <p:spPr>
          <a:xfrm>
            <a:off x="5000760" y="3071880"/>
            <a:ext cx="3976560" cy="33242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5"/>
          <p:cNvSpPr/>
          <p:nvPr/>
        </p:nvSpPr>
        <p:spPr>
          <a:xfrm>
            <a:off x="2700360" y="3429000"/>
            <a:ext cx="358920" cy="4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5724360" y="342900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4067280" y="6165720"/>
            <a:ext cx="360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2946240" y="42876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libri"/>
              </a:rPr>
              <a:t>Интернет -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9"/>
          <p:cNvSpPr/>
          <p:nvPr/>
        </p:nvSpPr>
        <p:spPr>
          <a:xfrm>
            <a:off x="1142280" y="1143000"/>
            <a:ext cx="26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to-normy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1155600" y="164304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diplom.161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1"/>
          <p:cNvSpPr/>
          <p:nvPr/>
        </p:nvSpPr>
        <p:spPr>
          <a:xfrm>
            <a:off x="928800" y="2214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kakprosto.ru/kak-897880-kak-sdat-normy-gto#ixzz3YT0ZU6s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2"/>
          <p:cNvSpPr/>
          <p:nvPr/>
        </p:nvSpPr>
        <p:spPr>
          <a:xfrm>
            <a:off x="1071720" y="3214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yandex.ru/search/?text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стые%20дети%20%20картинки&amp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d=9582&amp;lr=1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3"/>
          <p:cNvSpPr/>
          <p:nvPr/>
        </p:nvSpPr>
        <p:spPr>
          <a:xfrm>
            <a:off x="947880" y="4572000"/>
            <a:ext cx="34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yandex.ru/images/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Скругленный прямоугольник 4"/>
          <p:cNvSpPr/>
          <p:nvPr/>
        </p:nvSpPr>
        <p:spPr>
          <a:xfrm>
            <a:off x="0" y="0"/>
            <a:ext cx="8785080" cy="655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785880" y="432360"/>
            <a:ext cx="707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74747"/>
                </a:solidFill>
                <a:latin typeface="Times New Roman"/>
                <a:ea typeface="Calibri"/>
              </a:rPr>
              <a:t>Указ Президента РФ от 24.03.2014 N 172 "О Всероссийском физкультурно-спортивном комплексе "Готов к труду и обороне" (ГТО)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928800" y="3364920"/>
            <a:ext cx="7215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1 сентября 2014 года в России возрожден комплекс "Готов к труду и обороне". Жители 12 регионов Российской Федерации примут участие в тестировании своей физической подготовленности. Чтобы сдать нормы ГТО на соответствующий значок, необходимо осуществить специальную подгот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C:\Users\Админ\Desktop\гто\gto.jpg"/>
          <p:cNvPicPr/>
          <p:nvPr/>
        </p:nvPicPr>
        <p:blipFill>
          <a:blip r:embed="rId1"/>
          <a:stretch/>
        </p:blipFill>
        <p:spPr>
          <a:xfrm>
            <a:off x="785880" y="1500120"/>
            <a:ext cx="1928880" cy="1714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C:\Users\Админ\Desktop\гто\zolotoy-znachok-gto.png"/>
          <p:cNvPicPr/>
          <p:nvPr/>
        </p:nvPicPr>
        <p:blipFill>
          <a:blip r:embed="rId2"/>
          <a:stretch/>
        </p:blipFill>
        <p:spPr>
          <a:xfrm>
            <a:off x="5929200" y="1428840"/>
            <a:ext cx="21430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Скругленный прямоугольник 4"/>
          <p:cNvSpPr/>
          <p:nvPr/>
        </p:nvSpPr>
        <p:spPr>
          <a:xfrm>
            <a:off x="285840" y="214200"/>
            <a:ext cx="8858160" cy="655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857160" y="664920"/>
            <a:ext cx="6500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Список 12-ти пилотных регионов ГТО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Белгородская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Владимирская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Московская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Смоленская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Свердловская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Ярославская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Республика Каре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Республика Марий Э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Республика Удмур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Республика Морд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Республика Татар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Красноя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В связи с вхождением Крыма в состав РФ к ним присоединилась республика Крым и первый пилотный город-регион Севастоп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Users\Админ\Desktop\гто\serebryanyy-znachok-gto.png"/>
          <p:cNvPicPr/>
          <p:nvPr/>
        </p:nvPicPr>
        <p:blipFill>
          <a:blip r:embed="rId1"/>
          <a:stretch/>
        </p:blipFill>
        <p:spPr>
          <a:xfrm>
            <a:off x="6715080" y="428760"/>
            <a:ext cx="1754280" cy="173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Скругленный прямоугольник 5"/>
          <p:cNvSpPr/>
          <p:nvPr/>
        </p:nvSpPr>
        <p:spPr>
          <a:xfrm>
            <a:off x="214200" y="189000"/>
            <a:ext cx="8821800" cy="655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642960" y="537480"/>
            <a:ext cx="8001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ГТО -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портивные и прикладные  виды физической подготовки, которые напоминают многоборье. Основные задачи ГТО - укрепление здоровья населения, физическое совершенствование, развитие массового физкультурного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нормы ГТО включают тестирование основных  видов  спортивно-прикладной деятельности: прыжки, бег, метание, лыжные гонки, подтягивание, плавание, стрельба, туризм. К сдаче ГТО допускаются граждане 11 возрастных групп, от 6 лет до 70 и старше.  Те, кто удачно сдаст нормы ГТО, сможет  получить бронзовый, серебряный и золотой значки. Планируется, что итоги сдачи норм ГТО школьниками будут учитываться при поступлении в ВУ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чала нужно  посетить врача-терапевта, который определит ваше состояние здоровья и допустит к сдаче норм ГТО. Затем отцените свои физические возможности. Нормы ГТО направлены на выявление уровня физических качеств (сила, быстрота, выносливость, скорость, координация) и прикладных навыков. Предварительное тестирование видов комплекса ГТО, поможет узнать ваши "слабые" стороны физической подготовки и эффективно спланировать самостоятельные тренир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Скругленный прямоугольник 5"/>
          <p:cNvSpPr/>
          <p:nvPr/>
        </p:nvSpPr>
        <p:spPr>
          <a:xfrm>
            <a:off x="179280" y="115920"/>
            <a:ext cx="8785440" cy="655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250920" y="981000"/>
            <a:ext cx="40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5435640" y="292428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5148360" y="450864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9"/>
          <p:cNvSpPr/>
          <p:nvPr/>
        </p:nvSpPr>
        <p:spPr>
          <a:xfrm>
            <a:off x="8388360" y="126828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857160" y="658080"/>
            <a:ext cx="6858000" cy="344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Цель комплекса ГТО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– увеличение продолжительности жизни населения с помощью систематической физической подгот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Задача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– массовое внедрение комплекса ГТО, охват системой подготовки всех возрастных групп на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Принципы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– добровольность и доступность системы подготовки для всех слоев населения, медицинский контроль, учет местных традиций и особ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Содержание комплекса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– нормативы ГТО и спортивных разрядов, система тестирования, рекомендации по особенностям двигательного режима для различных груп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C:\Users\Админ\Desktop\гто\d3a8221f1de34ab0a161c68c0e44351c.JPG"/>
          <p:cNvPicPr/>
          <p:nvPr/>
        </p:nvPicPr>
        <p:blipFill>
          <a:blip r:embed="rId1"/>
          <a:stretch/>
        </p:blipFill>
        <p:spPr>
          <a:xfrm>
            <a:off x="5072040" y="4357800"/>
            <a:ext cx="2952720" cy="196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C:\Users\Админ\Desktop\гто\214_big.jpg"/>
          <p:cNvPicPr/>
          <p:nvPr/>
        </p:nvPicPr>
        <p:blipFill>
          <a:blip r:embed="rId2"/>
          <a:stretch/>
        </p:blipFill>
        <p:spPr>
          <a:xfrm>
            <a:off x="714240" y="4071960"/>
            <a:ext cx="3929040" cy="2428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Скругленный прямоугольник 6"/>
          <p:cNvSpPr/>
          <p:nvPr/>
        </p:nvSpPr>
        <p:spPr>
          <a:xfrm>
            <a:off x="179280" y="115920"/>
            <a:ext cx="8785440" cy="655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1143000" y="431280"/>
            <a:ext cx="6286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нобрнауки РФ окончательно разъяснили, каким образом советский комплекс «Готов к труду и обороне» (ГТО) реализуется в современной школе. Детей ожидает новая сетка нормативов. В списке испытаний такие категории, как бег, прыжки, плавание, стрельба и даже турпоход. По замыслу авторов проекта, вся страна массово начнет активно бегать и прыгать уже к 2017 году. Нормы затронут не только школьников, но и трудовые коллективы, подчеркнули в ведом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Users\Админ\Desktop\гто\Pravitelstvo-razrabotalo-novuyu-struktur.jpg"/>
          <p:cNvPicPr/>
          <p:nvPr/>
        </p:nvPicPr>
        <p:blipFill>
          <a:blip r:embed="rId1"/>
          <a:stretch/>
        </p:blipFill>
        <p:spPr>
          <a:xfrm>
            <a:off x="1071720" y="3429000"/>
            <a:ext cx="7358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C:\Users\Админ\Desktop\гто\3-stupen-GTO.jpg"/>
          <p:cNvPicPr/>
          <p:nvPr/>
        </p:nvPicPr>
        <p:blipFill>
          <a:blip r:embed="rId1"/>
          <a:stretch/>
        </p:blipFill>
        <p:spPr>
          <a:xfrm>
            <a:off x="6072120" y="0"/>
            <a:ext cx="292896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Users\Админ\Desktop\гто\1-stupenn.jpg"/>
          <p:cNvPicPr/>
          <p:nvPr/>
        </p:nvPicPr>
        <p:blipFill>
          <a:blip r:embed="rId2"/>
          <a:stretch/>
        </p:blipFill>
        <p:spPr>
          <a:xfrm>
            <a:off x="0" y="0"/>
            <a:ext cx="30877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Админ\Desktop\гто\2-stupen-GTO.jpg"/>
          <p:cNvPicPr/>
          <p:nvPr/>
        </p:nvPicPr>
        <p:blipFill>
          <a:blip r:embed="rId3"/>
          <a:stretch/>
        </p:blipFill>
        <p:spPr>
          <a:xfrm>
            <a:off x="3112920" y="0"/>
            <a:ext cx="295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Users\Админ\Desktop\гто\4-stupen-GTO.jpg"/>
          <p:cNvPicPr/>
          <p:nvPr/>
        </p:nvPicPr>
        <p:blipFill>
          <a:blip r:embed="rId1"/>
          <a:stretch/>
        </p:blipFill>
        <p:spPr>
          <a:xfrm>
            <a:off x="0" y="0"/>
            <a:ext cx="264312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Админ\Desktop\гто\5-stupen-GTO.jpg"/>
          <p:cNvPicPr/>
          <p:nvPr/>
        </p:nvPicPr>
        <p:blipFill>
          <a:blip r:embed="rId2"/>
          <a:stretch/>
        </p:blipFill>
        <p:spPr>
          <a:xfrm>
            <a:off x="2500200" y="0"/>
            <a:ext cx="33102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Users\Админ\Desktop\гто\7M-stupen-GTO.jpg"/>
          <p:cNvPicPr/>
          <p:nvPr/>
        </p:nvPicPr>
        <p:blipFill>
          <a:blip r:embed="rId3"/>
          <a:stretch/>
        </p:blipFill>
        <p:spPr>
          <a:xfrm>
            <a:off x="5575320" y="0"/>
            <a:ext cx="356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14240" y="3143160"/>
          <a:ext cx="8072640" cy="2725920"/>
        </p:xfrm>
        <a:graphic>
          <a:graphicData uri="http://schemas.openxmlformats.org/drawingml/2006/table">
            <a:tbl>
              <a:tblPr/>
              <a:tblGrid>
                <a:gridCol w="443160"/>
                <a:gridCol w="2369880"/>
                <a:gridCol w="852480"/>
                <a:gridCol w="962280"/>
                <a:gridCol w="1171440"/>
                <a:gridCol w="227340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.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г на 60 м./сек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г на 2 км/ мин.,с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гибание разгибание рук в упоре лежа на полу ( кол-во ра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ание мяча весом 150г.( м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брамов Рус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дольский Александ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идоров Роман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чинников Кост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йнетдинова Анаста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ашарова Анаста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розова Дарь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Прямоугольник 4"/>
          <p:cNvSpPr/>
          <p:nvPr/>
        </p:nvSpPr>
        <p:spPr>
          <a:xfrm>
            <a:off x="357120" y="3571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м мониторинг на примере обучающихся МБОУ « Кадетская школа «Патрио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428760" y="78588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раст 11-12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Картинка руки, поле, гурусть, слёзы, печаль, спорт, настроение, парни, разочарование, футбол, поражение 2560x1440, фото 56116"/>
          <p:cNvPicPr/>
          <p:nvPr/>
        </p:nvPicPr>
        <p:blipFill>
          <a:blip r:embed="rId1"/>
          <a:stretch/>
        </p:blipFill>
        <p:spPr>
          <a:xfrm>
            <a:off x="5143680" y="843120"/>
            <a:ext cx="3417840" cy="222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1:07:54Z</dcterms:created>
  <dc:creator>Мариничев В.В</dc:creator>
  <dc:description/>
  <dc:language>en-US</dc:language>
  <cp:lastModifiedBy>Админ</cp:lastModifiedBy>
  <dcterms:modified xsi:type="dcterms:W3CDTF">2015-05-11T06:45:20Z</dcterms:modified>
  <cp:revision>52</cp:revision>
  <dc:subject>Комплексы упражнений для занятий с детьми имеющими отклонения в здоровье</dc:subject>
  <dc:title>Комплексы упражнений для занятий с детьми имеющими отклонения в здоровье</dc:title>
</cp:coreProperties>
</file>