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43A-8032-4CF3-AE27-82F2F3DD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DD5-DCC3-48F2-B28B-4FF27A2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D06-6AD0-4DC4-A534-9CB5DB0F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72B-9940-462C-AEDB-A448961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81F-72A4-4DFD-8244-178300D3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678-E6E0-4F5F-AA7D-B82C9EB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36A-77BA-44F2-9390-E3B47B6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F22-1B74-41AA-BB15-6AFD8747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DA9-A932-4145-BD7F-00EA021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B27-92E3-436F-87BA-FBAC0D9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20C-0D03-436A-88B6-3D599CB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386-3D69-4C84-9E3A-18682BA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307C-D729-4046-A8C6-99E53C6DD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воспитатель МБДОУ детского сада №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луновская Н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9052010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07:13:59Z</dcterms:created>
  <dc:creator>Та</dc:creator>
  <dc:description/>
  <dc:language>en-US</dc:language>
  <cp:lastModifiedBy>Джин</cp:lastModifiedBy>
  <dcterms:modified xsi:type="dcterms:W3CDTF">2015-05-11T14:02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