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B1E-D9FF-459C-B559-D120D1C9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A54-0BF3-4C8F-A0C0-C07C4876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454-43DE-4C05-9025-18104F94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F9D-1D1A-49A9-9141-0253D38D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0D4-5932-4BF1-AFB6-74DB40F4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FEF-DADC-4A25-A0B8-9B88A8C6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67A-B54B-4B78-9F56-997501F2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2F5-E73B-4FBC-B379-4DFA63F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079-E7E4-4DC3-9CD2-9D7B55B2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080-8D56-413F-BDC5-4E760D9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863-6210-430A-90CD-0977687A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9A9-36E9-41F4-BE9A-EF7D87B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0DBC-97A0-422A-BDDA-095EF0040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 воспитатель МБДОУ детского сада №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луновская Н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9052010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07:13:59Z</dcterms:created>
  <dc:creator>Та</dc:creator>
  <dc:description/>
  <dc:language>en-US</dc:language>
  <cp:lastModifiedBy>Джин</cp:lastModifiedBy>
  <dcterms:modified xsi:type="dcterms:W3CDTF">2015-05-11T14:02:3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