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40E-876C-403D-AF44-B4DDEE9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650-715C-4D54-887D-C5623AB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2E8-CA8C-4F7F-B2D7-25C400E4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805-7A94-49C3-B5E5-6994AB15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D34E-583B-4BB4-8F68-58F18F1B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F3B-5352-4077-8A47-2935CD9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9FBC-4791-46CB-B34E-B6F989D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6D3-87A7-41AB-B42D-6D53E17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63F-AEBA-4973-BF4A-D40684A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124C-ED89-4295-A0C1-FFCE511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FD5-0445-4797-809F-E620D9B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EDF-F47A-4344-B6B9-39A28C11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89EA-B9EB-46CA-B355-9505B69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448-1768-4898-A80A-A5D3E9AA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41AF-E5E2-43EF-A096-666C1BC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5C9-9D10-4D10-8F20-39199B8D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DDAA-CEAE-4317-84DB-62E9BA5D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0C9-D571-47B1-B965-E9A4B3E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908-3AAB-4265-B651-4E99C75F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008-C7D4-4BF4-94C7-452E7D9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056-4039-47D2-B7E4-8E17B73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E36-FCB2-4DBC-8E5B-2A37673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794-DF4D-4946-BDAB-E6EA3C9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A58-268A-468E-ACCA-C529A8F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4e8a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8f5fd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5ACD-2EA5-42D6-85F6-3286870C3B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9387-77B8-41FA-A14F-D853C76D3B65}" type="slidenum">
              <a:rPr b="0" lang="ru-RU" sz="14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ЕМЬ ЧУДЕС СВЕТА</a:t>
            </a:r>
            <a:endParaRPr b="0" lang="en-US" sz="80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 Black"/>
              </a:rPr>
              <a:t>Древний мир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СТАВИЛА: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хорова Елена Анатольевна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лассный руководитель 9 класса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СТАТУЯ ЗЕВСА ОЛИМПИЙСКОГ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1" name="Picture 5" descr="Безымянный"/>
          <p:cNvPicPr/>
          <p:nvPr/>
        </p:nvPicPr>
        <p:blipFill>
          <a:blip r:embed="rId1"/>
          <a:stretch/>
        </p:blipFill>
        <p:spPr>
          <a:xfrm>
            <a:off x="2627280" y="1916280"/>
            <a:ext cx="4032360" cy="45370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КОЛОСС РОДОССКИ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3" name="Picture 5" descr="0ef3514396fa5c310f7c69c28a467fcd"/>
          <p:cNvPicPr/>
          <p:nvPr/>
        </p:nvPicPr>
        <p:blipFill>
          <a:blip r:embed="rId1"/>
          <a:stretch/>
        </p:blipFill>
        <p:spPr>
          <a:xfrm>
            <a:off x="2195640" y="1773360"/>
            <a:ext cx="4897440" cy="3711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КОЛОСС РОДОССКИ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5" name="Picture 5" descr="rhodes_461"/>
          <p:cNvPicPr/>
          <p:nvPr/>
        </p:nvPicPr>
        <p:blipFill>
          <a:blip r:embed="rId1"/>
          <a:stretch/>
        </p:blipFill>
        <p:spPr>
          <a:xfrm>
            <a:off x="611280" y="1773360"/>
            <a:ext cx="325908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76" name="Picture 7" descr="0_22fbd_da5dc104_XL"/>
          <p:cNvPicPr/>
          <p:nvPr/>
        </p:nvPicPr>
        <p:blipFill>
          <a:blip r:embed="rId2"/>
          <a:stretch/>
        </p:blipFill>
        <p:spPr>
          <a:xfrm>
            <a:off x="5076720" y="3573360"/>
            <a:ext cx="3810240" cy="2857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ХРАМ АРТЕМИДЫ ЭФЕССКО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78" name="Picture 5" descr="8d9ead931a4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ХРАМ АРТЕМИДЫ ЭФЕССКО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80" name="Picture 5" descr="21500006_image"/>
          <p:cNvPicPr/>
          <p:nvPr/>
        </p:nvPicPr>
        <p:blipFill>
          <a:blip r:embed="rId1"/>
          <a:stretch/>
        </p:blipFill>
        <p:spPr>
          <a:xfrm>
            <a:off x="324000" y="1916280"/>
            <a:ext cx="4103640" cy="31683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81" name="Picture 7" descr="hram3"/>
          <p:cNvPicPr/>
          <p:nvPr/>
        </p:nvPicPr>
        <p:blipFill>
          <a:blip r:embed="rId2"/>
          <a:stretch/>
        </p:blipFill>
        <p:spPr>
          <a:xfrm>
            <a:off x="4788000" y="3500280"/>
            <a:ext cx="4170240" cy="30402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684360" y="1989000"/>
            <a:ext cx="777528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evenwondersmap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8038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АЛЕКСАНДРИЙСКИЙ МАЯК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4" name="Picture 5" descr="167c64aec3cbf7df0499fa95ba937944"/>
          <p:cNvPicPr/>
          <p:nvPr/>
        </p:nvPicPr>
        <p:blipFill>
          <a:blip r:embed="rId1"/>
          <a:stretch/>
        </p:blipFill>
        <p:spPr>
          <a:xfrm>
            <a:off x="1609560" y="1916280"/>
            <a:ext cx="5924880" cy="40939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АЛЕКСАНДРИЙСКИЙ МАЯК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6" name="Picture 5" descr="5"/>
          <p:cNvPicPr/>
          <p:nvPr/>
        </p:nvPicPr>
        <p:blipFill>
          <a:blip r:embed="rId1"/>
          <a:stretch/>
        </p:blipFill>
        <p:spPr>
          <a:xfrm>
            <a:off x="1017720" y="1981080"/>
            <a:ext cx="314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57" name="Picture 7" descr="029e84c2b693"/>
          <p:cNvPicPr/>
          <p:nvPr/>
        </p:nvPicPr>
        <p:blipFill>
          <a:blip r:embed="rId2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ГАЛИКАРНАСКИЙ МАВЗОЛ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59" name="Picture 5" descr="0055258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ГАЛИКАРНАСКИЙ МАВЗОЛЕЙ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1" name="Picture 5" descr="Le%20Mausol%E9e%20%E0%20Halicarnassus"/>
          <p:cNvPicPr/>
          <p:nvPr/>
        </p:nvPicPr>
        <p:blipFill>
          <a:blip r:embed="rId1"/>
          <a:stretch/>
        </p:blipFill>
        <p:spPr>
          <a:xfrm>
            <a:off x="755640" y="2205000"/>
            <a:ext cx="3600360" cy="2448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62" name="Picture 7" descr="47983316_1243660635_mausol06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57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 Black"/>
              </a:rPr>
              <a:t>ЕГИПЕТСКИЕ ПИРАМИДЫ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4" name="Picture 5" descr="под 0014"/>
          <p:cNvPicPr/>
          <p:nvPr/>
        </p:nvPicPr>
        <p:blipFill>
          <a:blip r:embed="rId1"/>
          <a:stretch/>
        </p:blipFill>
        <p:spPr>
          <a:xfrm>
            <a:off x="1828800" y="2324160"/>
            <a:ext cx="5486400" cy="3429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ВИСЯЧИЕ САДЫ СЕМИРАМИДЫ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6" name="Picture 4" descr="13454633"/>
          <p:cNvPicPr/>
          <p:nvPr/>
        </p:nvPicPr>
        <p:blipFill>
          <a:blip r:embed="rId1"/>
          <a:stretch/>
        </p:blipFill>
        <p:spPr>
          <a:xfrm>
            <a:off x="684360" y="2133720"/>
            <a:ext cx="4606920" cy="33811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367" name="Picture 6" descr="Sete+Maravilhas+-+Jardins+Suspensos+da+Babil%C3%B4nia"/>
          <p:cNvPicPr/>
          <p:nvPr/>
        </p:nvPicPr>
        <p:blipFill>
          <a:blip r:embed="rId2"/>
          <a:stretch/>
        </p:blipFill>
        <p:spPr>
          <a:xfrm>
            <a:off x="6084720" y="2133720"/>
            <a:ext cx="2638440" cy="38098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 Black"/>
              </a:rPr>
              <a:t>СТАТУЯ ЗЕВСА ОЛИМПИЙСКОГО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pic>
        <p:nvPicPr>
          <p:cNvPr id="369" name="Picture 5" descr="237d03902759"/>
          <p:cNvPicPr/>
          <p:nvPr/>
        </p:nvPicPr>
        <p:blipFill>
          <a:blip r:embed="rId1"/>
          <a:stretch/>
        </p:blipFill>
        <p:spPr>
          <a:xfrm>
            <a:off x="1778040" y="2095560"/>
            <a:ext cx="5587920" cy="38862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2:24:32Z</dcterms:created>
  <dc:creator>Admin</dc:creator>
  <dc:description/>
  <dc:language>en-US</dc:language>
  <cp:lastModifiedBy>Biblioteka</cp:lastModifiedBy>
  <dcterms:modified xsi:type="dcterms:W3CDTF">2015-05-11T05:40:38Z</dcterms:modified>
  <cp:revision>7</cp:revision>
  <dc:subject/>
  <dc:title>СЕМЬ ЧУДЕС СВЕТА</dc:title>
</cp:coreProperties>
</file>