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7E1-4D16-4D58-B7EA-0DDBAD7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234-7988-4C11-B539-58FF2F0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18B-E93D-497A-B7EC-04EE2AA8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291-52E0-4C0D-BB49-8450D0D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AB03-7750-4F0D-801C-6248DBC0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C36-290D-4E28-9E62-855223B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E2EF-7D00-43E8-A0EA-8E86E2B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A7E1-CFAF-4252-8F96-7609A40C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D16-A8EC-4C6B-92D3-9014E66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5CA7-EF29-4E1B-867B-36DA048F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AC5-35F0-49FA-8193-97A9F21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8FC-9800-459E-BB28-8B582FD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D084-FF6C-448B-A067-7BA90E0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540-7565-43B4-9963-0289CDC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236-EB51-4760-8FB1-AFEC7A1C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E9DB-CF83-409A-B405-BA1D171B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0F4-13F7-4C48-8AAF-B664A2C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49E-E30A-4F2B-B4BA-06AC984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5FC-8572-4CAB-9BFA-0C96F151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BF8-FF3B-48B3-B57C-1245B104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071-FC3C-499B-8113-4BDE2C91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869-33B7-4DDC-8BDB-2927EEE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92E-F42D-449C-8F1D-E5821C6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C9A-6856-4F79-A512-7A2643FB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3282-8D76-4A4A-BFDE-961EACEBD9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324-5205-40CC-8DF8-0628A7A2A74E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ЕМЬ НОВЫХ ЧУДЕС СВЕТА</a:t>
            </a:r>
            <a:endParaRPr b="0" lang="en-US" sz="8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ПИРАМИДА МАЙЯ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В ГОРОДЕ ЧИЧЕН-ИЦА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МЕКСИКА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6" name="Picture 5" descr="pyramidelcastillo"/>
          <p:cNvPicPr/>
          <p:nvPr/>
        </p:nvPicPr>
        <p:blipFill>
          <a:blip r:embed="rId1"/>
          <a:stretch/>
        </p:blipFill>
        <p:spPr>
          <a:xfrm>
            <a:off x="1343160" y="1981080"/>
            <a:ext cx="645768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ПИРАМИДА МАЙЯ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В ГОРОДЕ ЧИЧЕН-ИЦА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8" name="Picture 5" descr="1231619725_1"/>
          <p:cNvPicPr/>
          <p:nvPr/>
        </p:nvPicPr>
        <p:blipFill>
          <a:blip r:embed="rId1"/>
          <a:stretch/>
        </p:blipFill>
        <p:spPr>
          <a:xfrm>
            <a:off x="250920" y="1916280"/>
            <a:ext cx="4537080" cy="345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9" name="Picture 7" descr="53-1"/>
          <p:cNvPicPr/>
          <p:nvPr/>
        </p:nvPicPr>
        <p:blipFill>
          <a:blip r:embed="rId2"/>
          <a:stretch/>
        </p:blipFill>
        <p:spPr>
          <a:xfrm>
            <a:off x="5076720" y="2708280"/>
            <a:ext cx="3810240" cy="388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МСКИЙ КОЛИЗЕЙ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(ИТАЛИЯ)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1" name="Picture 5" descr="img_22"/>
          <p:cNvPicPr/>
          <p:nvPr/>
        </p:nvPicPr>
        <p:blipFill>
          <a:blip r:embed="rId1"/>
          <a:stretch/>
        </p:blipFill>
        <p:spPr>
          <a:xfrm>
            <a:off x="1332000" y="2205000"/>
            <a:ext cx="6624720" cy="439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МСКИЙ КОЛИЗ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3" name="Picture 5" descr="41786317c14f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2857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4" name="Picture 7" descr="001"/>
          <p:cNvPicPr/>
          <p:nvPr/>
        </p:nvPicPr>
        <p:blipFill>
          <a:blip r:embed="rId2"/>
          <a:stretch/>
        </p:blipFill>
        <p:spPr>
          <a:xfrm>
            <a:off x="5003640" y="4076640"/>
            <a:ext cx="3810240" cy="2541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МАВЗОЛЕЙ ТАДЖ-МАХАЛ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ИНД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6" name="Picture 5" descr="e94207baea4e1aa217c2daf4556205df"/>
          <p:cNvPicPr/>
          <p:nvPr/>
        </p:nvPicPr>
        <p:blipFill>
          <a:blip r:embed="rId1"/>
          <a:stretch/>
        </p:blipFill>
        <p:spPr>
          <a:xfrm>
            <a:off x="324000" y="1773360"/>
            <a:ext cx="3809880" cy="2854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7" name="Picture 7" descr="08f59304fb53"/>
          <p:cNvPicPr/>
          <p:nvPr/>
        </p:nvPicPr>
        <p:blipFill>
          <a:blip r:embed="rId2"/>
          <a:stretch/>
        </p:blipFill>
        <p:spPr>
          <a:xfrm>
            <a:off x="4427640" y="3213000"/>
            <a:ext cx="4530600" cy="3508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МАВЗОЛЕЙ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 ТАДЖ-МАХАЛ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9" name="Picture 5" descr="66035680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482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90" name="Picture 7" descr="ecb8ee6c25"/>
          <p:cNvPicPr/>
          <p:nvPr/>
        </p:nvPicPr>
        <p:blipFill>
          <a:blip r:embed="rId2"/>
          <a:stretch/>
        </p:blipFill>
        <p:spPr>
          <a:xfrm>
            <a:off x="5076720" y="3860640"/>
            <a:ext cx="3810240" cy="2641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684360" y="1989000"/>
            <a:ext cx="777528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ВЕЛИКАЯ КИТАЙСКАЯ СТЕНА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КИТАЙ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3" name="Picture 5" descr="84707bb206548274d13e3d230e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ВЕЛИКАЯ КИТАЙСКАЯ СТЕНА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5" name="Picture 5" descr="great-wall-2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95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56" name="Picture 7" descr="Безымянный"/>
          <p:cNvPicPr/>
          <p:nvPr/>
        </p:nvPicPr>
        <p:blipFill>
          <a:blip r:embed="rId2"/>
          <a:stretch/>
        </p:blipFill>
        <p:spPr>
          <a:xfrm>
            <a:off x="4643280" y="3645000"/>
            <a:ext cx="3810240" cy="253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СТАТУЯ ХРИСТА В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РИО-ДЕ-ЖАНЕЙРО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БРАЗИЛ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8" name="Picture 5" descr="1271536175_320x480"/>
          <p:cNvPicPr/>
          <p:nvPr/>
        </p:nvPicPr>
        <p:blipFill>
          <a:blip r:embed="rId1"/>
          <a:stretch/>
        </p:blipFill>
        <p:spPr>
          <a:xfrm>
            <a:off x="468360" y="1989000"/>
            <a:ext cx="274320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59" name="Picture 7" descr="25a8bb2e1701"/>
          <p:cNvPicPr/>
          <p:nvPr/>
        </p:nvPicPr>
        <p:blipFill>
          <a:blip r:embed="rId2"/>
          <a:stretch/>
        </p:blipFill>
        <p:spPr>
          <a:xfrm>
            <a:off x="3780000" y="2637000"/>
            <a:ext cx="4817880" cy="3794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СТАТУЯ ХРИСТА В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О-ДЕ-ЖАНЕЙР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1" name="Picture 5" descr="new7wonder02"/>
          <p:cNvPicPr/>
          <p:nvPr/>
        </p:nvPicPr>
        <p:blipFill>
          <a:blip r:embed="rId1"/>
          <a:stretch/>
        </p:blipFill>
        <p:spPr>
          <a:xfrm>
            <a:off x="324000" y="4005360"/>
            <a:ext cx="3809880" cy="2519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2" name="Picture 7" descr="1217072956_cristo_redentor_-_rio"/>
          <p:cNvPicPr/>
          <p:nvPr/>
        </p:nvPicPr>
        <p:blipFill>
          <a:blip r:embed="rId2"/>
          <a:stretch/>
        </p:blipFill>
        <p:spPr>
          <a:xfrm>
            <a:off x="4886280" y="2028960"/>
            <a:ext cx="3333960" cy="4019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СКАЛЬНЫЙ ГОРОД ПЕТРА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ИОРДАН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4" name="Picture 5" descr="jordan_280420061633_6"/>
          <p:cNvPicPr/>
          <p:nvPr/>
        </p:nvPicPr>
        <p:blipFill>
          <a:blip r:embed="rId1"/>
          <a:stretch/>
        </p:blipFill>
        <p:spPr>
          <a:xfrm>
            <a:off x="179280" y="2060640"/>
            <a:ext cx="4321440" cy="2881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5" name="Picture 7" descr="petra-02-big"/>
          <p:cNvPicPr/>
          <p:nvPr/>
        </p:nvPicPr>
        <p:blipFill>
          <a:blip r:embed="rId2"/>
          <a:stretch/>
        </p:blipFill>
        <p:spPr>
          <a:xfrm>
            <a:off x="4716360" y="3860640"/>
            <a:ext cx="4097520" cy="2749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СКАЛЬНЫЙ ГОРОД ПЕТРА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7" name="Picture 5" descr="n7w-petra"/>
          <p:cNvPicPr/>
          <p:nvPr/>
        </p:nvPicPr>
        <p:blipFill>
          <a:blip r:embed="rId1"/>
          <a:stretch/>
        </p:blipFill>
        <p:spPr>
          <a:xfrm>
            <a:off x="324000" y="1989000"/>
            <a:ext cx="4464000" cy="345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8" name="Picture 7" descr="new_petra_small"/>
          <p:cNvPicPr/>
          <p:nvPr/>
        </p:nvPicPr>
        <p:blipFill>
          <a:blip r:embed="rId2"/>
          <a:stretch/>
        </p:blipFill>
        <p:spPr>
          <a:xfrm>
            <a:off x="5940360" y="2781360"/>
            <a:ext cx="2781360" cy="37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ГОРОД ИНДЕЙЦЕВ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МАЧУ-ПИКЧУ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ПЕРУ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0" name="Picture 5" descr="machu-picchu"/>
          <p:cNvPicPr/>
          <p:nvPr/>
        </p:nvPicPr>
        <p:blipFill>
          <a:blip r:embed="rId1"/>
          <a:stretch/>
        </p:blipFill>
        <p:spPr>
          <a:xfrm>
            <a:off x="324000" y="2205000"/>
            <a:ext cx="3809880" cy="2857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1" name="Picture 7" descr="1174030698_05_7chudes_110568"/>
          <p:cNvPicPr/>
          <p:nvPr/>
        </p:nvPicPr>
        <p:blipFill>
          <a:blip r:embed="rId2"/>
          <a:stretch/>
        </p:blipFill>
        <p:spPr>
          <a:xfrm>
            <a:off x="4500720" y="3068640"/>
            <a:ext cx="4248000" cy="3313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ГОРОД ИНДЕЙЦЕВ МАЧУ-ПИКЧУ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3" name="Picture 5" descr="32617651_2"/>
          <p:cNvPicPr/>
          <p:nvPr/>
        </p:nvPicPr>
        <p:blipFill>
          <a:blip r:embed="rId1"/>
          <a:stretch/>
        </p:blipFill>
        <p:spPr>
          <a:xfrm>
            <a:off x="395280" y="2060640"/>
            <a:ext cx="4537080" cy="345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4" name="Picture 7" descr="machu-picchu-1024"/>
          <p:cNvPicPr/>
          <p:nvPr/>
        </p:nvPicPr>
        <p:blipFill>
          <a:blip r:embed="rId2"/>
          <a:stretch/>
        </p:blipFill>
        <p:spPr>
          <a:xfrm>
            <a:off x="5508720" y="3860640"/>
            <a:ext cx="3384360" cy="2702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2:24:32Z</dcterms:created>
  <dc:creator>Admin</dc:creator>
  <dc:description/>
  <dc:language>en-US</dc:language>
  <cp:lastModifiedBy>Biblioteka</cp:lastModifiedBy>
  <dcterms:modified xsi:type="dcterms:W3CDTF">2015-05-11T05:41:16Z</dcterms:modified>
  <cp:revision>7</cp:revision>
  <dc:subject/>
  <dc:title>СЕМЬ ЧУДЕС СВЕТА</dc:title>
</cp:coreProperties>
</file>