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9F8-128B-41A7-BA17-A707C225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BAA-A29F-4423-B029-1BD83129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9A6-D346-46CA-BA6E-515F8ECA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C6E-64A7-4AC2-9975-859F8C13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25F6-B4F7-4BA6-A76E-4AE7C4D2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9B17-F5CA-414A-9DF2-6047648E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0491-8241-45BB-A607-AD8C9151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9B2F-C275-49FA-BA7E-B713BAE7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CADF-42AD-4EE3-B2BD-C2E81654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7F2A-1D3C-4DD8-82F6-2F9C8BA9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4236-459F-4899-8947-6943859A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8AA-E9F1-4BB7-8C5B-955B100D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4EE1-48BC-4737-B753-3D2A5716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52E7-52FA-4274-A6EA-F5595B74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F99D-A6A3-41DE-92BA-4BB32460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0A1E-A8F5-4139-94E4-128B60F7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7793-2178-4159-886B-2A8F44F7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579-7067-450B-94DD-D6D6219D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36EC-572D-4783-B4F8-97BE46EC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170-B321-454C-A6DE-0943118E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93A-80C8-43EA-8E4E-69A6C966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9C3-1A10-4EAF-B6FC-00B3921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432-E2E3-4BAA-A6CC-73F17D44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D82-505F-4AB7-A2B3-D4082688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4e8a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8f5fd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992B-7B32-467A-AAD6-8FE359C018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FA6B-644F-42FF-BC92-9A13E22A3A54}" type="slidenum">
              <a:rPr b="0" lang="ru-RU" sz="14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СЕМЬ НОВЫХ ЧУДЕС СВЕТА</a:t>
            </a:r>
            <a:endParaRPr b="0" lang="en-US" sz="80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ПИРАМИДА МАЙЯ 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В ГОРОДЕ ЧИЧЕН-ИЦА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(МЕКСИКА)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6" name="Picture 5" descr="pyramidelcastillo"/>
          <p:cNvPicPr/>
          <p:nvPr/>
        </p:nvPicPr>
        <p:blipFill>
          <a:blip r:embed="rId1"/>
          <a:stretch/>
        </p:blipFill>
        <p:spPr>
          <a:xfrm>
            <a:off x="1343160" y="1981080"/>
            <a:ext cx="6457680" cy="4114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ПИРАМИДА МАЙЯ </a:t>
            </a:r>
            <a:br>
              <a:rPr sz="4400"/>
            </a:b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В ГОРОДЕ ЧИЧЕН-ИЦА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8" name="Picture 5" descr="1231619725_1"/>
          <p:cNvPicPr/>
          <p:nvPr/>
        </p:nvPicPr>
        <p:blipFill>
          <a:blip r:embed="rId1"/>
          <a:stretch/>
        </p:blipFill>
        <p:spPr>
          <a:xfrm>
            <a:off x="250920" y="1916280"/>
            <a:ext cx="4537080" cy="3457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79" name="Picture 7" descr="53-1"/>
          <p:cNvPicPr/>
          <p:nvPr/>
        </p:nvPicPr>
        <p:blipFill>
          <a:blip r:embed="rId2"/>
          <a:stretch/>
        </p:blipFill>
        <p:spPr>
          <a:xfrm>
            <a:off x="5076720" y="2708280"/>
            <a:ext cx="3810240" cy="3884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РИМСКИЙ КОЛИЗЕЙ</a:t>
            </a:r>
            <a:br>
              <a:rPr sz="4400"/>
            </a:b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(ИТАЛИЯ)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81" name="Picture 5" descr="img_22"/>
          <p:cNvPicPr/>
          <p:nvPr/>
        </p:nvPicPr>
        <p:blipFill>
          <a:blip r:embed="rId1"/>
          <a:stretch/>
        </p:blipFill>
        <p:spPr>
          <a:xfrm>
            <a:off x="1332000" y="2205000"/>
            <a:ext cx="6624720" cy="439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РИМСКИЙ КОЛИЗЕЙ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83" name="Picture 5" descr="41786317c14f"/>
          <p:cNvPicPr/>
          <p:nvPr/>
        </p:nvPicPr>
        <p:blipFill>
          <a:blip r:embed="rId1"/>
          <a:stretch/>
        </p:blipFill>
        <p:spPr>
          <a:xfrm>
            <a:off x="395280" y="1557360"/>
            <a:ext cx="3809880" cy="2857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84" name="Picture 7" descr="001"/>
          <p:cNvPicPr/>
          <p:nvPr/>
        </p:nvPicPr>
        <p:blipFill>
          <a:blip r:embed="rId2"/>
          <a:stretch/>
        </p:blipFill>
        <p:spPr>
          <a:xfrm>
            <a:off x="5003640" y="4076640"/>
            <a:ext cx="3810240" cy="2541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МАВЗОЛЕЙ ТАДЖ-МАХАЛ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(ИНДИЯ)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86" name="Picture 5" descr="e94207baea4e1aa217c2daf4556205df"/>
          <p:cNvPicPr/>
          <p:nvPr/>
        </p:nvPicPr>
        <p:blipFill>
          <a:blip r:embed="rId1"/>
          <a:stretch/>
        </p:blipFill>
        <p:spPr>
          <a:xfrm>
            <a:off x="324000" y="1773360"/>
            <a:ext cx="3809880" cy="2854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87" name="Picture 7" descr="08f59304fb53"/>
          <p:cNvPicPr/>
          <p:nvPr/>
        </p:nvPicPr>
        <p:blipFill>
          <a:blip r:embed="rId2"/>
          <a:stretch/>
        </p:blipFill>
        <p:spPr>
          <a:xfrm>
            <a:off x="4427640" y="3213000"/>
            <a:ext cx="4530600" cy="3508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МАВЗОЛЕЙ</a:t>
            </a:r>
            <a:br>
              <a:rPr sz="4400"/>
            </a:b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 ТАДЖ-МАХАЛ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89" name="Picture 5" descr="66035680"/>
          <p:cNvPicPr/>
          <p:nvPr/>
        </p:nvPicPr>
        <p:blipFill>
          <a:blip r:embed="rId1"/>
          <a:stretch/>
        </p:blipFill>
        <p:spPr>
          <a:xfrm>
            <a:off x="468360" y="1700280"/>
            <a:ext cx="3959280" cy="4824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90" name="Picture 7" descr="ecb8ee6c25"/>
          <p:cNvPicPr/>
          <p:nvPr/>
        </p:nvPicPr>
        <p:blipFill>
          <a:blip r:embed="rId2"/>
          <a:stretch/>
        </p:blipFill>
        <p:spPr>
          <a:xfrm>
            <a:off x="5076720" y="3860640"/>
            <a:ext cx="3810240" cy="2641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3" name="WordArt 4"/>
          <p:cNvSpPr txBox="1"/>
          <p:nvPr/>
        </p:nvSpPr>
        <p:spPr>
          <a:xfrm>
            <a:off x="684360" y="1989000"/>
            <a:ext cx="777528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ВЕЛИКАЯ КИТАЙСКАЯ СТЕНА 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(КИТАЙ)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53" name="Picture 5" descr="84707bb206548274d13e3d230e9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ВЕЛИКАЯ КИТАЙСКАЯ СТЕНА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55" name="Picture 5" descr="great-wall-2"/>
          <p:cNvPicPr/>
          <p:nvPr/>
        </p:nvPicPr>
        <p:blipFill>
          <a:blip r:embed="rId1"/>
          <a:stretch/>
        </p:blipFill>
        <p:spPr>
          <a:xfrm>
            <a:off x="324000" y="1844640"/>
            <a:ext cx="3809880" cy="28954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56" name="Picture 7" descr="Безымянный"/>
          <p:cNvPicPr/>
          <p:nvPr/>
        </p:nvPicPr>
        <p:blipFill>
          <a:blip r:embed="rId2"/>
          <a:stretch/>
        </p:blipFill>
        <p:spPr>
          <a:xfrm>
            <a:off x="4643280" y="3645000"/>
            <a:ext cx="3810240" cy="253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СТАТУЯ ХРИСТА В 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РИО-ДЕ-ЖАНЕЙРО 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(БРАЗИЛИЯ)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58" name="Picture 5" descr="1271536175_320x480"/>
          <p:cNvPicPr/>
          <p:nvPr/>
        </p:nvPicPr>
        <p:blipFill>
          <a:blip r:embed="rId1"/>
          <a:stretch/>
        </p:blipFill>
        <p:spPr>
          <a:xfrm>
            <a:off x="468360" y="1989000"/>
            <a:ext cx="2743200" cy="4114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59" name="Picture 7" descr="25a8bb2e1701"/>
          <p:cNvPicPr/>
          <p:nvPr/>
        </p:nvPicPr>
        <p:blipFill>
          <a:blip r:embed="rId2"/>
          <a:stretch/>
        </p:blipFill>
        <p:spPr>
          <a:xfrm>
            <a:off x="3780000" y="2637000"/>
            <a:ext cx="4817880" cy="37940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СТАТУЯ ХРИСТА В </a:t>
            </a:r>
            <a:br>
              <a:rPr sz="4400"/>
            </a:b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РИО-ДЕ-ЖАНЕЙРО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61" name="Picture 5" descr="new7wonder02"/>
          <p:cNvPicPr/>
          <p:nvPr/>
        </p:nvPicPr>
        <p:blipFill>
          <a:blip r:embed="rId1"/>
          <a:stretch/>
        </p:blipFill>
        <p:spPr>
          <a:xfrm>
            <a:off x="324000" y="4005360"/>
            <a:ext cx="3809880" cy="25192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62" name="Picture 7" descr="1217072956_cristo_redentor_-_rio"/>
          <p:cNvPicPr/>
          <p:nvPr/>
        </p:nvPicPr>
        <p:blipFill>
          <a:blip r:embed="rId2"/>
          <a:stretch/>
        </p:blipFill>
        <p:spPr>
          <a:xfrm>
            <a:off x="4886280" y="2028960"/>
            <a:ext cx="3333960" cy="40194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СКАЛЬНЫЙ ГОРОД ПЕТРА 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(ИОРДАНИЯ)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64" name="Picture 5" descr="jordan_280420061633_6"/>
          <p:cNvPicPr/>
          <p:nvPr/>
        </p:nvPicPr>
        <p:blipFill>
          <a:blip r:embed="rId1"/>
          <a:stretch/>
        </p:blipFill>
        <p:spPr>
          <a:xfrm>
            <a:off x="179280" y="2060640"/>
            <a:ext cx="4321440" cy="2881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65" name="Picture 7" descr="petra-02-big"/>
          <p:cNvPicPr/>
          <p:nvPr/>
        </p:nvPicPr>
        <p:blipFill>
          <a:blip r:embed="rId2"/>
          <a:stretch/>
        </p:blipFill>
        <p:spPr>
          <a:xfrm>
            <a:off x="4716360" y="3860640"/>
            <a:ext cx="4097520" cy="2749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СКАЛЬНЫЙ ГОРОД ПЕТРА</a:t>
            </a:r>
            <a:r>
              <a:rPr b="0" lang="ru-RU" sz="4400" spc="-1" strike="noStrike">
                <a:solidFill>
                  <a:srgbClr val="00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67" name="Picture 5" descr="n7w-petra"/>
          <p:cNvPicPr/>
          <p:nvPr/>
        </p:nvPicPr>
        <p:blipFill>
          <a:blip r:embed="rId1"/>
          <a:stretch/>
        </p:blipFill>
        <p:spPr>
          <a:xfrm>
            <a:off x="324000" y="1989000"/>
            <a:ext cx="4464000" cy="3456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68" name="Picture 7" descr="new_petra_small"/>
          <p:cNvPicPr/>
          <p:nvPr/>
        </p:nvPicPr>
        <p:blipFill>
          <a:blip r:embed="rId2"/>
          <a:stretch/>
        </p:blipFill>
        <p:spPr>
          <a:xfrm>
            <a:off x="5940360" y="2781360"/>
            <a:ext cx="2781360" cy="3709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ГОРОД ИНДЕЙЦЕВ 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МАЧУ-ПИКЧУ</a:t>
            </a:r>
            <a:br>
              <a:rPr sz="4000"/>
            </a:br>
            <a:r>
              <a:rPr b="0" i="1" lang="ru-RU" sz="4000" spc="-1" strike="noStrike">
                <a:solidFill>
                  <a:srgbClr val="00ff00"/>
                </a:solidFill>
                <a:latin typeface="Arial Black"/>
              </a:rPr>
              <a:t>(ПЕРУ)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0" name="Picture 5" descr="machu-picchu"/>
          <p:cNvPicPr/>
          <p:nvPr/>
        </p:nvPicPr>
        <p:blipFill>
          <a:blip r:embed="rId1"/>
          <a:stretch/>
        </p:blipFill>
        <p:spPr>
          <a:xfrm>
            <a:off x="324000" y="2205000"/>
            <a:ext cx="3809880" cy="2857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71" name="Picture 7" descr="1174030698_05_7chudes_110568"/>
          <p:cNvPicPr/>
          <p:nvPr/>
        </p:nvPicPr>
        <p:blipFill>
          <a:blip r:embed="rId2"/>
          <a:stretch/>
        </p:blipFill>
        <p:spPr>
          <a:xfrm>
            <a:off x="4500720" y="3068640"/>
            <a:ext cx="4248000" cy="3313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Arial Black"/>
              </a:rPr>
              <a:t>ГОРОД ИНДЕЙЦЕВ МАЧУ-ПИКЧУ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3" name="Picture 5" descr="32617651_2"/>
          <p:cNvPicPr/>
          <p:nvPr/>
        </p:nvPicPr>
        <p:blipFill>
          <a:blip r:embed="rId1"/>
          <a:stretch/>
        </p:blipFill>
        <p:spPr>
          <a:xfrm>
            <a:off x="395280" y="2060640"/>
            <a:ext cx="4537080" cy="3456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374" name="Picture 7" descr="machu-picchu-1024"/>
          <p:cNvPicPr/>
          <p:nvPr/>
        </p:nvPicPr>
        <p:blipFill>
          <a:blip r:embed="rId2"/>
          <a:stretch/>
        </p:blipFill>
        <p:spPr>
          <a:xfrm>
            <a:off x="5508720" y="3860640"/>
            <a:ext cx="3384360" cy="2702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22:24:32Z</dcterms:created>
  <dc:creator>Admin</dc:creator>
  <dc:description/>
  <dc:language>en-US</dc:language>
  <cp:lastModifiedBy>Biblioteka</cp:lastModifiedBy>
  <dcterms:modified xsi:type="dcterms:W3CDTF">2015-05-11T05:41:16Z</dcterms:modified>
  <cp:revision>7</cp:revision>
  <dc:subject/>
  <dc:title>СЕМЬ ЧУДЕС СВЕТА</dc:title>
</cp:coreProperties>
</file>