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631-F5F2-4800-BF13-1C50279A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BBA-77D9-485F-8361-7E6C4E40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FE4-186C-4C14-AE8C-D495CD30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132-E66E-4029-9B1E-2B79CCC8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C64-8261-4840-8BC1-08983116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6D3-7413-46E8-972A-A1D5CAEA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869-6D77-4181-93FC-B8865EA1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181-B1DC-42A8-A92D-FC74B621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C69-C78D-497E-B0C5-B291E798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557-43D1-46DA-A5BB-E38BCF42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A5C-1F9F-4211-BF6F-1724EFE6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AC9-0116-4C7B-9EE4-D96478F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D682-65E2-4E21-9440-53023F9A58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1511280" y="-487440"/>
            <a:ext cx="7583400" cy="4730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0" y="593424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-логопед МКОУ С(К)школа-интернат 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ляева Ольг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готаблицы применяются на этапе автоматизации поставленных звуков у детей младшего школьного возраста, овладевших техникой послогового чт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рукция по применени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таем первый слог левого столбика, добавляем автоматизируемый звук и присоединяем к нему гласную, главное условие -  получить сло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ЕЦ:  (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Л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Ш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-  ЛУШ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   Называем автоматизируемый звук, присоединяем гласную из правого столбика. Подбираем слог или букву из крайнего правого столбика – получаем сло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ЕЦ:  (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Ш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 -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-  ША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У                                               Г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                               А            Л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                              И            П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Е             Р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                                О            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Ы                             Е             Л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                               У             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                                                КА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ГА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78596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Автоматизация звука 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71680" y="714240"/>
            <a:ext cx="79293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С                                                          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                                                          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Ы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А             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                                            Ы            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                                            О             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ЛБА                                     У              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                                                                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                                                            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78596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Автоматизация звука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684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                                      А            Б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                                      Ы           М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                                     У            Б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А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И            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Е                                    О            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Ё                                    Е             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                                                     Й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78596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Автоматизация звука 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400" y="1071720"/>
            <a:ext cx="871524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                                      А             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                                     Ы             П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О             П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                                     У            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                                     Е             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                                       И            Ж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Ю            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78596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Автоматизация звука 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4200" y="57168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                                     А            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                                    Ы           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                                      Э            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О            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Ы                                     У            Н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СО                                   Я             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А                                    И            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А                                    Е             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78596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Автоматизация звука 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6:19:21Z</dcterms:created>
  <dc:creator>Саня</dc:creator>
  <dc:description/>
  <dc:language>en-US</dc:language>
  <cp:lastModifiedBy>Olya-lya</cp:lastModifiedBy>
  <dcterms:modified xsi:type="dcterms:W3CDTF">2015-05-11T09:47:22Z</dcterms:modified>
  <cp:revision>6</cp:revision>
  <dc:subject/>
  <dc:title> ЛУ                                               Г НО                               А            ЛЬ МА                              И            ПКА СА             Ш               Е             РЫ КА                                О            НА КРЫ                             Е             ЛК НА                                У             В ЛЕ                                                КАЛ                                                      ГАЛ                                                      РА </dc:title>
</cp:coreProperties>
</file>