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129-9328-4A28-AC69-D06B2D32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4DF-E5CB-4EDB-A01B-67779D7A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FF7-A0CF-4C32-B348-51FB11EA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03A-E06A-4B52-8FA3-F5D94528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E61-5722-45DD-9639-4B1C5A70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2D7-1580-41F4-A253-AC8123EA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295-1E1F-4CE3-BDF9-C0722E39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1FB-4391-4D68-92FB-37B710A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828-E0B2-4F3C-9C5B-8A7901D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3BA-56B1-4DAB-91E9-6D1D3CE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807-E053-4B8C-9643-39633D9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BA8-6C8E-4DAD-A1C2-552C4BB7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4369-6EDE-4C84-B85D-ACD1E01ED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511280" y="-487440"/>
            <a:ext cx="7583400" cy="4730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0" y="593424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-логопед МКОУ С(К)школа-интернат 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ляева Ольг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готаблицы применяются на этапе автоматизации поставленных звуков у детей младшего школьного возраста, овладевших техникой послогового чт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рукция по применен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таем первый слог левого столбика, добавляем автоматизируемый звук и присоединяем к нему гласную, главное условие -  получить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ЕЦ:  (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Ш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-  ЛУШ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   Называем автоматизируемый звук, присоединяем гласную из правого столбика. Подбираем слог или букву из крайнего правого столбика – получаем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ЕЦ:  (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Ш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 -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-  ША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У                                               Г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                               А            Л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                              И            П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Е             Р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                                О            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Ы                             Е             Л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                               У             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                                                КА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ГА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   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1680" y="714240"/>
            <a:ext cx="79293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С                                                          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                                                          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Ы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А             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                                            Ы            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                                            О             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ЛБА                                     У              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                                                                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                                                            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                                      А            Б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                                      Ы           М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                                     У            Б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А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И            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Е                                    О            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Ё                                    Е             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                                                     Й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400" y="1071720"/>
            <a:ext cx="871524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                                      А             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                                     Ы             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О             П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                                     У            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                                     Е             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                                       И            Ж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Ю            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4200" y="57168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                                     А            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                                    Ы           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                                      Э            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О            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Ы                                     У            Н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СО                                   Я             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А                                    И            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А                                    Е             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78596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Arial"/>
              </a:rPr>
              <a:t>Автоматизация звук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6:19:21Z</dcterms:created>
  <dc:creator>Саня</dc:creator>
  <dc:description/>
  <dc:language>en-US</dc:language>
  <cp:lastModifiedBy>Olya-lya</cp:lastModifiedBy>
  <dcterms:modified xsi:type="dcterms:W3CDTF">2015-05-11T09:47:22Z</dcterms:modified>
  <cp:revision>6</cp:revision>
  <dc:subject/>
  <dc:title> ЛУ                                               Г НО                               А            ЛЬ МА                              И            ПКА СА             Ш               Е             РЫ КА                                О            НА КРЫ                             Е             ЛК НА                                У             В ЛЕ                                                КАЛ                                                      ГАЛ                                                      РА </dc:title>
</cp:coreProperties>
</file>