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3AC-F27B-4895-B0C9-31390DBD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5E9-C836-48A7-9BCC-1806084A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B9B-9BD1-4499-9843-141F283D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E51-13AD-4D45-88C2-19ACE26D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8014-CA44-48FB-9BB0-77525283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A4FF-D294-4193-86A4-E1ACFB1F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0E36-371D-473B-9043-DD6BF0CA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3F49-598F-420E-9887-67627ED4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478A-17AF-4484-A40B-03CE5CF4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876C-D590-4D79-9635-1F162B75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C16B-9535-424A-A3D2-3B233070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B79-EDE3-4752-8B52-C3602981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A7F9-5768-4F1E-B1B5-F54CE230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AE2E-4B9B-44BE-B33C-FCF9ECE7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892C-43B8-47C9-9C6C-3BAA9BF3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B2A9-0028-46A4-9DFE-E73B3106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99CB-7EE2-4996-8345-D560A372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215-25E3-4944-8180-AD782BFC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944-4888-4DEF-87E8-F142CD28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7AE-A7AC-499C-9C84-C7206294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642-D853-46F2-8338-EFEA5666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6D0-4024-41CA-93E7-1EB79658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B72-0E6B-4977-9C56-242D2F5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196-AB4E-4C3E-9918-8507D46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03F6-1E66-4E32-B52E-7C9A4460A1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D6C3-E96F-46F6-A2CC-3A1C774BE9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3b812f"/>
                </a:solidFill>
                <a:latin typeface="Trebuchet MS"/>
              </a:rPr>
              <a:t>Toys 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Trebuchet MS"/>
              </a:rPr>
              <a:t>Well done!!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95308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doll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30286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bal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trai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533520"/>
            <a:ext cx="59054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aeropla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9134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musical box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11440" y="333360"/>
            <a:ext cx="37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rocking hor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65280" y="333360"/>
            <a:ext cx="6246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elephan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0403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rebuchet MS"/>
              </a:rPr>
              <a:t>tea se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369720"/>
            <a:ext cx="705816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17:07:42Z</dcterms:created>
  <dc:creator>user</dc:creator>
  <dc:description/>
  <dc:language>en-US</dc:language>
  <cp:lastModifiedBy>user</cp:lastModifiedBy>
  <dcterms:modified xsi:type="dcterms:W3CDTF">2014-04-15T19:09:36Z</dcterms:modified>
  <cp:revision>3</cp:revision>
  <dc:subject/>
  <dc:title>Toys </dc:title>
</cp:coreProperties>
</file>