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11C-323B-40BE-9475-09E9B530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131-6B18-4D24-BFE8-569AFFD4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FA1-62CD-48B6-A354-07EFDEA9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20F-30CB-4BE7-9E57-3950C2C5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206D-E4EA-4010-8543-2D85C969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5E39-1055-4C36-BC8D-77F081C0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DB8D-6F7A-4560-A4EB-E95929E3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8EDB-0CDD-48CF-817C-DBF34A33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9482-9060-4D4A-9034-6EC71CEF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14A8-7E32-4F99-894A-26612CCF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609B-64F9-44DF-826C-B3765101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F3C-6DF3-4734-B76A-B40E1044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9141-BF26-4776-8D90-61A3014E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8DF1-9B26-4DC9-9849-A2AD3100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B50F-0267-47DB-B2E3-F7CB875A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FC50-D780-4BBA-A3BB-0D755535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E7AE-724B-4201-BD8F-DF37F324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51E-D9B5-48AB-AC76-BE8934BA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C5D-64B0-40EE-9ABA-FA1E2947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E1A-2D62-49D0-85C6-14031814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B14-C264-4DAF-B4C6-E15EDCB7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BCC-E593-4D16-BC6D-A4610D99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054-1F28-4B2A-AE5C-8784FE40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A57-1667-4D2C-B6FD-ABD86234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767C-46CA-4470-8B5C-67C11C51859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2A7C-0D2C-487A-A463-0215AAFCFC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3b812f"/>
                </a:solidFill>
                <a:latin typeface="Trebuchet MS"/>
              </a:rPr>
              <a:t>Toys 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930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Trebuchet MS"/>
              </a:rPr>
              <a:t>Well done!!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295308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doll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59280" y="476280"/>
            <a:ext cx="30286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ball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trai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533520"/>
            <a:ext cx="59054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aeropla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91344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musical box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611440" y="333360"/>
            <a:ext cx="37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rocking hors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65280" y="333360"/>
            <a:ext cx="6246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elephan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50403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tea se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369720"/>
            <a:ext cx="705816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17:07:42Z</dcterms:created>
  <dc:creator>user</dc:creator>
  <dc:description/>
  <dc:language>en-US</dc:language>
  <cp:lastModifiedBy>user</cp:lastModifiedBy>
  <dcterms:modified xsi:type="dcterms:W3CDTF">2014-04-15T19:09:36Z</dcterms:modified>
  <cp:revision>3</cp:revision>
  <dc:subject/>
  <dc:title>Toys </dc:title>
</cp:coreProperties>
</file>