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3.wmf" ContentType="image/x-wmf"/>
  <Override PartName="/ppt/media/image13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5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4.wmf" ContentType="image/x-wmf"/>
  <Override PartName="/ppt/media/image12.png" ContentType="image/png"/>
  <Override PartName="/ppt/media/image36.wmf" ContentType="image/x-wmf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05E6-E244-4891-AC1F-30E1389873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16D8-CC98-452C-AFB4-5B7C023B30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1D1-11CA-4A1E-B9F8-36988676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994-4DFB-4412-92B6-F2C6F60D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649-7D64-4BE5-9F5B-C4AC054C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6F4-8E1B-4E53-A5D6-6134D812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ABB-1B33-41A6-8B05-4FCE6867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A54-D67F-4EC4-86C9-DF77C1C2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D96-7FE5-4F27-B87E-9903570F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859-61E3-478D-8BE9-EC41224F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7E7-FCE8-4B78-939B-616B0E9D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905-FC4E-4DDD-B74B-7A86E2D8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330-1CD6-4808-B5CD-363B3023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0B6-0180-4B14-9AEB-03CAD60F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179B-CC4A-404F-96A3-72BB51ECB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yandex.ru/search?p=8&amp;ed=1&amp;text=&#1057;&#1082;&#1072;&#1079;&#1082;&#1072;%20&#1086;%20&#1084;&#1077;&#1088;&#1090;&#1074;&#1086;&#1081;%20&#1094;&#1072;&#1088;&#1077;&#1074;&#1085;&#1077;%20&#1080;%20&#1089;&#1077;&#1084;&#1080;%20&#1073;&#1086;&#1075;&#1072;&#1090;&#1099;&#1088;&#1103;&#1093;&amp;spsite=fake-027-7924086.ru&amp;img_url=gorod.tomsk.ru/uploads/41581/1261032069/45.jpg&amp;rpt=simage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униципальное бюджетное общеобразовательное учреждение средняя общеобразовательная школа№3 рабочего посёлка Хор муниципального района имени Лазо Хабаровского края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Великолепная семер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http://matsievsky.newmail.ru/sys-schi/images/im7.jpg"/>
          <p:cNvPicPr/>
          <p:nvPr/>
        </p:nvPicPr>
        <p:blipFill>
          <a:blip r:embed="rId1"/>
          <a:stretch/>
        </p:blipFill>
        <p:spPr>
          <a:xfrm>
            <a:off x="2438280" y="2286000"/>
            <a:ext cx="4419720" cy="3166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28600" y="502920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Руководитель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аков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сполн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ешабаев Анв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ченик 3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огов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304920" y="1295280"/>
            <a:ext cx="84582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У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еми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нянек дитя без глаз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У одной овечки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емь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пастух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уп из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еми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кру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еми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смертям не бывать, а    одной не мино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За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емь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вёрст киселя хлеб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емь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пядей во лбу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цветик"/>
          <p:cNvPicPr/>
          <p:nvPr/>
        </p:nvPicPr>
        <p:blipFill>
          <a:blip r:embed="rId1"/>
          <a:stretch/>
        </p:blipFill>
        <p:spPr>
          <a:xfrm rot="697200">
            <a:off x="4876560" y="4190760"/>
            <a:ext cx="1600200" cy="2284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7" descr="http://im2-tub.yandex.net/i?id=162070456-05&amp;tov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67080" cy="1981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Число 7 в литера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4" descr="http://im8-tub.yandex.net/i?id=72816315-03&amp;tov=8"/>
          <p:cNvPicPr/>
          <p:nvPr/>
        </p:nvPicPr>
        <p:blipFill>
          <a:blip r:embed="rId4"/>
          <a:stretch/>
        </p:blipFill>
        <p:spPr>
          <a:xfrm rot="20654400">
            <a:off x="1981080" y="426672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http://im7-tub.yandex.net/i?id=33487802-01&amp;tov=7"/>
          <p:cNvPicPr/>
          <p:nvPr/>
        </p:nvPicPr>
        <p:blipFill>
          <a:blip r:embed="rId5"/>
          <a:stretch/>
        </p:blipFill>
        <p:spPr>
          <a:xfrm rot="780600">
            <a:off x="6696000" y="1514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http://im4-tub.yandex.net/i?id=83644970-06&amp;tov=4"/>
          <p:cNvPicPr/>
          <p:nvPr/>
        </p:nvPicPr>
        <p:blipFill>
          <a:blip r:embed="rId6"/>
          <a:stretch/>
        </p:blipFill>
        <p:spPr>
          <a:xfrm rot="20493600">
            <a:off x="914040" y="1447560"/>
            <a:ext cx="1628640" cy="2057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Число семь в музы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1240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сем известна самая простая гамма до-мажор, где основной тон – «до»: до - ре – ми – фа – соль – ля – си – до. Вся музыка, созданная человечеством состоит из этих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еми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но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ноты1"/>
          <p:cNvPicPr/>
          <p:nvPr/>
        </p:nvPicPr>
        <p:blipFill>
          <a:blip r:embed="rId1"/>
          <a:stretch/>
        </p:blipFill>
        <p:spPr>
          <a:xfrm>
            <a:off x="228600" y="1905120"/>
            <a:ext cx="2819520" cy="3244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Число </a:t>
            </a: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в изобразительном искус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радуга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4038480" y="1600200"/>
            <a:ext cx="495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Число </a:t>
            </a:r>
            <a:r>
              <a:rPr b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в астроно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4571640"/>
            <a:ext cx="73911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AutoShape 19"/>
          <p:cNvCxnSpPr/>
          <p:nvPr/>
        </p:nvCxnSpPr>
        <p:spPr>
          <a:xfrm flipV="1">
            <a:off x="914040" y="64008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8" name="Группа 20"/>
          <p:cNvGrpSpPr/>
          <p:nvPr/>
        </p:nvGrpSpPr>
        <p:grpSpPr>
          <a:xfrm>
            <a:off x="914400" y="4419720"/>
            <a:ext cx="5334120" cy="1371600"/>
            <a:chOff x="914400" y="4419720"/>
            <a:chExt cx="5334120" cy="1371600"/>
          </a:xfrm>
        </p:grpSpPr>
        <p:sp>
          <p:nvSpPr>
            <p:cNvPr id="89" name="AutoShape 4"/>
            <p:cNvSpPr/>
            <p:nvPr/>
          </p:nvSpPr>
          <p:spPr>
            <a:xfrm>
              <a:off x="914400" y="4876920"/>
              <a:ext cx="409320" cy="228600"/>
            </a:xfrm>
            <a:custGeom>
              <a:avLst/>
              <a:gdLst>
                <a:gd name="textAreaLeft" fmla="*/ 126360 w 409320"/>
                <a:gd name="textAreaRight" fmla="*/ 282960 w 40932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228192" h="228600">
                  <a:moveTo>
                    <a:pt x="0" y="87317"/>
                  </a:moveTo>
                  <a:lnTo>
                    <a:pt x="87162" y="87318"/>
                  </a:lnTo>
                  <a:lnTo>
                    <a:pt x="114096" y="0"/>
                  </a:lnTo>
                  <a:lnTo>
                    <a:pt x="141030" y="87318"/>
                  </a:lnTo>
                  <a:lnTo>
                    <a:pt x="228192" y="87317"/>
                  </a:lnTo>
                  <a:lnTo>
                    <a:pt x="157676" y="141282"/>
                  </a:lnTo>
                  <a:lnTo>
                    <a:pt x="184611" y="228599"/>
                  </a:lnTo>
                  <a:lnTo>
                    <a:pt x="114096" y="174634"/>
                  </a:lnTo>
                  <a:lnTo>
                    <a:pt x="43581" y="228599"/>
                  </a:lnTo>
                  <a:lnTo>
                    <a:pt x="70516" y="14128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1323720" y="5562720"/>
              <a:ext cx="411120" cy="228600"/>
            </a:xfrm>
            <a:custGeom>
              <a:avLst/>
              <a:gdLst>
                <a:gd name="textAreaLeft" fmla="*/ 127080 w 411120"/>
                <a:gd name="textAreaRight" fmla="*/ 284040 w 41112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229077" h="228600">
                  <a:moveTo>
                    <a:pt x="0" y="87317"/>
                  </a:moveTo>
                  <a:lnTo>
                    <a:pt x="87500" y="87318"/>
                  </a:lnTo>
                  <a:lnTo>
                    <a:pt x="114539" y="0"/>
                  </a:lnTo>
                  <a:lnTo>
                    <a:pt x="141577" y="87318"/>
                  </a:lnTo>
                  <a:lnTo>
                    <a:pt x="229077" y="87317"/>
                  </a:lnTo>
                  <a:lnTo>
                    <a:pt x="158288" y="141282"/>
                  </a:lnTo>
                  <a:lnTo>
                    <a:pt x="185327" y="228599"/>
                  </a:lnTo>
                  <a:lnTo>
                    <a:pt x="114539" y="174634"/>
                  </a:lnTo>
                  <a:lnTo>
                    <a:pt x="43750" y="228599"/>
                  </a:lnTo>
                  <a:lnTo>
                    <a:pt x="70789" y="14128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6"/>
            <p:cNvSpPr/>
            <p:nvPr/>
          </p:nvSpPr>
          <p:spPr>
            <a:xfrm>
              <a:off x="3649680" y="4724280"/>
              <a:ext cx="411120" cy="228600"/>
            </a:xfrm>
            <a:custGeom>
              <a:avLst/>
              <a:gdLst>
                <a:gd name="textAreaLeft" fmla="*/ 127080 w 411120"/>
                <a:gd name="textAreaRight" fmla="*/ 284040 w 41112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229076" h="228600">
                  <a:moveTo>
                    <a:pt x="0" y="87317"/>
                  </a:moveTo>
                  <a:lnTo>
                    <a:pt x="87500" y="87318"/>
                  </a:lnTo>
                  <a:lnTo>
                    <a:pt x="114538" y="0"/>
                  </a:lnTo>
                  <a:lnTo>
                    <a:pt x="141576" y="87318"/>
                  </a:lnTo>
                  <a:lnTo>
                    <a:pt x="229076" y="87317"/>
                  </a:lnTo>
                  <a:lnTo>
                    <a:pt x="158287" y="141282"/>
                  </a:lnTo>
                  <a:lnTo>
                    <a:pt x="185326" y="228599"/>
                  </a:lnTo>
                  <a:lnTo>
                    <a:pt x="114538" y="174634"/>
                  </a:lnTo>
                  <a:lnTo>
                    <a:pt x="43750" y="228599"/>
                  </a:lnTo>
                  <a:lnTo>
                    <a:pt x="70789" y="14128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7"/>
            <p:cNvSpPr/>
            <p:nvPr/>
          </p:nvSpPr>
          <p:spPr>
            <a:xfrm>
              <a:off x="2828880" y="4953240"/>
              <a:ext cx="411120" cy="228600"/>
            </a:xfrm>
            <a:custGeom>
              <a:avLst/>
              <a:gdLst>
                <a:gd name="textAreaLeft" fmla="*/ 127080 w 411120"/>
                <a:gd name="textAreaRight" fmla="*/ 284040 w 41112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229077" h="228600">
                  <a:moveTo>
                    <a:pt x="0" y="87317"/>
                  </a:moveTo>
                  <a:lnTo>
                    <a:pt x="87500" y="87318"/>
                  </a:lnTo>
                  <a:lnTo>
                    <a:pt x="114539" y="0"/>
                  </a:lnTo>
                  <a:lnTo>
                    <a:pt x="141577" y="87318"/>
                  </a:lnTo>
                  <a:lnTo>
                    <a:pt x="229077" y="87317"/>
                  </a:lnTo>
                  <a:lnTo>
                    <a:pt x="158288" y="141282"/>
                  </a:lnTo>
                  <a:lnTo>
                    <a:pt x="185327" y="228599"/>
                  </a:lnTo>
                  <a:lnTo>
                    <a:pt x="114539" y="174634"/>
                  </a:lnTo>
                  <a:lnTo>
                    <a:pt x="43750" y="228599"/>
                  </a:lnTo>
                  <a:lnTo>
                    <a:pt x="70789" y="14128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8"/>
            <p:cNvSpPr/>
            <p:nvPr/>
          </p:nvSpPr>
          <p:spPr>
            <a:xfrm>
              <a:off x="2692440" y="5486760"/>
              <a:ext cx="409320" cy="228600"/>
            </a:xfrm>
            <a:custGeom>
              <a:avLst/>
              <a:gdLst>
                <a:gd name="textAreaLeft" fmla="*/ 126360 w 409320"/>
                <a:gd name="textAreaRight" fmla="*/ 282960 w 40932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228192" h="228600">
                  <a:moveTo>
                    <a:pt x="0" y="87317"/>
                  </a:moveTo>
                  <a:lnTo>
                    <a:pt x="87162" y="87318"/>
                  </a:lnTo>
                  <a:lnTo>
                    <a:pt x="114096" y="0"/>
                  </a:lnTo>
                  <a:lnTo>
                    <a:pt x="141030" y="87318"/>
                  </a:lnTo>
                  <a:lnTo>
                    <a:pt x="228192" y="87317"/>
                  </a:lnTo>
                  <a:lnTo>
                    <a:pt x="157676" y="141282"/>
                  </a:lnTo>
                  <a:lnTo>
                    <a:pt x="184611" y="228599"/>
                  </a:lnTo>
                  <a:lnTo>
                    <a:pt x="114096" y="174634"/>
                  </a:lnTo>
                  <a:lnTo>
                    <a:pt x="43581" y="228599"/>
                  </a:lnTo>
                  <a:lnTo>
                    <a:pt x="70516" y="14128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9"/>
            <p:cNvSpPr/>
            <p:nvPr/>
          </p:nvSpPr>
          <p:spPr>
            <a:xfrm>
              <a:off x="4470480" y="4419720"/>
              <a:ext cx="409320" cy="228600"/>
            </a:xfrm>
            <a:custGeom>
              <a:avLst/>
              <a:gdLst>
                <a:gd name="textAreaLeft" fmla="*/ 126360 w 409320"/>
                <a:gd name="textAreaRight" fmla="*/ 282960 w 40932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228192" h="228600">
                  <a:moveTo>
                    <a:pt x="0" y="87317"/>
                  </a:moveTo>
                  <a:lnTo>
                    <a:pt x="87162" y="87318"/>
                  </a:lnTo>
                  <a:lnTo>
                    <a:pt x="114096" y="0"/>
                  </a:lnTo>
                  <a:lnTo>
                    <a:pt x="141030" y="87318"/>
                  </a:lnTo>
                  <a:lnTo>
                    <a:pt x="228192" y="87317"/>
                  </a:lnTo>
                  <a:lnTo>
                    <a:pt x="157676" y="141282"/>
                  </a:lnTo>
                  <a:lnTo>
                    <a:pt x="184611" y="228599"/>
                  </a:lnTo>
                  <a:lnTo>
                    <a:pt x="114096" y="174634"/>
                  </a:lnTo>
                  <a:lnTo>
                    <a:pt x="43581" y="228599"/>
                  </a:lnTo>
                  <a:lnTo>
                    <a:pt x="70516" y="14128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0"/>
            <p:cNvSpPr/>
            <p:nvPr/>
          </p:nvSpPr>
          <p:spPr>
            <a:xfrm>
              <a:off x="5839200" y="4419720"/>
              <a:ext cx="409320" cy="228600"/>
            </a:xfrm>
            <a:custGeom>
              <a:avLst/>
              <a:gdLst>
                <a:gd name="textAreaLeft" fmla="*/ 126360 w 409320"/>
                <a:gd name="textAreaRight" fmla="*/ 282960 w 409320"/>
                <a:gd name="textAreaTop" fmla="*/ 87120 h 228600"/>
                <a:gd name="textAreaBottom" fmla="*/ 174600 h 228600"/>
              </a:gdLst>
              <a:ahLst/>
              <a:rect l="textAreaLeft" t="textAreaTop" r="textAreaRight" b="textAreaBottom"/>
              <a:pathLst>
                <a:path w="228192" h="228600">
                  <a:moveTo>
                    <a:pt x="0" y="87317"/>
                  </a:moveTo>
                  <a:lnTo>
                    <a:pt x="87162" y="87318"/>
                  </a:lnTo>
                  <a:lnTo>
                    <a:pt x="114096" y="0"/>
                  </a:lnTo>
                  <a:lnTo>
                    <a:pt x="141030" y="87318"/>
                  </a:lnTo>
                  <a:lnTo>
                    <a:pt x="228192" y="87317"/>
                  </a:lnTo>
                  <a:lnTo>
                    <a:pt x="157676" y="141282"/>
                  </a:lnTo>
                  <a:lnTo>
                    <a:pt x="184611" y="228599"/>
                  </a:lnTo>
                  <a:lnTo>
                    <a:pt x="114096" y="174634"/>
                  </a:lnTo>
                  <a:lnTo>
                    <a:pt x="43581" y="228599"/>
                  </a:lnTo>
                  <a:lnTo>
                    <a:pt x="70516" y="14128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050840" y="5029200"/>
              <a:ext cx="410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3"/>
            <p:cNvSpPr/>
            <p:nvPr/>
          </p:nvSpPr>
          <p:spPr>
            <a:xfrm flipV="1">
              <a:off x="2829240" y="5105520"/>
              <a:ext cx="136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4"/>
            <p:cNvSpPr/>
            <p:nvPr/>
          </p:nvSpPr>
          <p:spPr>
            <a:xfrm flipV="1">
              <a:off x="3102840" y="4876560"/>
              <a:ext cx="683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4744080" y="4572000"/>
              <a:ext cx="123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8"/>
            <p:cNvSpPr/>
            <p:nvPr/>
          </p:nvSpPr>
          <p:spPr>
            <a:xfrm flipV="1">
              <a:off x="3923280" y="4572000"/>
              <a:ext cx="683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1598040" y="5638680"/>
              <a:ext cx="1230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1" descr="бол"/>
          <p:cNvPicPr/>
          <p:nvPr/>
        </p:nvPicPr>
        <p:blipFill>
          <a:blip r:embed="rId1"/>
          <a:stretch/>
        </p:blipFill>
        <p:spPr>
          <a:xfrm>
            <a:off x="2057400" y="1600200"/>
            <a:ext cx="5262480" cy="2286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9"/>
          <p:cNvSpPr/>
          <p:nvPr/>
        </p:nvSpPr>
        <p:spPr>
          <a:xfrm>
            <a:off x="4495680" y="1523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Число </a:t>
            </a:r>
            <a:r>
              <a:rPr b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в астроно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21337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3200400" y="17524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ь колец Сату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04920" y="4038480"/>
            <a:ext cx="594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казывается, у Солнца в разное время года разное "расписание" движения. Мы знаем из наблюдений, что зимой оно восходит поздно, а заходит рано. Зимняя долгота дня всего-то часов сем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0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2057400" cy="3776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дней не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луна1"/>
          <p:cNvPicPr/>
          <p:nvPr/>
        </p:nvPicPr>
        <p:blipFill>
          <a:blip r:embed="rId1"/>
          <a:stretch/>
        </p:blipFill>
        <p:spPr>
          <a:xfrm>
            <a:off x="4952880" y="1600200"/>
            <a:ext cx="3657600" cy="2217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луна4"/>
          <p:cNvPicPr/>
          <p:nvPr/>
        </p:nvPicPr>
        <p:blipFill>
          <a:blip r:embed="rId2"/>
          <a:stretch/>
        </p:blipFill>
        <p:spPr>
          <a:xfrm>
            <a:off x="4952880" y="3797280"/>
            <a:ext cx="3657600" cy="2222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152280" y="1295280"/>
            <a:ext cx="426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ледя за изменениями формы лунного диска, люди заметили, что через семь дней после новолуния на небе видна половина этого диска , а еще через 7 дней на небе сияет полная луна.  Первый календарь – лунный, 28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5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еликие люди рождённые </a:t>
            </a:r>
            <a:r>
              <a:rPr b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7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числ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8600" y="25146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омпозитора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айковского Петра  Ильич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исателя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осова Николая Николаевич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математика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Лобачевского Николая Иванович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езидента России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утина Владимира Владимирович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;  художника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йвазовского Ивана  Константинович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лимпийского чемпиона по фигурному катанию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лющенко Евгения Викторович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знаменитых артистов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икулина Юрия Владимирович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иронова Андрея Александровича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28600" y="175248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реди великих людей, рождённых седьмого числа, можно наз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ЕМЬ ЧУДЕС СВЕТА , ( лат . septem miracula mundi), самые знаменитые памятники древнего мира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4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057400" cy="1295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152280" y="17524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ели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ирамида в Гиз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2895480" y="18288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исячие с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авил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152280" y="46483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Храм Артем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Эфе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9" descr=""/>
          <p:cNvPicPr/>
          <p:nvPr/>
        </p:nvPicPr>
        <p:blipFill>
          <a:blip r:embed="rId3"/>
          <a:stretch/>
        </p:blipFill>
        <p:spPr>
          <a:xfrm>
            <a:off x="304920" y="5334120"/>
            <a:ext cx="1752480" cy="1295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0"/>
          <p:cNvSpPr/>
          <p:nvPr/>
        </p:nvSpPr>
        <p:spPr>
          <a:xfrm>
            <a:off x="7086600" y="43434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татуя Зев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Олим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1" descr=""/>
          <p:cNvPicPr/>
          <p:nvPr/>
        </p:nvPicPr>
        <p:blipFill>
          <a:blip r:embed="rId4"/>
          <a:stretch/>
        </p:blipFill>
        <p:spPr>
          <a:xfrm>
            <a:off x="5486400" y="24382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2" descr=""/>
          <p:cNvPicPr/>
          <p:nvPr/>
        </p:nvPicPr>
        <p:blipFill>
          <a:blip r:embed="rId5"/>
          <a:stretch/>
        </p:blipFill>
        <p:spPr>
          <a:xfrm>
            <a:off x="7467480" y="4952880"/>
            <a:ext cx="1524240" cy="1676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5257800" y="17524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авзолей в Галикарна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7315200" y="1676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лосс Родос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5" descr=""/>
          <p:cNvPicPr/>
          <p:nvPr/>
        </p:nvPicPr>
        <p:blipFill>
          <a:blip r:embed="rId6"/>
          <a:stretch/>
        </p:blipFill>
        <p:spPr>
          <a:xfrm>
            <a:off x="7238880" y="2438280"/>
            <a:ext cx="1676520" cy="1295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6"/>
          <p:cNvSpPr/>
          <p:nvPr/>
        </p:nvSpPr>
        <p:spPr>
          <a:xfrm>
            <a:off x="3352680" y="46483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лександрийский мая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7" descr=""/>
          <p:cNvPicPr/>
          <p:nvPr/>
        </p:nvPicPr>
        <p:blipFill>
          <a:blip r:embed="rId7"/>
          <a:stretch/>
        </p:blipFill>
        <p:spPr>
          <a:xfrm>
            <a:off x="3733920" y="5334120"/>
            <a:ext cx="1828800" cy="1295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ЧУДЕС Хабаровского края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урский тигр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урский тиг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ц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ьневосточной тай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крупный на планете хищник семейства кошачь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Амурский тигр фото"/>
          <p:cNvPicPr/>
          <p:nvPr/>
        </p:nvPicPr>
        <p:blipFill>
          <a:blip r:embed="rId2"/>
          <a:stretch/>
        </p:blipFill>
        <p:spPr>
          <a:xfrm>
            <a:off x="304920" y="1676520"/>
            <a:ext cx="4267080" cy="3504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Актуальность выбора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з всего натурального ряда чисел особый интерес вызывает семёрка. И это не случай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00px-Heinrich_Cornelius_Agrippa00"/>
          <p:cNvPicPr/>
          <p:nvPr/>
        </p:nvPicPr>
        <p:blipFill>
          <a:blip r:embed="rId1"/>
          <a:stretch/>
        </p:blipFill>
        <p:spPr>
          <a:xfrm>
            <a:off x="5791320" y="2590920"/>
            <a:ext cx="2840040" cy="39621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" name="Text Box 6"/>
          <p:cNvSpPr/>
          <p:nvPr/>
        </p:nvSpPr>
        <p:spPr>
          <a:xfrm>
            <a:off x="762120" y="3276720"/>
            <a:ext cx="49528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« 7 – символизирует тайну, так же изучение и знание как путь исследования неизвестного и невидимого»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рнелиус Агри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(1486 – 15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оосад им.В. Сысо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рождения зоос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приехали в гости с подар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Documents and Settings\Ученик\Рабочий стол\фото зоосад2кл\DSCF1062.JPG"/>
          <p:cNvPicPr/>
          <p:nvPr/>
        </p:nvPicPr>
        <p:blipFill>
          <a:blip r:embed="rId1"/>
          <a:stretch/>
        </p:blipFill>
        <p:spPr>
          <a:xfrm>
            <a:off x="457200" y="1600200"/>
            <a:ext cx="3962520" cy="327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оосад им.В. Сысо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тесно общались с царем дальневосточной тай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Ученик\Рабочий стол\фото зоосад2кл\DSCF1183.JPG"/>
          <p:cNvPicPr/>
          <p:nvPr/>
        </p:nvPicPr>
        <p:blipFill>
          <a:blip r:embed="rId1"/>
          <a:stretch/>
        </p:blipFill>
        <p:spPr>
          <a:xfrm>
            <a:off x="457200" y="1600200"/>
            <a:ext cx="4419720" cy="377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ЧУДЕС Хабаровского края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ный хребет Дуссэ-Алинь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88620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ссэ-Али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горное плато среди тайги, затерянный мир, найденный дальневосточными  путешествен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ЧУДЕС Хабаровского края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нтарские остров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581640" cy="3810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нтарские остр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уголок нетронутой природы, до которого добираются только самые отва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ЧУДЕС Хабаровского края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еро Амут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окогорное озеро Аму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бъект паломничества туристов и любителей паранормальных я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Озеро Амут"/>
          <p:cNvPicPr/>
          <p:nvPr/>
        </p:nvPicPr>
        <p:blipFill>
          <a:blip r:embed="rId1"/>
          <a:stretch/>
        </p:blipFill>
        <p:spPr>
          <a:xfrm>
            <a:off x="609480" y="1600200"/>
            <a:ext cx="3886200" cy="4495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ЧУДЕС Хабаровского края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урский мост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урский м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конструкция получила золотую медаль Парижской выставки одновременно с конструкцией Эйфелевой баш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5" descr="Амурский мост"/>
          <p:cNvPicPr/>
          <p:nvPr/>
        </p:nvPicPr>
        <p:blipFill>
          <a:blip r:embed="rId1"/>
          <a:stretch/>
        </p:blipFill>
        <p:spPr>
          <a:xfrm>
            <a:off x="457200" y="1676520"/>
            <a:ext cx="388620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ЕМЬ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ЧУДЕС Хабаровского края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тос Комарова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тос- символ Буд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гадочный и прекрасный цветок, растущий на озерах Хабаров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 одну неделю цветёт необыкновенный лотос – цветок, которому более миллиона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5" descr="Лотос - символ Будды"/>
          <p:cNvPicPr/>
          <p:nvPr/>
        </p:nvPicPr>
        <p:blipFill>
          <a:blip r:embed="rId1"/>
          <a:stretch/>
        </p:blipFill>
        <p:spPr>
          <a:xfrm>
            <a:off x="457200" y="1752480"/>
            <a:ext cx="4191120" cy="3124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ЧУДЕС Хабаровского кр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троглифы Сикачи- Аляна (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657600" cy="3352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троглифы Сикачи-Аля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амятники древнейшей цивилизации, ровесники Египетских пирам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рактическая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социологического о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Цель опроса: изучение общественного мнения по данной теме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 вёлся  по следующим направл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читаете ли вы какое – либо из натуральных чисел необычным, отличающимся от друг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ое из чисел считаете необыч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то верит, что 7 – особое число, обладающее магической сил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наете ли вы какие – либо интересные факты, связанные с числом 7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I</a:t>
            </a:r>
            <a:r>
              <a:rPr b="1" lang="ru-RU" sz="4000" spc="-1" strike="noStrike" u="sng">
                <a:solidFill>
                  <a:srgbClr val="663300"/>
                </a:solidFill>
                <a:uFillTx/>
                <a:latin typeface="Arial"/>
              </a:rPr>
              <a:t> на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читаете ли вы какое – либо из натуральных чисел необычным, отличающимся от друг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867280" cy="446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Число </a:t>
            </a:r>
            <a:r>
              <a:rPr b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семь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чаще других встречается в науке, искусстве, литературе и других областях человеческих зн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Число </a:t>
            </a:r>
            <a:r>
              <a:rPr b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7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является магическим, оказывает влияние на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II</a:t>
            </a:r>
            <a:r>
              <a:rPr b="1" lang="ru-RU" sz="4000" spc="-1" strike="noStrike" u="sng">
                <a:solidFill>
                  <a:srgbClr val="663300"/>
                </a:solidFill>
                <a:uFillTx/>
                <a:latin typeface="Arial"/>
              </a:rPr>
              <a:t> на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Какое из чисел считаете необыч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324480" cy="471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III</a:t>
            </a:r>
            <a:r>
              <a:rPr b="1" lang="ru-RU" sz="4000" spc="-1" strike="noStrike" u="sng">
                <a:solidFill>
                  <a:srgbClr val="663300"/>
                </a:solidFill>
                <a:uFillTx/>
                <a:latin typeface="Arial"/>
              </a:rPr>
              <a:t> на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Кто верит, что 7 – особое число, обладающее магической сил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86400" cy="4570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наете ли вы какие – либо интересные факты, связанные с числом 7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3300"/>
                </a:solidFill>
                <a:uFillTx/>
                <a:latin typeface="Arial"/>
              </a:rPr>
              <a:t>IV</a:t>
            </a:r>
            <a:r>
              <a:rPr b="1" lang="ru-RU" sz="3600" spc="-1" strike="noStrike" u="sng">
                <a:solidFill>
                  <a:srgbClr val="663300"/>
                </a:solidFill>
                <a:uFillTx/>
                <a:latin typeface="Arial"/>
              </a:rPr>
              <a:t> на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096240" cy="4629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304920" y="129528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Число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семь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легло в основу количественной характеристики мира красок и звуков.  Поэтому оно нашло отражение в мифах, сказках, пословицах и поговорках. Работа по изучению  числа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семь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принесла много интересных минут. Однако, вопрос: «Почему именно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семерка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оказалась количественной основой многих деяний и познаний?» — по-прежнему ост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АЙНОЙ ЗА СЕМЬЮ ПЕЧА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Задачи с числом </a:t>
            </a:r>
            <a:r>
              <a:rPr b="1" lang="ru-RU" sz="4400" spc="-1" strike="noStrike" u="sng">
                <a:solidFill>
                  <a:srgbClr val="663300"/>
                </a:solidFill>
                <a:uFillTx/>
                <a:latin typeface="Arial"/>
              </a:rPr>
              <a:t>сем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Фокус основанный на числ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думайте любое число (кроме нул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двой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 полученному прибавьт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новь полученное умножьте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бросьте все цифры, кроме после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ставшуюся цифру умножьте на неё 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ложите цифры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 вас теперь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ход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о-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1600200"/>
            <a:ext cx="716292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ыяснить, чем замечательно число </a:t>
            </a:r>
            <a:r>
              <a:rPr b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семь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(или - где прославилась семёрка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28600" y="144792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азобраться, в чём заключается таинственность числа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ыяснить, где ещё мы сталкиваемся с этим числом в повседнев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овести опрос среди учащихся, с целью выяснить их отношение к числу </a:t>
            </a: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сем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оанализировать полученные знания и оформить результаты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редмет 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28600" y="2286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атуральные числа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Объект 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304920" y="2514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исло се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Методы 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поиск и сбор информ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анкетиро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сбор дан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наблюд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анализ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Число 7 в литера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14440" y="13716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еро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одного не ж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еро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наваливай, один тащ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ь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раз отмерь, один раз отреж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еро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с ложкой, а один с сош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ь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бед, один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Лук от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и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нед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семь3"/>
          <p:cNvPicPr/>
          <p:nvPr/>
        </p:nvPicPr>
        <p:blipFill>
          <a:blip r:embed="rId1"/>
          <a:stretch/>
        </p:blipFill>
        <p:spPr>
          <a:xfrm>
            <a:off x="457200" y="1843200"/>
            <a:ext cx="3719520" cy="3719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3-10T12:23:02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