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F28-A308-49EE-B1C1-8743CA66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887-58EB-4630-856D-66ABF26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627-A68E-4CF0-A49B-593709B6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6B8-EEBD-418E-8A2A-8EA0319D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EA2-BEF6-47B5-894B-3C98BA0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B22-CAF8-4579-BDF4-69A8A6AB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C4F-681F-40A2-AF97-80D67385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BB0-C2AF-44AF-8D9B-46C1AAD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CCD-E9A8-419F-9C09-5F8ABEDF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62E-23A7-434A-ABD3-EA6C161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37A-E343-422F-BCED-3C287A5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97E-2519-4D69-907F-6EFFF29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C9C4-7523-49ED-8374-2DA8CE64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KAMOZIN Фотографии из альбома Зима Фото 67 ALEXANDER KAMOZIN II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41300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ет зима, аукает…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2232000"/>
          </a:xfrm>
          <a:prstGeom prst="rect">
            <a:avLst/>
          </a:prstGeom>
          <a:solidFill>
            <a:srgbClr val="ccffff">
              <a:alpha val="82000"/>
            </a:srgbClr>
          </a:solidFill>
          <a:ln w="7632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лько скажут- «Сергей Есени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й России встают чер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.Бра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Любимая Россия: пейзажи. ЛЮБИМЫЕ ФОТО"/>
          <p:cNvPicPr/>
          <p:nvPr/>
        </p:nvPicPr>
        <p:blipFill>
          <a:blip r:embed="rId2"/>
          <a:stretch/>
        </p:blipFill>
        <p:spPr>
          <a:xfrm>
            <a:off x="250920" y="3933720"/>
            <a:ext cx="4290840" cy="2568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Мой Мир@Mail.Ru"/>
          <p:cNvPicPr/>
          <p:nvPr/>
        </p:nvPicPr>
        <p:blipFill>
          <a:blip r:embed="rId3"/>
          <a:stretch/>
        </p:blipFill>
        <p:spPr>
          <a:xfrm>
            <a:off x="4859280" y="3908520"/>
            <a:ext cx="3944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2010 Октябрь"/>
          <p:cNvPicPr/>
          <p:nvPr/>
        </p:nvPicPr>
        <p:blipFill>
          <a:blip r:embed="rId1"/>
          <a:stretch/>
        </p:blipFill>
        <p:spPr>
          <a:xfrm>
            <a:off x="947880" y="1023840"/>
            <a:ext cx="7248240" cy="4810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9:36:54Z</dcterms:created>
  <dc:creator>User</dc:creator>
  <dc:description/>
  <dc:language>en-US</dc:language>
  <cp:lastModifiedBy>User</cp:lastModifiedBy>
  <dcterms:modified xsi:type="dcterms:W3CDTF">2015-02-08T10:36:24Z</dcterms:modified>
  <cp:revision>2</cp:revision>
  <dc:subject/>
  <dc:title> </dc:title>
</cp:coreProperties>
</file>