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D2F86-DC64-4720-9FCD-4865FBC6C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445E7-46E6-481D-8195-B197AB2E8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F2113-5A67-4E73-B36B-534D21814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8A224-F92C-4330-9C61-507117CAC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C270F-D56D-4200-83B9-E1094F676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B47A8-4862-42BE-B695-2E06A9812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19594-ECC2-44A5-895F-316AEB72E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63BE5-BCE3-4C3F-A20D-7823CAD3E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B1AB3-21CD-4CCE-83DE-1CCC12C2A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80226-A976-4592-A216-9B9D33DAA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3211C-84E7-49A7-994A-B12306A8F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2A436-F0BB-463E-925F-ED367F122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AC804-89B6-4BF6-963F-8CE36E2FB7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KAMOZIN Фотографии из альбома Зима Фото 67 ALEXANDER KAMOZIN II"/>
          <p:cNvPicPr/>
          <p:nvPr/>
        </p:nvPicPr>
        <p:blipFill>
          <a:blip r:embed="rId1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79280" y="501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755640" y="1413000"/>
            <a:ext cx="763272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«Поет зима, аукает…»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8360" y="549360"/>
            <a:ext cx="8229600" cy="2232000"/>
          </a:xfrm>
          <a:prstGeom prst="rect">
            <a:avLst/>
          </a:prstGeom>
          <a:solidFill>
            <a:srgbClr val="ccffff">
              <a:alpha val="82000"/>
            </a:srgbClr>
          </a:solidFill>
          <a:ln w="76320">
            <a:solidFill>
              <a:srgbClr val="00cc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Только скажут- «Сергей Есенин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Всей России встают черты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Н.Брау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Любимая Россия: пейзажи. ЛЮБИМЫЕ ФОТО"/>
          <p:cNvPicPr/>
          <p:nvPr/>
        </p:nvPicPr>
        <p:blipFill>
          <a:blip r:embed="rId2"/>
          <a:stretch/>
        </p:blipFill>
        <p:spPr>
          <a:xfrm>
            <a:off x="250920" y="3933720"/>
            <a:ext cx="4290840" cy="256860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pic>
        <p:nvPicPr>
          <p:cNvPr id="48" name="" descr="Мой Мир@Mail.Ru"/>
          <p:cNvPicPr/>
          <p:nvPr/>
        </p:nvPicPr>
        <p:blipFill>
          <a:blip r:embed="rId3"/>
          <a:stretch/>
        </p:blipFill>
        <p:spPr>
          <a:xfrm>
            <a:off x="4859280" y="3908520"/>
            <a:ext cx="394488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2010 Октябрь"/>
          <p:cNvPicPr/>
          <p:nvPr/>
        </p:nvPicPr>
        <p:blipFill>
          <a:blip r:embed="rId1"/>
          <a:stretch/>
        </p:blipFill>
        <p:spPr>
          <a:xfrm>
            <a:off x="947880" y="1023840"/>
            <a:ext cx="7248240" cy="481032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08T09:36:54Z</dcterms:created>
  <dc:creator>User</dc:creator>
  <dc:description/>
  <dc:language>en-US</dc:language>
  <cp:lastModifiedBy>User</cp:lastModifiedBy>
  <dcterms:modified xsi:type="dcterms:W3CDTF">2015-02-08T10:36:24Z</dcterms:modified>
  <cp:revision>2</cp:revision>
  <dc:subject/>
  <dc:title> </dc:title>
</cp:coreProperties>
</file>