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621-F302-4C98-BA14-67CB066B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386-270B-4663-8E3E-D5CFF448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A8E-E624-49BE-BBB7-99351D22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939-8BDB-46D8-9814-29151152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0953-9C3E-4C79-9EEA-FDC3C796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F47F-F10E-48D6-B3F1-08FC029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D156-AC75-4213-B31F-3AA529D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69B-84FF-48D4-A787-5FFC9BA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1A50-271E-4623-8846-FEE60408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C0A9-1672-435F-81D6-50DF57C3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C53D-EC23-4B04-BECF-9C679A5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A72-8D31-4D7F-BDEF-510822EC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A122-9870-4BD3-954D-9AA458F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D2EA-D959-407A-9743-9F6A9FD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FECB-9AEF-4EC1-8287-62692C3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39E-8D08-47E4-A27E-12F754B5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776-14B4-46D6-8004-C3482D18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266-97E4-4D92-8DF0-3E79BCBE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C31-DB8F-4A48-8491-77F99DD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E21-56B3-44A5-83D4-05913EF5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75F-6A47-4733-8136-CF4B569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1EC-C6E2-444B-8E81-82B552E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3FA-70FA-44DA-98CE-E1A9418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91D-3C23-48CF-A386-A8A45CA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202-2C3C-45E0-B2F7-9634A03C8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AE8-F159-41CB-AFDC-68050AA04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12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10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49160" y="401760"/>
            <a:ext cx="7645680" cy="242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643200" y="4214880"/>
            <a:ext cx="5043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2,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бъект 2"/>
          <p:cNvSpPr/>
          <p:nvPr/>
        </p:nvSpPr>
        <p:spPr>
          <a:xfrm>
            <a:off x="3780000" y="981000"/>
            <a:ext cx="4997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тангенс угл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6EA-0506-4C8B-9487-DA3A64CD31CB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21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222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Прямоугольный треугольник 10"/>
          <p:cNvSpPr/>
          <p:nvPr/>
        </p:nvSpPr>
        <p:spPr>
          <a:xfrm>
            <a:off x="826920" y="1125360"/>
            <a:ext cx="2376720" cy="1511640"/>
          </a:xfrm>
          <a:prstGeom prst="rtTriangl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бъект 2"/>
          <p:cNvSpPr/>
          <p:nvPr/>
        </p:nvSpPr>
        <p:spPr>
          <a:xfrm>
            <a:off x="3203640" y="220500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бъект 2"/>
          <p:cNvSpPr/>
          <p:nvPr/>
        </p:nvSpPr>
        <p:spPr>
          <a:xfrm>
            <a:off x="395280" y="220500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бъект 2"/>
          <p:cNvSpPr/>
          <p:nvPr/>
        </p:nvSpPr>
        <p:spPr>
          <a:xfrm>
            <a:off x="971640" y="76500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82692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бъект 2"/>
          <p:cNvSpPr/>
          <p:nvPr/>
        </p:nvSpPr>
        <p:spPr>
          <a:xfrm>
            <a:off x="1476360" y="2060640"/>
            <a:ext cx="7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бъект 2"/>
          <p:cNvSpPr/>
          <p:nvPr/>
        </p:nvSpPr>
        <p:spPr>
          <a:xfrm>
            <a:off x="1692360" y="1268280"/>
            <a:ext cx="79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Дуга 18"/>
          <p:cNvSpPr/>
          <p:nvPr/>
        </p:nvSpPr>
        <p:spPr>
          <a:xfrm rot="2415600">
            <a:off x="677520" y="1077480"/>
            <a:ext cx="434880" cy="366840"/>
          </a:xfrm>
          <a:custGeom>
            <a:avLst/>
            <a:gdLst/>
            <a:ahLst/>
            <a:rect l="l" t="t" r="r" b="b"/>
            <a:pathLst>
              <a:path stroke="0" w="434975" h="366712">
                <a:moveTo>
                  <a:pt x="403854" y="88841"/>
                </a:moveTo>
                <a:cubicBezTo>
                  <a:pt x="440985" y="140880"/>
                  <a:pt x="445145" y="205042"/>
                  <a:pt x="414963" y="260183"/>
                </a:cubicBezTo>
                <a:cubicBezTo>
                  <a:pt x="389329" y="307015"/>
                  <a:pt x="341484" y="342578"/>
                  <a:pt x="283161" y="358153"/>
                </a:cubicBezTo>
                <a:lnTo>
                  <a:pt x="217488" y="183356"/>
                </a:lnTo>
                <a:lnTo>
                  <a:pt x="403854" y="88841"/>
                </a:lnTo>
                <a:close/>
              </a:path>
              <a:path fill="none" w="434975" h="366712">
                <a:moveTo>
                  <a:pt x="403854" y="88841"/>
                </a:moveTo>
                <a:cubicBezTo>
                  <a:pt x="440985" y="140880"/>
                  <a:pt x="445145" y="205042"/>
                  <a:pt x="414963" y="260183"/>
                </a:cubicBezTo>
                <a:cubicBezTo>
                  <a:pt x="389329" y="307015"/>
                  <a:pt x="341484" y="342578"/>
                  <a:pt x="283161" y="358153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611280" y="2781360"/>
                <a:ext cx="1765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Объект 2"/>
          <p:cNvSpPr/>
          <p:nvPr/>
        </p:nvSpPr>
        <p:spPr>
          <a:xfrm>
            <a:off x="539640" y="3573360"/>
            <a:ext cx="446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∆АВ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611280" y="4076640"/>
                <a:ext cx="47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11280" y="4869000"/>
                <a:ext cx="2317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237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450D-17DB-429A-ADEA-6EB5411F9EA6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генсом острого угла прямоугольного треугольника называется отношение противолежащего катета к прилежа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242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ECE5-8DD4-416B-BE99-233B7C224516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2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50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251" name="Управляющая кнопка: далее 20" descr=""/>
            <p:cNvPicPr/>
            <p:nvPr/>
          </p:nvPicPr>
          <p:blipFill>
            <a:blip r:embed="rId3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ая соединительная линия 10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ятиугольник 11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бъект 2"/>
          <p:cNvSpPr/>
          <p:nvPr/>
        </p:nvSpPr>
        <p:spPr>
          <a:xfrm>
            <a:off x="3780000" y="1052640"/>
            <a:ext cx="467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тангенс угла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3"/>
          <p:cNvSpPr/>
          <p:nvPr/>
        </p:nvSpPr>
        <p:spPr>
          <a:xfrm flipV="1">
            <a:off x="611280" y="1197000"/>
            <a:ext cx="1368360" cy="14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4"/>
          <p:cNvSpPr/>
          <p:nvPr/>
        </p:nvSpPr>
        <p:spPr>
          <a:xfrm>
            <a:off x="611280" y="2637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бъект 2"/>
          <p:cNvSpPr/>
          <p:nvPr/>
        </p:nvSpPr>
        <p:spPr>
          <a:xfrm>
            <a:off x="32400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1979640" y="836640"/>
            <a:ext cx="517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бъект 2"/>
          <p:cNvSpPr/>
          <p:nvPr/>
        </p:nvSpPr>
        <p:spPr>
          <a:xfrm>
            <a:off x="2843280" y="2133720"/>
            <a:ext cx="493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324000" y="285264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из произвольной точки луча ВА перпендикуляр до пересечения с лучом 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1"/>
          <p:cNvSpPr/>
          <p:nvPr/>
        </p:nvSpPr>
        <p:spPr>
          <a:xfrm flipV="1">
            <a:off x="183528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2"/>
          <p:cNvSpPr/>
          <p:nvPr/>
        </p:nvSpPr>
        <p:spPr>
          <a:xfrm>
            <a:off x="161928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бъект 2"/>
          <p:cNvSpPr/>
          <p:nvPr/>
        </p:nvSpPr>
        <p:spPr>
          <a:xfrm>
            <a:off x="324000" y="3573360"/>
            <a:ext cx="748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прямоугольный равнобедрен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бъект 2"/>
          <p:cNvSpPr/>
          <p:nvPr/>
        </p:nvSpPr>
        <p:spPr>
          <a:xfrm>
            <a:off x="7885080" y="3573360"/>
            <a:ext cx="57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бъект 2"/>
          <p:cNvSpPr/>
          <p:nvPr/>
        </p:nvSpPr>
        <p:spPr>
          <a:xfrm>
            <a:off x="324000" y="4005360"/>
            <a:ext cx="1944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∠В=4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бъект 2"/>
          <p:cNvSpPr/>
          <p:nvPr/>
        </p:nvSpPr>
        <p:spPr>
          <a:xfrm>
            <a:off x="2124000" y="400536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йству острых углов прямоугольного тр-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39640" y="4581360"/>
                <a:ext cx="123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270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789D-545E-42E0-9A53-0A578A7DE9C4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ятиугольник 4"/>
          <p:cNvSpPr/>
          <p:nvPr/>
        </p:nvSpPr>
        <p:spPr>
          <a:xfrm>
            <a:off x="468360" y="981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внобедренном треугольнике углы при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ятиугольник 5"/>
          <p:cNvSpPr/>
          <p:nvPr/>
        </p:nvSpPr>
        <p:spPr>
          <a:xfrm>
            <a:off x="755640" y="2205000"/>
            <a:ext cx="7058160" cy="107964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генс угла в 4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 равен еди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276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бъект 2"/>
          <p:cNvSpPr/>
          <p:nvPr/>
        </p:nvSpPr>
        <p:spPr>
          <a:xfrm>
            <a:off x="2627280" y="595008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0,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бъект 2"/>
          <p:cNvSpPr/>
          <p:nvPr/>
        </p:nvSpPr>
        <p:spPr>
          <a:xfrm>
            <a:off x="3780000" y="981000"/>
            <a:ext cx="4997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косинус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BDD0-6090-428A-999B-B67CB720B769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3" descr=""/>
          <p:cNvPicPr/>
          <p:nvPr/>
        </p:nvPicPr>
        <p:blipFill>
          <a:blip r:embed="rId2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85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286" name="Управляющая кнопка: далее 20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Прямая соединительная линия 10"/>
          <p:cNvSpPr/>
          <p:nvPr/>
        </p:nvSpPr>
        <p:spPr>
          <a:xfrm flipV="1">
            <a:off x="611280" y="981000"/>
            <a:ext cx="1152360" cy="165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11"/>
          <p:cNvSpPr/>
          <p:nvPr/>
        </p:nvSpPr>
        <p:spPr>
          <a:xfrm>
            <a:off x="611280" y="2637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бъект 2"/>
          <p:cNvSpPr/>
          <p:nvPr/>
        </p:nvSpPr>
        <p:spPr>
          <a:xfrm>
            <a:off x="32400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бъект 2"/>
          <p:cNvSpPr/>
          <p:nvPr/>
        </p:nvSpPr>
        <p:spPr>
          <a:xfrm>
            <a:off x="826920" y="105264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бъект 2"/>
          <p:cNvSpPr/>
          <p:nvPr/>
        </p:nvSpPr>
        <p:spPr>
          <a:xfrm>
            <a:off x="1332000" y="206064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15"/>
          <p:cNvSpPr/>
          <p:nvPr/>
        </p:nvSpPr>
        <p:spPr>
          <a:xfrm flipV="1">
            <a:off x="125892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6"/>
          <p:cNvSpPr/>
          <p:nvPr/>
        </p:nvSpPr>
        <p:spPr>
          <a:xfrm>
            <a:off x="104292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бъект 2"/>
          <p:cNvSpPr/>
          <p:nvPr/>
        </p:nvSpPr>
        <p:spPr>
          <a:xfrm>
            <a:off x="324000" y="2852640"/>
            <a:ext cx="849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перпендикуляр из такой точки луча ВА до пересечения с лучом ВС, чтобы в катетах треугольника АВС укладывалось целое число единиц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бъект 2"/>
          <p:cNvSpPr/>
          <p:nvPr/>
        </p:nvSpPr>
        <p:spPr>
          <a:xfrm>
            <a:off x="324000" y="3573360"/>
            <a:ext cx="84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случае единицей измерения стала кл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415800" y="4365720"/>
                <a:ext cx="2106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Дуга 24"/>
          <p:cNvSpPr/>
          <p:nvPr/>
        </p:nvSpPr>
        <p:spPr>
          <a:xfrm rot="16804800">
            <a:off x="540360" y="2483280"/>
            <a:ext cx="434880" cy="366840"/>
          </a:xfrm>
          <a:custGeom>
            <a:avLst/>
            <a:gdLst/>
            <a:ahLst/>
            <a:rect l="l" t="t" r="r" b="b"/>
            <a:pathLst>
              <a:path stroke="0" w="434975" h="366713">
                <a:moveTo>
                  <a:pt x="428804" y="139988"/>
                </a:moveTo>
                <a:cubicBezTo>
                  <a:pt x="457148" y="238150"/>
                  <a:pt x="385967" y="337146"/>
                  <a:pt x="269628" y="361366"/>
                </a:cubicBezTo>
                <a:lnTo>
                  <a:pt x="217488" y="183357"/>
                </a:lnTo>
                <a:lnTo>
                  <a:pt x="428804" y="139988"/>
                </a:lnTo>
                <a:close/>
              </a:path>
              <a:path fill="none" w="434975" h="366713">
                <a:moveTo>
                  <a:pt x="428804" y="139988"/>
                </a:moveTo>
                <a:cubicBezTo>
                  <a:pt x="457148" y="238150"/>
                  <a:pt x="385967" y="337146"/>
                  <a:pt x="269628" y="361366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Прямая со стрелкой 26"/>
          <p:cNvCxnSpPr/>
          <p:nvPr/>
        </p:nvCxnSpPr>
        <p:spPr>
          <a:xfrm flipH="1">
            <a:off x="826200" y="1196640"/>
            <a:ext cx="2953800" cy="13690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300" name="Объект 2"/>
          <p:cNvSpPr/>
          <p:nvPr/>
        </p:nvSpPr>
        <p:spPr>
          <a:xfrm>
            <a:off x="2627280" y="4508640"/>
            <a:ext cx="5832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АВ=3, АС=4, значит по теореме Пифагора ВС=5 (Пифагоров треуголь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6"/>
              <p:cNvSpPr txBox="1"/>
              <p:nvPr/>
            </p:nvSpPr>
            <p:spPr>
              <a:xfrm>
                <a:off x="395280" y="5157720"/>
                <a:ext cx="24224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303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F40-4BF6-4163-AFCB-F83940C95CC6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инусом острого угла прямоугольного треугольника называется отношение прилежащего катета к гипотен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308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бъект 2"/>
          <p:cNvSpPr/>
          <p:nvPr/>
        </p:nvSpPr>
        <p:spPr>
          <a:xfrm>
            <a:off x="3780000" y="981000"/>
            <a:ext cx="46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угол АВС (в градус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FE2-71C9-4C49-8EF5-A8254D49110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91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92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ая соединительная линия 23"/>
          <p:cNvSpPr/>
          <p:nvPr/>
        </p:nvSpPr>
        <p:spPr>
          <a:xfrm flipV="1">
            <a:off x="611280" y="1197000"/>
            <a:ext cx="1368360" cy="14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5"/>
          <p:cNvSpPr/>
          <p:nvPr/>
        </p:nvSpPr>
        <p:spPr>
          <a:xfrm>
            <a:off x="611280" y="2637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бъект 2"/>
          <p:cNvSpPr/>
          <p:nvPr/>
        </p:nvSpPr>
        <p:spPr>
          <a:xfrm>
            <a:off x="32400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2"/>
          <p:cNvSpPr/>
          <p:nvPr/>
        </p:nvSpPr>
        <p:spPr>
          <a:xfrm>
            <a:off x="1979640" y="836640"/>
            <a:ext cx="517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2843280" y="2133720"/>
            <a:ext cx="493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324000" y="285264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из произвольной точки луча ВА перпендикуляр до пересечения с лучом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8"/>
          <p:cNvSpPr/>
          <p:nvPr/>
        </p:nvSpPr>
        <p:spPr>
          <a:xfrm flipV="1">
            <a:off x="183528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161928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бъект 2"/>
          <p:cNvSpPr/>
          <p:nvPr/>
        </p:nvSpPr>
        <p:spPr>
          <a:xfrm>
            <a:off x="324000" y="3645000"/>
            <a:ext cx="741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прямоугольный равнобедрен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бъект 2"/>
          <p:cNvSpPr/>
          <p:nvPr/>
        </p:nvSpPr>
        <p:spPr>
          <a:xfrm>
            <a:off x="395280" y="4076640"/>
            <a:ext cx="57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900000" y="4076640"/>
            <a:ext cx="194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∠В=4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2843280" y="4076640"/>
            <a:ext cx="597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йству острых углов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49A-34B5-4F51-9B7A-85166EE0F2F1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ятиугольник 4"/>
          <p:cNvSpPr/>
          <p:nvPr/>
        </p:nvSpPr>
        <p:spPr>
          <a:xfrm>
            <a:off x="468360" y="981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угольник называется прямоугольным, если в нем  имеется прямо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иугольник 5"/>
          <p:cNvSpPr/>
          <p:nvPr/>
        </p:nvSpPr>
        <p:spPr>
          <a:xfrm>
            <a:off x="755640" y="2205000"/>
            <a:ext cx="7058160" cy="107964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внобедренном треугольнике углы при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113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135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ъект 2"/>
          <p:cNvSpPr/>
          <p:nvPr/>
        </p:nvSpPr>
        <p:spPr>
          <a:xfrm>
            <a:off x="3995640" y="981000"/>
            <a:ext cx="4781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угол АВС (в градуса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7E9-084C-4DE9-8480-7CE53D1EA39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22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123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рямая соединительная линия 10"/>
          <p:cNvSpPr/>
          <p:nvPr/>
        </p:nvSpPr>
        <p:spPr>
          <a:xfrm flipV="1">
            <a:off x="1979640" y="1197000"/>
            <a:ext cx="1368360" cy="14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1"/>
          <p:cNvSpPr/>
          <p:nvPr/>
        </p:nvSpPr>
        <p:spPr>
          <a:xfrm>
            <a:off x="611280" y="2637000"/>
            <a:ext cx="13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бъект 2"/>
          <p:cNvSpPr/>
          <p:nvPr/>
        </p:nvSpPr>
        <p:spPr>
          <a:xfrm>
            <a:off x="161928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ъект 2"/>
          <p:cNvSpPr/>
          <p:nvPr/>
        </p:nvSpPr>
        <p:spPr>
          <a:xfrm>
            <a:off x="2700360" y="83664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ъект 2"/>
          <p:cNvSpPr/>
          <p:nvPr/>
        </p:nvSpPr>
        <p:spPr>
          <a:xfrm>
            <a:off x="468360" y="206064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5"/>
          <p:cNvSpPr/>
          <p:nvPr/>
        </p:nvSpPr>
        <p:spPr>
          <a:xfrm flipV="1">
            <a:off x="305928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284328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4"/>
          <p:cNvSpPr/>
          <p:nvPr/>
        </p:nvSpPr>
        <p:spPr>
          <a:xfrm>
            <a:off x="1979640" y="2637000"/>
            <a:ext cx="171288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ъект 2"/>
          <p:cNvSpPr/>
          <p:nvPr/>
        </p:nvSpPr>
        <p:spPr>
          <a:xfrm>
            <a:off x="468360" y="2708280"/>
            <a:ext cx="835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из произвольной точки луча ВС перпендикуляр к прямой А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сечения с 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бъект 2"/>
          <p:cNvSpPr/>
          <p:nvPr/>
        </p:nvSpPr>
        <p:spPr>
          <a:xfrm>
            <a:off x="305928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68360" y="342900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прямоугольный равнобедренный тре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бъект 2"/>
          <p:cNvSpPr/>
          <p:nvPr/>
        </p:nvSpPr>
        <p:spPr>
          <a:xfrm>
            <a:off x="395280" y="3860640"/>
            <a:ext cx="57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ъект 2"/>
          <p:cNvSpPr/>
          <p:nvPr/>
        </p:nvSpPr>
        <p:spPr>
          <a:xfrm>
            <a:off x="900000" y="3860640"/>
            <a:ext cx="194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∠В=4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ъект 2"/>
          <p:cNvSpPr/>
          <p:nvPr/>
        </p:nvSpPr>
        <p:spPr>
          <a:xfrm>
            <a:off x="2771640" y="3860640"/>
            <a:ext cx="60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йству острых углов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2"/>
          <p:cNvSpPr/>
          <p:nvPr/>
        </p:nvSpPr>
        <p:spPr>
          <a:xfrm>
            <a:off x="395280" y="4581360"/>
            <a:ext cx="4753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ак смежн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ъект 2"/>
          <p:cNvSpPr/>
          <p:nvPr/>
        </p:nvSpPr>
        <p:spPr>
          <a:xfrm>
            <a:off x="5148360" y="4581360"/>
            <a:ext cx="57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бъект 2"/>
          <p:cNvSpPr/>
          <p:nvPr/>
        </p:nvSpPr>
        <p:spPr>
          <a:xfrm>
            <a:off x="468360" y="5013360"/>
            <a:ext cx="4751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35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143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3C7-1607-454A-A105-9FDBD9CC360D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ятиугольник 4"/>
          <p:cNvSpPr/>
          <p:nvPr/>
        </p:nvSpPr>
        <p:spPr>
          <a:xfrm>
            <a:off x="468360" y="981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внобедренном треугольнике углы при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ятиугольник 5"/>
          <p:cNvSpPr/>
          <p:nvPr/>
        </p:nvSpPr>
        <p:spPr>
          <a:xfrm>
            <a:off x="755640" y="2205000"/>
            <a:ext cx="7058160" cy="107964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жными углами называются углы, у которых есть общая сторона, а две другие являются дополнительными лу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149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ятиугольник 10"/>
          <p:cNvSpPr/>
          <p:nvPr/>
        </p:nvSpPr>
        <p:spPr>
          <a:xfrm>
            <a:off x="1403280" y="4653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смежных углов равна 18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0,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4427640" y="981000"/>
            <a:ext cx="4349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синус угла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B5E-DDC1-498D-9D0D-CF78B9F7ADCD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59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160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оугольный треугольник 10"/>
          <p:cNvSpPr/>
          <p:nvPr/>
        </p:nvSpPr>
        <p:spPr>
          <a:xfrm flipH="1">
            <a:off x="755640" y="1268280"/>
            <a:ext cx="1944720" cy="1152720"/>
          </a:xfrm>
          <a:prstGeom prst="rtTriangl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бъект 2"/>
          <p:cNvSpPr/>
          <p:nvPr/>
        </p:nvSpPr>
        <p:spPr>
          <a:xfrm>
            <a:off x="2771640" y="1916280"/>
            <a:ext cx="606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бъект 2"/>
          <p:cNvSpPr/>
          <p:nvPr/>
        </p:nvSpPr>
        <p:spPr>
          <a:xfrm>
            <a:off x="395280" y="1916280"/>
            <a:ext cx="517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бъект 2"/>
          <p:cNvSpPr/>
          <p:nvPr/>
        </p:nvSpPr>
        <p:spPr>
          <a:xfrm>
            <a:off x="2700360" y="83664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2484360" y="2205000"/>
            <a:ext cx="216000" cy="216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бъект 2"/>
          <p:cNvSpPr/>
          <p:nvPr/>
        </p:nvSpPr>
        <p:spPr>
          <a:xfrm>
            <a:off x="1619280" y="1916280"/>
            <a:ext cx="517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ъект 2"/>
          <p:cNvSpPr/>
          <p:nvPr/>
        </p:nvSpPr>
        <p:spPr>
          <a:xfrm>
            <a:off x="2627280" y="141300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уга 22"/>
          <p:cNvSpPr/>
          <p:nvPr/>
        </p:nvSpPr>
        <p:spPr>
          <a:xfrm rot="4788600">
            <a:off x="2413440" y="1188000"/>
            <a:ext cx="434880" cy="366480"/>
          </a:xfrm>
          <a:custGeom>
            <a:avLst/>
            <a:gdLst/>
            <a:ahLst/>
            <a:rect l="l" t="t" r="r" b="b"/>
            <a:pathLst>
              <a:path stroke="0" w="434975" h="366713">
                <a:moveTo>
                  <a:pt x="430501" y="146359"/>
                </a:moveTo>
                <a:cubicBezTo>
                  <a:pt x="444178" y="202328"/>
                  <a:pt x="426121" y="260473"/>
                  <a:pt x="381666" y="303611"/>
                </a:cubicBezTo>
                <a:cubicBezTo>
                  <a:pt x="345980" y="338240"/>
                  <a:pt x="296193" y="360334"/>
                  <a:pt x="242132" y="365532"/>
                </a:cubicBezTo>
                <a:lnTo>
                  <a:pt x="217488" y="183357"/>
                </a:lnTo>
                <a:lnTo>
                  <a:pt x="430501" y="146359"/>
                </a:lnTo>
                <a:close/>
              </a:path>
              <a:path fill="none" w="434975" h="366713">
                <a:moveTo>
                  <a:pt x="430501" y="146359"/>
                </a:moveTo>
                <a:cubicBezTo>
                  <a:pt x="444178" y="202328"/>
                  <a:pt x="426121" y="260473"/>
                  <a:pt x="381666" y="303611"/>
                </a:cubicBezTo>
                <a:cubicBezTo>
                  <a:pt x="345980" y="338240"/>
                  <a:pt x="296193" y="360334"/>
                  <a:pt x="242132" y="365532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24"/>
          <p:cNvCxnSpPr/>
          <p:nvPr/>
        </p:nvCxnSpPr>
        <p:spPr>
          <a:xfrm flipH="1">
            <a:off x="2626920" y="1197000"/>
            <a:ext cx="1729440" cy="2880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611280" y="2708280"/>
                <a:ext cx="19476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Объект 2"/>
          <p:cNvSpPr/>
          <p:nvPr/>
        </p:nvSpPr>
        <p:spPr>
          <a:xfrm>
            <a:off x="539640" y="3573360"/>
            <a:ext cx="446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∆АВ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611280" y="4076640"/>
                <a:ext cx="4549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1280" y="4724280"/>
                <a:ext cx="2342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8045-1935-4AEB-821D-83778F975729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усом острого угла прямоугольного треугольника называется отношение противолежащего катета к гипотен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181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0,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бъект 2"/>
          <p:cNvSpPr/>
          <p:nvPr/>
        </p:nvSpPr>
        <p:spPr>
          <a:xfrm>
            <a:off x="4500720" y="981000"/>
            <a:ext cx="4276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косинус угла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470-FC9E-4ABD-9637-2E74F45B37DF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90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191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Прямоугольный треугольник 10"/>
          <p:cNvSpPr/>
          <p:nvPr/>
        </p:nvSpPr>
        <p:spPr>
          <a:xfrm flipH="1" rot="12028800">
            <a:off x="1076760" y="1406520"/>
            <a:ext cx="2282760" cy="1434960"/>
          </a:xfrm>
          <a:prstGeom prst="rtTriangl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663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бъект 2"/>
          <p:cNvSpPr/>
          <p:nvPr/>
        </p:nvSpPr>
        <p:spPr>
          <a:xfrm>
            <a:off x="3492360" y="1413000"/>
            <a:ext cx="606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бъект 2"/>
          <p:cNvSpPr/>
          <p:nvPr/>
        </p:nvSpPr>
        <p:spPr>
          <a:xfrm>
            <a:off x="826920" y="692280"/>
            <a:ext cx="517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бъект 2"/>
          <p:cNvSpPr/>
          <p:nvPr/>
        </p:nvSpPr>
        <p:spPr>
          <a:xfrm>
            <a:off x="395280" y="1916280"/>
            <a:ext cx="493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4"/>
          <p:cNvSpPr/>
          <p:nvPr/>
        </p:nvSpPr>
        <p:spPr>
          <a:xfrm rot="1127400">
            <a:off x="1392120" y="1077480"/>
            <a:ext cx="187560" cy="165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07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Дуга 17"/>
          <p:cNvSpPr/>
          <p:nvPr/>
        </p:nvSpPr>
        <p:spPr>
          <a:xfrm rot="16804800">
            <a:off x="829440" y="2122920"/>
            <a:ext cx="434880" cy="366840"/>
          </a:xfrm>
          <a:custGeom>
            <a:avLst/>
            <a:gdLst/>
            <a:ahLst/>
            <a:rect l="l" t="t" r="r" b="b"/>
            <a:pathLst>
              <a:path stroke="0" w="434975" h="366713">
                <a:moveTo>
                  <a:pt x="404302" y="89473"/>
                </a:moveTo>
                <a:cubicBezTo>
                  <a:pt x="446057" y="148528"/>
                  <a:pt x="445118" y="222313"/>
                  <a:pt x="401869" y="280599"/>
                </a:cubicBezTo>
                <a:cubicBezTo>
                  <a:pt x="366742" y="327940"/>
                  <a:pt x="307940" y="359205"/>
                  <a:pt x="242132" y="365533"/>
                </a:cubicBezTo>
                <a:lnTo>
                  <a:pt x="217488" y="183357"/>
                </a:lnTo>
                <a:lnTo>
                  <a:pt x="404302" y="89473"/>
                </a:lnTo>
                <a:close/>
              </a:path>
              <a:path fill="none" w="434975" h="366713">
                <a:moveTo>
                  <a:pt x="404302" y="89473"/>
                </a:moveTo>
                <a:cubicBezTo>
                  <a:pt x="446057" y="148528"/>
                  <a:pt x="445118" y="222313"/>
                  <a:pt x="401869" y="280599"/>
                </a:cubicBezTo>
                <a:cubicBezTo>
                  <a:pt x="366742" y="327940"/>
                  <a:pt x="307940" y="359205"/>
                  <a:pt x="242132" y="365533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18"/>
          <p:cNvCxnSpPr/>
          <p:nvPr/>
        </p:nvCxnSpPr>
        <p:spPr>
          <a:xfrm flipH="1">
            <a:off x="1042200" y="1197000"/>
            <a:ext cx="3313800" cy="10087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2252520" y="99684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706320" y="1268280"/>
                <a:ext cx="576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84280" y="2708280"/>
                <a:ext cx="20016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Объект 2"/>
          <p:cNvSpPr/>
          <p:nvPr/>
        </p:nvSpPr>
        <p:spPr>
          <a:xfrm>
            <a:off x="539640" y="3573360"/>
            <a:ext cx="446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∆АВ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539640" y="4005360"/>
                <a:ext cx="6824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11280" y="4653000"/>
                <a:ext cx="3290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207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C04-0CD5-4FA3-88F0-E2D124066BFD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инусом острого угла прямоугольного треугольника называется отношение прилежащего катета к гипотен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212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3:19Z</dcterms:created>
  <dc:creator>Comp</dc:creator>
  <dc:description/>
  <dc:language>en-US</dc:language>
  <cp:lastModifiedBy>поиск</cp:lastModifiedBy>
  <dcterms:modified xsi:type="dcterms:W3CDTF">2015-03-11T19:25:59Z</dcterms:modified>
  <cp:revision>26</cp:revision>
  <dc:subject/>
  <dc:title>Слайд 1</dc:title>
</cp:coreProperties>
</file>