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81E-E68A-4898-9086-8F91167D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BFB-E214-4FF0-B02D-20FA3605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6C0-859A-4BCE-83AE-2B1BEAAB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A2E-6728-4318-B6B5-999624E6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0E95-03C0-43E6-9BFB-C503B32F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6680-CBBA-43A8-9BDF-0119A4D7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D105-51F0-4B79-99B6-36F6890A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EE49-F694-495A-A125-0AA1CBC6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ACC9-EEB0-4804-A37D-5D8759CF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9CB1-2DDF-46AE-B9DF-88348FE4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BE1E-8F8A-4E40-8FA2-FA11B7D4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8F2-224D-457F-9DDC-5C06B262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0A80-CE3F-4CA4-BFD4-07FE60AE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D68E-ADD9-4E08-928E-02F14262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A697-DF8B-4BC7-A59C-38A35F44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C9D9-F1C9-42F1-9B84-3201CA0F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CA37-EC34-4ACC-AE5A-617FE125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E15-B44C-450F-B287-8F068B99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BC7-2C60-4644-BAAB-6E7A9861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12A-1866-493B-89AD-FA7613CB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EBE-F09F-4DF5-93B1-5890249D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508-D456-46C1-AA0A-3EB41F7C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E3A-5B2E-4CDE-8362-8E590C68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0D9-2492-42A9-A4EF-5997453E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1123-09E7-4542-AC38-130863F99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3EE7-0C67-47B4-8543-4689CDFC1E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slide" Target="slide12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slide" Target="slide4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slide" Target="slide6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slide" Target="slide8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slide" Target="slide10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49160" y="401760"/>
            <a:ext cx="7645680" cy="2420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643200" y="4214880"/>
            <a:ext cx="5043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втор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бъект 2"/>
          <p:cNvSpPr/>
          <p:nvPr/>
        </p:nvSpPr>
        <p:spPr>
          <a:xfrm>
            <a:off x="1476360" y="573264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 2,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бъект 2"/>
          <p:cNvSpPr/>
          <p:nvPr/>
        </p:nvSpPr>
        <p:spPr>
          <a:xfrm>
            <a:off x="3780000" y="981000"/>
            <a:ext cx="4997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тангенс угла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3BAD-F756-430C-90AC-8335A5B304E1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3" descr=""/>
          <p:cNvPicPr/>
          <p:nvPr/>
        </p:nvPicPr>
        <p:blipFill>
          <a:blip r:embed="rId3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221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222" name="Управляющая кнопка: далее 2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Прямоугольный треугольник 10"/>
          <p:cNvSpPr/>
          <p:nvPr/>
        </p:nvSpPr>
        <p:spPr>
          <a:xfrm>
            <a:off x="826920" y="1125360"/>
            <a:ext cx="2376720" cy="1511640"/>
          </a:xfrm>
          <a:prstGeom prst="rtTriangl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бъект 2"/>
          <p:cNvSpPr/>
          <p:nvPr/>
        </p:nvSpPr>
        <p:spPr>
          <a:xfrm>
            <a:off x="3203640" y="2205000"/>
            <a:ext cx="606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бъект 2"/>
          <p:cNvSpPr/>
          <p:nvPr/>
        </p:nvSpPr>
        <p:spPr>
          <a:xfrm>
            <a:off x="395280" y="2205000"/>
            <a:ext cx="51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бъект 2"/>
          <p:cNvSpPr/>
          <p:nvPr/>
        </p:nvSpPr>
        <p:spPr>
          <a:xfrm>
            <a:off x="971640" y="765000"/>
            <a:ext cx="493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826920" y="2421000"/>
            <a:ext cx="216000" cy="216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бъект 2"/>
          <p:cNvSpPr/>
          <p:nvPr/>
        </p:nvSpPr>
        <p:spPr>
          <a:xfrm>
            <a:off x="1476360" y="2060640"/>
            <a:ext cx="71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бъект 2"/>
          <p:cNvSpPr/>
          <p:nvPr/>
        </p:nvSpPr>
        <p:spPr>
          <a:xfrm>
            <a:off x="1692360" y="1268280"/>
            <a:ext cx="792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Дуга 18"/>
          <p:cNvSpPr/>
          <p:nvPr/>
        </p:nvSpPr>
        <p:spPr>
          <a:xfrm rot="2415600">
            <a:off x="677520" y="1077480"/>
            <a:ext cx="434880" cy="366840"/>
          </a:xfrm>
          <a:custGeom>
            <a:avLst/>
            <a:gdLst/>
            <a:ahLst/>
            <a:rect l="l" t="t" r="r" b="b"/>
            <a:pathLst>
              <a:path stroke="0" w="434975" h="366712">
                <a:moveTo>
                  <a:pt x="403854" y="88841"/>
                </a:moveTo>
                <a:cubicBezTo>
                  <a:pt x="440985" y="140880"/>
                  <a:pt x="445145" y="205042"/>
                  <a:pt x="414963" y="260183"/>
                </a:cubicBezTo>
                <a:cubicBezTo>
                  <a:pt x="389329" y="307015"/>
                  <a:pt x="341484" y="342578"/>
                  <a:pt x="283161" y="358153"/>
                </a:cubicBezTo>
                <a:lnTo>
                  <a:pt x="217488" y="183356"/>
                </a:lnTo>
                <a:lnTo>
                  <a:pt x="403854" y="88841"/>
                </a:lnTo>
                <a:close/>
              </a:path>
              <a:path fill="none" w="434975" h="366712">
                <a:moveTo>
                  <a:pt x="403854" y="88841"/>
                </a:moveTo>
                <a:cubicBezTo>
                  <a:pt x="440985" y="140880"/>
                  <a:pt x="445145" y="205042"/>
                  <a:pt x="414963" y="260183"/>
                </a:cubicBezTo>
                <a:cubicBezTo>
                  <a:pt x="389329" y="307015"/>
                  <a:pt x="341484" y="342578"/>
                  <a:pt x="283161" y="358153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6"/>
              <p:cNvSpPr txBox="1"/>
              <p:nvPr/>
            </p:nvSpPr>
            <p:spPr>
              <a:xfrm>
                <a:off x="611280" y="2781360"/>
                <a:ext cx="1765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BA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Объект 2"/>
          <p:cNvSpPr/>
          <p:nvPr/>
        </p:nvSpPr>
        <p:spPr>
          <a:xfrm>
            <a:off x="539640" y="3573360"/>
            <a:ext cx="446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ореме Пифагора 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∆АВС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611280" y="4076640"/>
                <a:ext cx="4782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611280" y="4869000"/>
                <a:ext cx="2317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BA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237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83CD-F62E-4318-976C-10B6A989692D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ятиугольник 5"/>
          <p:cNvSpPr/>
          <p:nvPr/>
        </p:nvSpPr>
        <p:spPr>
          <a:xfrm>
            <a:off x="755640" y="1773360"/>
            <a:ext cx="7058160" cy="107928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нгенсом острого угла прямоугольного треугольника называется отношение противолежащего катета к прилежа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242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торени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бъект 2"/>
          <p:cNvSpPr/>
          <p:nvPr/>
        </p:nvSpPr>
        <p:spPr>
          <a:xfrm>
            <a:off x="1476360" y="573264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2122-78AD-4E8F-88BB-F83D3AB3AB50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3" descr=""/>
          <p:cNvPicPr/>
          <p:nvPr/>
        </p:nvPicPr>
        <p:blipFill>
          <a:blip r:embed="rId2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250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251" name="Управляющая кнопка: далее 20" descr=""/>
            <p:cNvPicPr/>
            <p:nvPr/>
          </p:nvPicPr>
          <p:blipFill>
            <a:blip r:embed="rId3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Прямая соединительная линия 10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ятиугольник 11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торени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бъект 2"/>
          <p:cNvSpPr/>
          <p:nvPr/>
        </p:nvSpPr>
        <p:spPr>
          <a:xfrm>
            <a:off x="3780000" y="1052640"/>
            <a:ext cx="4679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тангенс угла А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3"/>
          <p:cNvSpPr/>
          <p:nvPr/>
        </p:nvSpPr>
        <p:spPr>
          <a:xfrm flipV="1">
            <a:off x="611280" y="1197000"/>
            <a:ext cx="1368360" cy="1440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4"/>
          <p:cNvSpPr/>
          <p:nvPr/>
        </p:nvSpPr>
        <p:spPr>
          <a:xfrm>
            <a:off x="611280" y="263700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бъект 2"/>
          <p:cNvSpPr/>
          <p:nvPr/>
        </p:nvSpPr>
        <p:spPr>
          <a:xfrm>
            <a:off x="324000" y="2060640"/>
            <a:ext cx="606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1979640" y="836640"/>
            <a:ext cx="517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бъект 2"/>
          <p:cNvSpPr/>
          <p:nvPr/>
        </p:nvSpPr>
        <p:spPr>
          <a:xfrm>
            <a:off x="2843280" y="2133720"/>
            <a:ext cx="493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324000" y="2852640"/>
            <a:ext cx="84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из произвольной точки луча ВА перпендикуляр до пересечения с лучом 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21"/>
          <p:cNvSpPr/>
          <p:nvPr/>
        </p:nvSpPr>
        <p:spPr>
          <a:xfrm flipV="1">
            <a:off x="1835280" y="1341000"/>
            <a:ext cx="0" cy="129564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2"/>
          <p:cNvSpPr/>
          <p:nvPr/>
        </p:nvSpPr>
        <p:spPr>
          <a:xfrm>
            <a:off x="1619280" y="2421000"/>
            <a:ext cx="216000" cy="216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2844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бъект 2"/>
          <p:cNvSpPr/>
          <p:nvPr/>
        </p:nvSpPr>
        <p:spPr>
          <a:xfrm>
            <a:off x="324000" y="3573360"/>
            <a:ext cx="748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прямоугольный равнобедренный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бъект 2"/>
          <p:cNvSpPr/>
          <p:nvPr/>
        </p:nvSpPr>
        <p:spPr>
          <a:xfrm>
            <a:off x="7885080" y="3573360"/>
            <a:ext cx="577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бъект 2"/>
          <p:cNvSpPr/>
          <p:nvPr/>
        </p:nvSpPr>
        <p:spPr>
          <a:xfrm>
            <a:off x="324000" y="4005360"/>
            <a:ext cx="1944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∠В=4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mbria Math"/>
              </a:rPr>
              <a:t>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бъект 2"/>
          <p:cNvSpPr/>
          <p:nvPr/>
        </p:nvSpPr>
        <p:spPr>
          <a:xfrm>
            <a:off x="2124000" y="400536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йству острых углов прямоугольного тр-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539640" y="4581360"/>
                <a:ext cx="1236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270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E654-A175-436A-81D1-14166D66B4BE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ятиугольник 4"/>
          <p:cNvSpPr/>
          <p:nvPr/>
        </p:nvSpPr>
        <p:spPr>
          <a:xfrm>
            <a:off x="468360" y="981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равнобедренном треугольнике углы при основании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ятиугольник 5"/>
          <p:cNvSpPr/>
          <p:nvPr/>
        </p:nvSpPr>
        <p:spPr>
          <a:xfrm>
            <a:off x="755640" y="2205000"/>
            <a:ext cx="7058160" cy="107964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 острых углов прямоугольного треугольника равна 9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нгенс угла в 4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⁰ равен еди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276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торени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бъект 2"/>
          <p:cNvSpPr/>
          <p:nvPr/>
        </p:nvSpPr>
        <p:spPr>
          <a:xfrm>
            <a:off x="2627280" y="595008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 0,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бъект 2"/>
          <p:cNvSpPr/>
          <p:nvPr/>
        </p:nvSpPr>
        <p:spPr>
          <a:xfrm>
            <a:off x="3780000" y="981000"/>
            <a:ext cx="4997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косинус угла 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1B56-835E-40C9-AD55-93BEC4F70C4D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3" descr=""/>
          <p:cNvPicPr/>
          <p:nvPr/>
        </p:nvPicPr>
        <p:blipFill>
          <a:blip r:embed="rId2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285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286" name="Управляющая кнопка: далее 20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Прямая соединительная линия 10"/>
          <p:cNvSpPr/>
          <p:nvPr/>
        </p:nvSpPr>
        <p:spPr>
          <a:xfrm flipV="1">
            <a:off x="611280" y="981000"/>
            <a:ext cx="1152360" cy="165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11"/>
          <p:cNvSpPr/>
          <p:nvPr/>
        </p:nvSpPr>
        <p:spPr>
          <a:xfrm>
            <a:off x="611280" y="263700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бъект 2"/>
          <p:cNvSpPr/>
          <p:nvPr/>
        </p:nvSpPr>
        <p:spPr>
          <a:xfrm>
            <a:off x="324000" y="2060640"/>
            <a:ext cx="606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бъект 2"/>
          <p:cNvSpPr/>
          <p:nvPr/>
        </p:nvSpPr>
        <p:spPr>
          <a:xfrm>
            <a:off x="826920" y="1052640"/>
            <a:ext cx="51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бъект 2"/>
          <p:cNvSpPr/>
          <p:nvPr/>
        </p:nvSpPr>
        <p:spPr>
          <a:xfrm>
            <a:off x="1332000" y="2060640"/>
            <a:ext cx="493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15"/>
          <p:cNvSpPr/>
          <p:nvPr/>
        </p:nvSpPr>
        <p:spPr>
          <a:xfrm flipV="1">
            <a:off x="1258920" y="1341000"/>
            <a:ext cx="0" cy="129564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6"/>
          <p:cNvSpPr/>
          <p:nvPr/>
        </p:nvSpPr>
        <p:spPr>
          <a:xfrm>
            <a:off x="1042920" y="2421000"/>
            <a:ext cx="216000" cy="216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2844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бъект 2"/>
          <p:cNvSpPr/>
          <p:nvPr/>
        </p:nvSpPr>
        <p:spPr>
          <a:xfrm>
            <a:off x="324000" y="2852640"/>
            <a:ext cx="849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перпендикуляр из такой точки луча ВА до пересечения с лучом ВС, чтобы в катетах треугольника АВС укладывалось целое число единиц из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бъект 2"/>
          <p:cNvSpPr/>
          <p:nvPr/>
        </p:nvSpPr>
        <p:spPr>
          <a:xfrm>
            <a:off x="324000" y="3573360"/>
            <a:ext cx="849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случае единицей измерения стала кл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6"/>
              <p:cNvSpPr txBox="1"/>
              <p:nvPr/>
            </p:nvSpPr>
            <p:spPr>
              <a:xfrm>
                <a:off x="415800" y="4365720"/>
                <a:ext cx="21067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Дуга 24"/>
          <p:cNvSpPr/>
          <p:nvPr/>
        </p:nvSpPr>
        <p:spPr>
          <a:xfrm rot="16804800">
            <a:off x="540360" y="2483280"/>
            <a:ext cx="434880" cy="366840"/>
          </a:xfrm>
          <a:custGeom>
            <a:avLst/>
            <a:gdLst/>
            <a:ahLst/>
            <a:rect l="l" t="t" r="r" b="b"/>
            <a:pathLst>
              <a:path stroke="0" w="434975" h="366713">
                <a:moveTo>
                  <a:pt x="428804" y="139988"/>
                </a:moveTo>
                <a:cubicBezTo>
                  <a:pt x="457148" y="238150"/>
                  <a:pt x="385967" y="337146"/>
                  <a:pt x="269628" y="361366"/>
                </a:cubicBezTo>
                <a:lnTo>
                  <a:pt x="217488" y="183357"/>
                </a:lnTo>
                <a:lnTo>
                  <a:pt x="428804" y="139988"/>
                </a:lnTo>
                <a:close/>
              </a:path>
              <a:path fill="none" w="434975" h="366713">
                <a:moveTo>
                  <a:pt x="428804" y="139988"/>
                </a:moveTo>
                <a:cubicBezTo>
                  <a:pt x="457148" y="238150"/>
                  <a:pt x="385967" y="337146"/>
                  <a:pt x="269628" y="361366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Прямая со стрелкой 26"/>
          <p:cNvCxnSpPr/>
          <p:nvPr/>
        </p:nvCxnSpPr>
        <p:spPr>
          <a:xfrm flipH="1">
            <a:off x="826200" y="1196640"/>
            <a:ext cx="2953800" cy="13690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300" name="Объект 2"/>
          <p:cNvSpPr/>
          <p:nvPr/>
        </p:nvSpPr>
        <p:spPr>
          <a:xfrm>
            <a:off x="2627280" y="4508640"/>
            <a:ext cx="5832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АВ=3, АС=4, значит по теореме Пифагора ВС=5 (Пифагоров треуголь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6"/>
              <p:cNvSpPr txBox="1"/>
              <p:nvPr/>
            </p:nvSpPr>
            <p:spPr>
              <a:xfrm>
                <a:off x="395280" y="5157720"/>
                <a:ext cx="24224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303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A851-C2EB-4954-8107-4867A2676F02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ятиугольник 5"/>
          <p:cNvSpPr/>
          <p:nvPr/>
        </p:nvSpPr>
        <p:spPr>
          <a:xfrm>
            <a:off x="755640" y="1773360"/>
            <a:ext cx="7058160" cy="107928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синусом острого угла прямоугольного треугольника называется отношение прилежащего катета к гипотену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308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втор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бъект 2"/>
          <p:cNvSpPr/>
          <p:nvPr/>
        </p:nvSpPr>
        <p:spPr>
          <a:xfrm>
            <a:off x="1476360" y="573264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 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бъект 2"/>
          <p:cNvSpPr/>
          <p:nvPr/>
        </p:nvSpPr>
        <p:spPr>
          <a:xfrm>
            <a:off x="3780000" y="981000"/>
            <a:ext cx="467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угол АВС (в градус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0D5B-3879-467C-90AE-51B550C5251E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3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91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92" name="Управляющая кнопка: далее 2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ая соединительная линия 23"/>
          <p:cNvSpPr/>
          <p:nvPr/>
        </p:nvSpPr>
        <p:spPr>
          <a:xfrm flipV="1">
            <a:off x="611280" y="1197000"/>
            <a:ext cx="1368360" cy="1440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5"/>
          <p:cNvSpPr/>
          <p:nvPr/>
        </p:nvSpPr>
        <p:spPr>
          <a:xfrm>
            <a:off x="611280" y="2637000"/>
            <a:ext cx="2232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бъект 2"/>
          <p:cNvSpPr/>
          <p:nvPr/>
        </p:nvSpPr>
        <p:spPr>
          <a:xfrm>
            <a:off x="324000" y="2060640"/>
            <a:ext cx="606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бъект 2"/>
          <p:cNvSpPr/>
          <p:nvPr/>
        </p:nvSpPr>
        <p:spPr>
          <a:xfrm>
            <a:off x="1979640" y="836640"/>
            <a:ext cx="517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ъект 2"/>
          <p:cNvSpPr/>
          <p:nvPr/>
        </p:nvSpPr>
        <p:spPr>
          <a:xfrm>
            <a:off x="2843280" y="2133720"/>
            <a:ext cx="493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324000" y="2852640"/>
            <a:ext cx="84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из произвольной точки луча ВА перпендикуляр до пересечения с лучом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8"/>
          <p:cNvSpPr/>
          <p:nvPr/>
        </p:nvSpPr>
        <p:spPr>
          <a:xfrm flipV="1">
            <a:off x="1835280" y="1341000"/>
            <a:ext cx="0" cy="129564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9"/>
          <p:cNvSpPr/>
          <p:nvPr/>
        </p:nvSpPr>
        <p:spPr>
          <a:xfrm>
            <a:off x="1619280" y="2421000"/>
            <a:ext cx="216000" cy="216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2844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бъект 2"/>
          <p:cNvSpPr/>
          <p:nvPr/>
        </p:nvSpPr>
        <p:spPr>
          <a:xfrm>
            <a:off x="324000" y="3645000"/>
            <a:ext cx="741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прямоугольный равнобедренный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бъект 2"/>
          <p:cNvSpPr/>
          <p:nvPr/>
        </p:nvSpPr>
        <p:spPr>
          <a:xfrm>
            <a:off x="395280" y="4076640"/>
            <a:ext cx="57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900000" y="4076640"/>
            <a:ext cx="194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∠В=4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mbria Math"/>
              </a:rPr>
              <a:t>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ъект 2"/>
          <p:cNvSpPr/>
          <p:nvPr/>
        </p:nvSpPr>
        <p:spPr>
          <a:xfrm>
            <a:off x="2843280" y="4076640"/>
            <a:ext cx="5976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йству острых углов прямоуголь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BB08-6DFE-48B0-91ED-05235385EB85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ятиугольник 4"/>
          <p:cNvSpPr/>
          <p:nvPr/>
        </p:nvSpPr>
        <p:spPr>
          <a:xfrm>
            <a:off x="468360" y="981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угольник называется прямоугольным, если в нем  имеется прямо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ятиугольник 5"/>
          <p:cNvSpPr/>
          <p:nvPr/>
        </p:nvSpPr>
        <p:spPr>
          <a:xfrm>
            <a:off x="755640" y="2205000"/>
            <a:ext cx="7058160" cy="107964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равнобедренном треугольнике углы при основании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 острых углов прямоугольного треугольника равна 9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113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втор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бъект 2"/>
          <p:cNvSpPr/>
          <p:nvPr/>
        </p:nvSpPr>
        <p:spPr>
          <a:xfrm>
            <a:off x="1476360" y="573264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135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бъект 2"/>
          <p:cNvSpPr/>
          <p:nvPr/>
        </p:nvSpPr>
        <p:spPr>
          <a:xfrm>
            <a:off x="3995640" y="981000"/>
            <a:ext cx="4781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угол АВС (в градуса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1E41-19F8-432C-BDA1-9AD733E1665D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3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22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123" name="Управляющая кнопка: далее 2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Прямая соединительная линия 10"/>
          <p:cNvSpPr/>
          <p:nvPr/>
        </p:nvSpPr>
        <p:spPr>
          <a:xfrm flipV="1">
            <a:off x="1979640" y="1197000"/>
            <a:ext cx="1368360" cy="1440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1"/>
          <p:cNvSpPr/>
          <p:nvPr/>
        </p:nvSpPr>
        <p:spPr>
          <a:xfrm>
            <a:off x="611280" y="2637000"/>
            <a:ext cx="1368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бъект 2"/>
          <p:cNvSpPr/>
          <p:nvPr/>
        </p:nvSpPr>
        <p:spPr>
          <a:xfrm>
            <a:off x="1619280" y="2060640"/>
            <a:ext cx="606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бъект 2"/>
          <p:cNvSpPr/>
          <p:nvPr/>
        </p:nvSpPr>
        <p:spPr>
          <a:xfrm>
            <a:off x="2700360" y="836640"/>
            <a:ext cx="51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бъект 2"/>
          <p:cNvSpPr/>
          <p:nvPr/>
        </p:nvSpPr>
        <p:spPr>
          <a:xfrm>
            <a:off x="468360" y="2060640"/>
            <a:ext cx="493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5"/>
          <p:cNvSpPr/>
          <p:nvPr/>
        </p:nvSpPr>
        <p:spPr>
          <a:xfrm flipV="1">
            <a:off x="3059280" y="1341000"/>
            <a:ext cx="0" cy="129564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6"/>
          <p:cNvSpPr/>
          <p:nvPr/>
        </p:nvSpPr>
        <p:spPr>
          <a:xfrm>
            <a:off x="2843280" y="2421000"/>
            <a:ext cx="216000" cy="216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2844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24"/>
          <p:cNvSpPr/>
          <p:nvPr/>
        </p:nvSpPr>
        <p:spPr>
          <a:xfrm>
            <a:off x="1979640" y="2637000"/>
            <a:ext cx="1712880" cy="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бъект 2"/>
          <p:cNvSpPr/>
          <p:nvPr/>
        </p:nvSpPr>
        <p:spPr>
          <a:xfrm>
            <a:off x="468360" y="2708280"/>
            <a:ext cx="835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из произвольной точки луча ВС перпендикуляр к прямой А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сечения с 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бъект 2"/>
          <p:cNvSpPr/>
          <p:nvPr/>
        </p:nvSpPr>
        <p:spPr>
          <a:xfrm>
            <a:off x="3059280" y="2060640"/>
            <a:ext cx="606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бъект 2"/>
          <p:cNvSpPr/>
          <p:nvPr/>
        </p:nvSpPr>
        <p:spPr>
          <a:xfrm>
            <a:off x="468360" y="3429000"/>
            <a:ext cx="83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прямоугольный равнобедренный треугольн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бъект 2"/>
          <p:cNvSpPr/>
          <p:nvPr/>
        </p:nvSpPr>
        <p:spPr>
          <a:xfrm>
            <a:off x="395280" y="3860640"/>
            <a:ext cx="577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бъект 2"/>
          <p:cNvSpPr/>
          <p:nvPr/>
        </p:nvSpPr>
        <p:spPr>
          <a:xfrm>
            <a:off x="900000" y="3860640"/>
            <a:ext cx="194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∠В=4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mbria Math"/>
              </a:rPr>
              <a:t>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бъект 2"/>
          <p:cNvSpPr/>
          <p:nvPr/>
        </p:nvSpPr>
        <p:spPr>
          <a:xfrm>
            <a:off x="2771640" y="3860640"/>
            <a:ext cx="60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йству острых углов прямоуголь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бъект 2"/>
          <p:cNvSpPr/>
          <p:nvPr/>
        </p:nvSpPr>
        <p:spPr>
          <a:xfrm>
            <a:off x="395280" y="4581360"/>
            <a:ext cx="4753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как смежны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бъект 2"/>
          <p:cNvSpPr/>
          <p:nvPr/>
        </p:nvSpPr>
        <p:spPr>
          <a:xfrm>
            <a:off x="5148360" y="4581360"/>
            <a:ext cx="577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бъект 2"/>
          <p:cNvSpPr/>
          <p:nvPr/>
        </p:nvSpPr>
        <p:spPr>
          <a:xfrm>
            <a:off x="468360" y="5013360"/>
            <a:ext cx="4751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35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143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0721-BD96-4D7E-B3E0-11C7D581C7C6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ятиугольник 4"/>
          <p:cNvSpPr/>
          <p:nvPr/>
        </p:nvSpPr>
        <p:spPr>
          <a:xfrm>
            <a:off x="468360" y="981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равнобедренном треугольнике углы при основании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ятиугольник 5"/>
          <p:cNvSpPr/>
          <p:nvPr/>
        </p:nvSpPr>
        <p:spPr>
          <a:xfrm>
            <a:off x="755640" y="2205000"/>
            <a:ext cx="7058160" cy="107964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 острых углов прямоугольного треугольника равна 9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ежными углами называются углы, у которых есть общая сторона, а две другие являются дополнительными луч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149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Пятиугольник 10"/>
          <p:cNvSpPr/>
          <p:nvPr/>
        </p:nvSpPr>
        <p:spPr>
          <a:xfrm>
            <a:off x="1403280" y="4653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 смежных углов равна 18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втор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бъект 2"/>
          <p:cNvSpPr/>
          <p:nvPr/>
        </p:nvSpPr>
        <p:spPr>
          <a:xfrm>
            <a:off x="1476360" y="573264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 0,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бъект 2"/>
          <p:cNvSpPr/>
          <p:nvPr/>
        </p:nvSpPr>
        <p:spPr>
          <a:xfrm>
            <a:off x="4427640" y="981000"/>
            <a:ext cx="43495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синус угла В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B118-C5F2-4A00-87AB-2FB51676E7AA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"/>
          <p:cNvPicPr/>
          <p:nvPr/>
        </p:nvPicPr>
        <p:blipFill>
          <a:blip r:embed="rId3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59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160" name="Управляющая кнопка: далее 2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Прямоугольный треугольник 10"/>
          <p:cNvSpPr/>
          <p:nvPr/>
        </p:nvSpPr>
        <p:spPr>
          <a:xfrm flipH="1">
            <a:off x="755640" y="1268280"/>
            <a:ext cx="1944720" cy="1152720"/>
          </a:xfrm>
          <a:prstGeom prst="rtTriangl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бъект 2"/>
          <p:cNvSpPr/>
          <p:nvPr/>
        </p:nvSpPr>
        <p:spPr>
          <a:xfrm>
            <a:off x="2771640" y="1916280"/>
            <a:ext cx="606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бъект 2"/>
          <p:cNvSpPr/>
          <p:nvPr/>
        </p:nvSpPr>
        <p:spPr>
          <a:xfrm>
            <a:off x="395280" y="1916280"/>
            <a:ext cx="517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бъект 2"/>
          <p:cNvSpPr/>
          <p:nvPr/>
        </p:nvSpPr>
        <p:spPr>
          <a:xfrm>
            <a:off x="2700360" y="836640"/>
            <a:ext cx="493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2484360" y="2205000"/>
            <a:ext cx="216000" cy="216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бъект 2"/>
          <p:cNvSpPr/>
          <p:nvPr/>
        </p:nvSpPr>
        <p:spPr>
          <a:xfrm>
            <a:off x="1619280" y="1916280"/>
            <a:ext cx="517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бъект 2"/>
          <p:cNvSpPr/>
          <p:nvPr/>
        </p:nvSpPr>
        <p:spPr>
          <a:xfrm>
            <a:off x="2627280" y="1413000"/>
            <a:ext cx="51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Дуга 22"/>
          <p:cNvSpPr/>
          <p:nvPr/>
        </p:nvSpPr>
        <p:spPr>
          <a:xfrm rot="4788600">
            <a:off x="2413440" y="1188000"/>
            <a:ext cx="434880" cy="366480"/>
          </a:xfrm>
          <a:custGeom>
            <a:avLst/>
            <a:gdLst/>
            <a:ahLst/>
            <a:rect l="l" t="t" r="r" b="b"/>
            <a:pathLst>
              <a:path stroke="0" w="434975" h="366713">
                <a:moveTo>
                  <a:pt x="430501" y="146359"/>
                </a:moveTo>
                <a:cubicBezTo>
                  <a:pt x="444178" y="202328"/>
                  <a:pt x="426121" y="260473"/>
                  <a:pt x="381666" y="303611"/>
                </a:cubicBezTo>
                <a:cubicBezTo>
                  <a:pt x="345980" y="338240"/>
                  <a:pt x="296193" y="360334"/>
                  <a:pt x="242132" y="365532"/>
                </a:cubicBezTo>
                <a:lnTo>
                  <a:pt x="217488" y="183357"/>
                </a:lnTo>
                <a:lnTo>
                  <a:pt x="430501" y="146359"/>
                </a:lnTo>
                <a:close/>
              </a:path>
              <a:path fill="none" w="434975" h="366713">
                <a:moveTo>
                  <a:pt x="430501" y="146359"/>
                </a:moveTo>
                <a:cubicBezTo>
                  <a:pt x="444178" y="202328"/>
                  <a:pt x="426121" y="260473"/>
                  <a:pt x="381666" y="303611"/>
                </a:cubicBezTo>
                <a:cubicBezTo>
                  <a:pt x="345980" y="338240"/>
                  <a:pt x="296193" y="360334"/>
                  <a:pt x="242132" y="365532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Прямая со стрелкой 24"/>
          <p:cNvCxnSpPr/>
          <p:nvPr/>
        </p:nvCxnSpPr>
        <p:spPr>
          <a:xfrm flipH="1">
            <a:off x="2626920" y="1197000"/>
            <a:ext cx="1729440" cy="2880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611280" y="2708280"/>
                <a:ext cx="19476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Объект 2"/>
          <p:cNvSpPr/>
          <p:nvPr/>
        </p:nvSpPr>
        <p:spPr>
          <a:xfrm>
            <a:off x="539640" y="3573360"/>
            <a:ext cx="446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ореме Пифагора 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∆АВС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611280" y="4076640"/>
                <a:ext cx="4549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11280" y="4724280"/>
                <a:ext cx="2342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BB7C-309D-4B81-957D-F12863944418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ятиугольник 5"/>
          <p:cNvSpPr/>
          <p:nvPr/>
        </p:nvSpPr>
        <p:spPr>
          <a:xfrm>
            <a:off x="755640" y="1773360"/>
            <a:ext cx="7058160" cy="107928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нусом острого угла прямоугольного треугольника называется отношение противолежащего катета к гипотену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181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1042920" y="212760"/>
            <a:ext cx="7131240" cy="8604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ая соединительная линия 4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ятиугольник 5">
            <a:hlinkClick r:id="" action="ppaction://hlinkshowjump?jump=nextslide"/>
          </p:cNvPr>
          <p:cNvSpPr/>
          <p:nvPr/>
        </p:nvSpPr>
        <p:spPr>
          <a:xfrm>
            <a:off x="5580000" y="1916280"/>
            <a:ext cx="3024360" cy="57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2" y="0"/>
                </a:lnTo>
                <a:lnTo>
                  <a:pt x="21600" y="10800"/>
                </a:lnTo>
                <a:lnTo>
                  <a:pt x="195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втор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бъект 2"/>
          <p:cNvSpPr/>
          <p:nvPr/>
        </p:nvSpPr>
        <p:spPr>
          <a:xfrm>
            <a:off x="1476360" y="5732640"/>
            <a:ext cx="302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2031"/>
                </a:solidFill>
                <a:latin typeface="Arial"/>
                <a:ea typeface="Arial"/>
              </a:rPr>
              <a:t>Ответ: 0,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бъект 2"/>
          <p:cNvSpPr/>
          <p:nvPr/>
        </p:nvSpPr>
        <p:spPr>
          <a:xfrm>
            <a:off x="4500720" y="981000"/>
            <a:ext cx="4276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косинус угла В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9"/>
          <p:cNvSpPr/>
          <p:nvPr/>
        </p:nvSpPr>
        <p:spPr>
          <a:xfrm>
            <a:off x="8028000" y="6308640"/>
            <a:ext cx="90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3EC4-6166-43CA-B5CD-1F5718D0C380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3" descr=""/>
          <p:cNvPicPr/>
          <p:nvPr/>
        </p:nvPicPr>
        <p:blipFill>
          <a:blip r:embed="rId3"/>
          <a:stretch/>
        </p:blipFill>
        <p:spPr>
          <a:xfrm>
            <a:off x="6875640" y="5013360"/>
            <a:ext cx="199368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90" name="Управляющая кнопка: далее 20"/>
          <p:cNvGrpSpPr/>
          <p:nvPr/>
        </p:nvGrpSpPr>
        <p:grpSpPr>
          <a:xfrm>
            <a:off x="8120160" y="5772240"/>
            <a:ext cx="718920" cy="689040"/>
            <a:chOff x="8120160" y="5772240"/>
            <a:chExt cx="718920" cy="689040"/>
          </a:xfrm>
        </p:grpSpPr>
        <p:pic>
          <p:nvPicPr>
            <p:cNvPr id="191" name="Управляющая кнопка: далее 2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120160" y="5772240"/>
              <a:ext cx="7189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8172360" y="5805360"/>
              <a:ext cx="60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Прямоугольный треугольник 10"/>
          <p:cNvSpPr/>
          <p:nvPr/>
        </p:nvSpPr>
        <p:spPr>
          <a:xfrm flipH="1" rot="12028800">
            <a:off x="1076760" y="1406520"/>
            <a:ext cx="2282760" cy="1434960"/>
          </a:xfrm>
          <a:prstGeom prst="rtTriangl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663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бъект 2"/>
          <p:cNvSpPr/>
          <p:nvPr/>
        </p:nvSpPr>
        <p:spPr>
          <a:xfrm>
            <a:off x="3492360" y="1413000"/>
            <a:ext cx="606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бъект 2"/>
          <p:cNvSpPr/>
          <p:nvPr/>
        </p:nvSpPr>
        <p:spPr>
          <a:xfrm>
            <a:off x="826920" y="692280"/>
            <a:ext cx="517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бъект 2"/>
          <p:cNvSpPr/>
          <p:nvPr/>
        </p:nvSpPr>
        <p:spPr>
          <a:xfrm>
            <a:off x="395280" y="1916280"/>
            <a:ext cx="493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4"/>
          <p:cNvSpPr/>
          <p:nvPr/>
        </p:nvSpPr>
        <p:spPr>
          <a:xfrm rot="1127400">
            <a:off x="1392120" y="1077480"/>
            <a:ext cx="187560" cy="165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07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Дуга 17"/>
          <p:cNvSpPr/>
          <p:nvPr/>
        </p:nvSpPr>
        <p:spPr>
          <a:xfrm rot="16804800">
            <a:off x="829440" y="2122920"/>
            <a:ext cx="434880" cy="366840"/>
          </a:xfrm>
          <a:custGeom>
            <a:avLst/>
            <a:gdLst/>
            <a:ahLst/>
            <a:rect l="l" t="t" r="r" b="b"/>
            <a:pathLst>
              <a:path stroke="0" w="434975" h="366713">
                <a:moveTo>
                  <a:pt x="404302" y="89473"/>
                </a:moveTo>
                <a:cubicBezTo>
                  <a:pt x="446057" y="148528"/>
                  <a:pt x="445118" y="222313"/>
                  <a:pt x="401869" y="280599"/>
                </a:cubicBezTo>
                <a:cubicBezTo>
                  <a:pt x="366742" y="327940"/>
                  <a:pt x="307940" y="359205"/>
                  <a:pt x="242132" y="365533"/>
                </a:cubicBezTo>
                <a:lnTo>
                  <a:pt x="217488" y="183357"/>
                </a:lnTo>
                <a:lnTo>
                  <a:pt x="404302" y="89473"/>
                </a:lnTo>
                <a:close/>
              </a:path>
              <a:path fill="none" w="434975" h="366713">
                <a:moveTo>
                  <a:pt x="404302" y="89473"/>
                </a:moveTo>
                <a:cubicBezTo>
                  <a:pt x="446057" y="148528"/>
                  <a:pt x="445118" y="222313"/>
                  <a:pt x="401869" y="280599"/>
                </a:cubicBezTo>
                <a:cubicBezTo>
                  <a:pt x="366742" y="327940"/>
                  <a:pt x="307940" y="359205"/>
                  <a:pt x="242132" y="365533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Прямая со стрелкой 18"/>
          <p:cNvCxnSpPr/>
          <p:nvPr/>
        </p:nvCxnSpPr>
        <p:spPr>
          <a:xfrm flipH="1">
            <a:off x="1042200" y="1197000"/>
            <a:ext cx="3313800" cy="100872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2252520" y="996840"/>
                <a:ext cx="800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706320" y="1268280"/>
                <a:ext cx="5763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6"/>
              <p:cNvSpPr txBox="1"/>
              <p:nvPr/>
            </p:nvSpPr>
            <p:spPr>
              <a:xfrm>
                <a:off x="584280" y="2708280"/>
                <a:ext cx="20016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Объект 2"/>
          <p:cNvSpPr/>
          <p:nvPr/>
        </p:nvSpPr>
        <p:spPr>
          <a:xfrm>
            <a:off x="539640" y="3573360"/>
            <a:ext cx="446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ореме Пифагора 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∆АВС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539640" y="4005360"/>
                <a:ext cx="6824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611280" y="4653000"/>
                <a:ext cx="32907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AC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396720" y="96840"/>
            <a:ext cx="8350560" cy="1073160"/>
          </a:xfrm>
          <a:prstGeom prst="rect">
            <a:avLst/>
          </a:prstGeom>
          <a:ln w="0">
            <a:noFill/>
          </a:ln>
        </p:spPr>
      </p:pic>
      <p:sp>
        <p:nvSpPr>
          <p:cNvPr id="207" name="Номер слайда 3"/>
          <p:cNvSpPr/>
          <p:nvPr/>
        </p:nvSpPr>
        <p:spPr>
          <a:xfrm>
            <a:off x="8101080" y="6308640"/>
            <a:ext cx="84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8DE3-B191-4AB1-9913-018E22F2131A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ятиугольник 5"/>
          <p:cNvSpPr/>
          <p:nvPr/>
        </p:nvSpPr>
        <p:spPr>
          <a:xfrm>
            <a:off x="755640" y="1773360"/>
            <a:ext cx="7058160" cy="1079280"/>
          </a:xfrm>
          <a:custGeom>
            <a:avLst/>
            <a:gdLst>
              <a:gd name="textAreaLeft" fmla="*/ 0 w 7058160"/>
              <a:gd name="textAreaRight" fmla="*/ 7058520 w 70581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8" y="0"/>
                </a:lnTo>
                <a:lnTo>
                  <a:pt x="21600" y="10800"/>
                </a:lnTo>
                <a:lnTo>
                  <a:pt x="199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синусом острого угла прямоугольного треугольника называется отношение прилежащего катета к гипотену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ятиугольник 7"/>
          <p:cNvSpPr/>
          <p:nvPr/>
        </p:nvSpPr>
        <p:spPr>
          <a:xfrm>
            <a:off x="1042920" y="3429000"/>
            <a:ext cx="7056360" cy="10810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45" y="0"/>
                </a:lnTo>
                <a:lnTo>
                  <a:pt x="21600" y="10800"/>
                </a:lnTo>
                <a:lnTo>
                  <a:pt x="199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Управляющая кнопка: далее 9"/>
          <p:cNvGrpSpPr/>
          <p:nvPr/>
        </p:nvGrpSpPr>
        <p:grpSpPr>
          <a:xfrm>
            <a:off x="7827840" y="5846760"/>
            <a:ext cx="792360" cy="687240"/>
            <a:chOff x="7827840" y="5846760"/>
            <a:chExt cx="792360" cy="687240"/>
          </a:xfrm>
        </p:grpSpPr>
        <p:pic>
          <p:nvPicPr>
            <p:cNvPr id="212" name="Управляющая кнопка: далее 9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827840" y="5846760"/>
              <a:ext cx="7923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885080" y="5877000"/>
              <a:ext cx="682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3:19Z</dcterms:created>
  <dc:creator>Comp</dc:creator>
  <dc:description/>
  <dc:language>en-US</dc:language>
  <cp:lastModifiedBy>поиск</cp:lastModifiedBy>
  <dcterms:modified xsi:type="dcterms:W3CDTF">2015-03-11T19:25:59Z</dcterms:modified>
  <cp:revision>26</cp:revision>
  <dc:subject/>
  <dc:title>Слайд 1</dc:title>
</cp:coreProperties>
</file>