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E1D799-60A5-4A06-81BC-6E926F573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FFCD5C-E58A-4DDD-8CCD-F04F4ADDA78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098-4DED-4716-A7AF-09BEF73A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703-9F0A-4DAB-BFD4-3489E27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1C4-33E0-4FB5-BB94-1AFBCF4D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2D8-FBF9-4D4C-A1E4-C51B8B00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E0-9752-4B2C-9EB5-C3D90FEB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CB3-984A-4432-A76D-D5F3B65C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52-9E32-4A6F-97F9-DA27331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298-4858-4102-9C73-437464E3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650-2E1E-4D54-AC8E-CCC6FA5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D39-691A-4346-8825-AAD61389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628-5A40-4C38-8C8C-C933715B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C00-F491-4D88-B15F-BCC15A1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2C4649-B891-4DBA-A685-816F267EBF2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23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6.jpeg"/><Relationship Id="rId6" Type="http://schemas.openxmlformats.org/officeDocument/2006/relationships/image" Target="../media/image19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3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flipH="1" rot="5400000">
            <a:off x="919800" y="1581120"/>
            <a:ext cx="2327760" cy="302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Администратор\Рабочий стол\9 010.jpg"/>
          <p:cNvPicPr/>
          <p:nvPr/>
        </p:nvPicPr>
        <p:blipFill>
          <a:blip r:embed="rId2"/>
          <a:srcRect l="0" t="-380" r="0" b="0"/>
          <a:stretch/>
        </p:blipFill>
        <p:spPr>
          <a:xfrm rot="16200000">
            <a:off x="6321960" y="893160"/>
            <a:ext cx="2257200" cy="3328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9 010.jpg"/>
          <p:cNvPicPr/>
          <p:nvPr/>
        </p:nvPicPr>
        <p:blipFill>
          <a:blip r:embed="rId3"/>
          <a:srcRect l="0" t="-380" r="0" b="0"/>
          <a:stretch/>
        </p:blipFill>
        <p:spPr>
          <a:xfrm rot="16200000">
            <a:off x="5464800" y="3036240"/>
            <a:ext cx="2257200" cy="33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3342240" y="1087200"/>
            <a:ext cx="2602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306840" y="8373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3350160" y="107892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181440" y="360468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2994120" y="386424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4937040" y="413532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214920" y="1071720"/>
            <a:ext cx="2914200" cy="2142720"/>
          </a:xfrm>
          <a:prstGeom prst="rect">
            <a:avLst/>
          </a:prstGeom>
          <a:ln w="9525">
            <a:noFill/>
          </a:ln>
        </p:spPr>
      </p:pic>
      <p:pic>
        <p:nvPicPr>
          <p:cNvPr id="101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929280" y="3500280"/>
            <a:ext cx="1978920" cy="276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rot="16200000">
            <a:off x="3481200" y="1234080"/>
            <a:ext cx="26100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21400" y="31233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922080" y="9360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824400" y="33192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3279960" y="12211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3636360" y="329328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484bc7c8a093.png"/>
          <p:cNvPicPr/>
          <p:nvPr/>
        </p:nvPicPr>
        <p:blipFill>
          <a:blip r:embed="rId6"/>
          <a:stretch/>
        </p:blipFill>
        <p:spPr>
          <a:xfrm>
            <a:off x="4929120" y="500040"/>
            <a:ext cx="1978920" cy="276840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360" y="1000080"/>
            <a:ext cx="2914200" cy="214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Администратор\Рабочий стол\9 011.jpg"/>
          <p:cNvPicPr/>
          <p:nvPr/>
        </p:nvPicPr>
        <p:blipFill>
          <a:blip r:embed="rId1"/>
          <a:stretch/>
        </p:blipFill>
        <p:spPr>
          <a:xfrm rot="16200000">
            <a:off x="2796840" y="1346760"/>
            <a:ext cx="3565800" cy="33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Администратор\Рабочий стол\9 026.jpg"/>
          <p:cNvPicPr/>
          <p:nvPr/>
        </p:nvPicPr>
        <p:blipFill>
          <a:blip r:embed="rId1"/>
          <a:stretch/>
        </p:blipFill>
        <p:spPr>
          <a:xfrm rot="16200000">
            <a:off x="6433200" y="3354120"/>
            <a:ext cx="2492280" cy="292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Администратор\Рабочий стол\9 013.jpg"/>
          <p:cNvPicPr/>
          <p:nvPr/>
        </p:nvPicPr>
        <p:blipFill>
          <a:blip r:embed="rId2"/>
          <a:stretch/>
        </p:blipFill>
        <p:spPr>
          <a:xfrm rot="16200000">
            <a:off x="734760" y="265680"/>
            <a:ext cx="2244960" cy="314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Администратор\Рабочий стол\9 020.jpg"/>
          <p:cNvPicPr/>
          <p:nvPr/>
        </p:nvPicPr>
        <p:blipFill>
          <a:blip r:embed="rId3"/>
          <a:stretch/>
        </p:blipFill>
        <p:spPr>
          <a:xfrm rot="16200000">
            <a:off x="435024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706608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2793600" y="406404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399348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360" y="3500280"/>
            <a:ext cx="2914200" cy="214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484bc7c8a093.png"/>
          <p:cNvPicPr/>
          <p:nvPr/>
        </p:nvPicPr>
        <p:blipFill>
          <a:blip r:embed="rId1"/>
          <a:stretch/>
        </p:blipFill>
        <p:spPr>
          <a:xfrm>
            <a:off x="3143160" y="857160"/>
            <a:ext cx="3407760" cy="446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72160" y="30960"/>
            <a:ext cx="2142720" cy="29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27828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4137120" y="7207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5008320" y="406404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2922120" y="357912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500400" y="785880"/>
            <a:ext cx="2557080" cy="1880280"/>
          </a:xfrm>
          <a:prstGeom prst="rect">
            <a:avLst/>
          </a:prstGeom>
          <a:ln w="9525">
            <a:noFill/>
          </a:ln>
        </p:spPr>
      </p:pic>
      <p:pic>
        <p:nvPicPr>
          <p:cNvPr id="125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553440" y="2928960"/>
            <a:ext cx="2590200" cy="3395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Администратор\Рабочий стол\9 026.jpg"/>
          <p:cNvPicPr/>
          <p:nvPr/>
        </p:nvPicPr>
        <p:blipFill>
          <a:blip r:embed="rId1"/>
          <a:stretch/>
        </p:blipFill>
        <p:spPr>
          <a:xfrm rot="16200000">
            <a:off x="2870280" y="1130400"/>
            <a:ext cx="3412080" cy="40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4520880" y="5515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850440" y="79308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218880" y="3425040"/>
            <a:ext cx="2499840" cy="293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5787000" y="3857760"/>
            <a:ext cx="3042720" cy="2237400"/>
          </a:xfrm>
          <a:prstGeom prst="rect">
            <a:avLst/>
          </a:prstGeom>
          <a:ln w="9525">
            <a:noFill/>
          </a:ln>
        </p:spPr>
      </p:pic>
      <p:pic>
        <p:nvPicPr>
          <p:cNvPr id="133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3143160" y="3000240"/>
            <a:ext cx="2478960" cy="346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956880" y="1257840"/>
            <a:ext cx="1928520" cy="327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Администратор\Рабочий стол\9 028.jpg"/>
          <p:cNvPicPr/>
          <p:nvPr/>
        </p:nvPicPr>
        <p:blipFill>
          <a:blip r:embed="rId2"/>
          <a:stretch/>
        </p:blipFill>
        <p:spPr>
          <a:xfrm flipH="1" rot="5400000">
            <a:off x="7137360" y="114948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6351480" y="-2073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5637240" y="250668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Администратор\Рабочий стол\9 028.jpg"/>
          <p:cNvPicPr/>
          <p:nvPr/>
        </p:nvPicPr>
        <p:blipFill>
          <a:blip r:embed="rId5"/>
          <a:stretch/>
        </p:blipFill>
        <p:spPr>
          <a:xfrm flipH="1" rot="5400000">
            <a:off x="7137360" y="3792600"/>
            <a:ext cx="12542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flipH="1" rot="5400000">
            <a:off x="3359880" y="640800"/>
            <a:ext cx="27280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6521400" y="3373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Администратор\Рабочий стол\9 026.jpg"/>
          <p:cNvPicPr/>
          <p:nvPr/>
        </p:nvPicPr>
        <p:blipFill>
          <a:blip r:embed="rId2"/>
          <a:stretch/>
        </p:blipFill>
        <p:spPr>
          <a:xfrm rot="16200000">
            <a:off x="181440" y="346212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3994200" y="86364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5151240" y="413532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850320" y="72144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2358000" y="3786120"/>
            <a:ext cx="2557080" cy="1880280"/>
          </a:xfrm>
          <a:prstGeom prst="rect">
            <a:avLst/>
          </a:prstGeom>
          <a:ln w="9525">
            <a:noFill/>
          </a:ln>
        </p:spPr>
      </p:pic>
      <p:pic>
        <p:nvPicPr>
          <p:cNvPr id="141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6929280" y="3000240"/>
            <a:ext cx="183600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2706120" y="1365840"/>
            <a:ext cx="38736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Администратор\Рабочий стол\61326498.jpg"/>
          <p:cNvPicPr/>
          <p:nvPr/>
        </p:nvPicPr>
        <p:blipFill>
          <a:blip r:embed="rId1"/>
          <a:stretch/>
        </p:blipFill>
        <p:spPr>
          <a:xfrm>
            <a:off x="-252360" y="-459360"/>
            <a:ext cx="91436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Администратор\Рабочий стол\47267681_212440_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flipH="1" rot="5400000">
            <a:off x="223560" y="1634040"/>
            <a:ext cx="2728440" cy="231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4927680" y="2288160"/>
            <a:ext cx="1871280" cy="172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Администратор\Рабочий стол\9 020.jpg"/>
          <p:cNvPicPr/>
          <p:nvPr/>
        </p:nvPicPr>
        <p:blipFill>
          <a:blip r:embed="rId3"/>
          <a:stretch/>
        </p:blipFill>
        <p:spPr>
          <a:xfrm rot="16200000">
            <a:off x="5779080" y="457956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Администратор\Рабочий стол\9 020.jpg"/>
          <p:cNvPicPr/>
          <p:nvPr/>
        </p:nvPicPr>
        <p:blipFill>
          <a:blip r:embed="rId4"/>
          <a:stretch/>
        </p:blipFill>
        <p:spPr>
          <a:xfrm rot="16200000">
            <a:off x="7144920" y="2856600"/>
            <a:ext cx="1800000" cy="165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инистратор\Рабочий стол\9 020.jpg"/>
          <p:cNvPicPr/>
          <p:nvPr/>
        </p:nvPicPr>
        <p:blipFill>
          <a:blip r:embed="rId5"/>
          <a:stretch/>
        </p:blipFill>
        <p:spPr>
          <a:xfrm rot="16200000">
            <a:off x="6714000" y="501120"/>
            <a:ext cx="1859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500040" y="1357200"/>
            <a:ext cx="2571480" cy="299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7143840" y="314352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Администратор\Рабочий стол\9 024.jpg"/>
          <p:cNvPicPr/>
          <p:nvPr/>
        </p:nvPicPr>
        <p:blipFill>
          <a:blip r:embed="rId3"/>
          <a:stretch/>
        </p:blipFill>
        <p:spPr>
          <a:xfrm rot="16200000">
            <a:off x="5143680" y="385812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Администратор\Рабочий стол\9 024.jpg"/>
          <p:cNvPicPr/>
          <p:nvPr/>
        </p:nvPicPr>
        <p:blipFill>
          <a:blip r:embed="rId4"/>
          <a:stretch/>
        </p:blipFill>
        <p:spPr>
          <a:xfrm flipH="1" rot="5400000">
            <a:off x="5036760" y="1893600"/>
            <a:ext cx="1499760" cy="21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Администратор\Рабочий стол\9 024.jpg"/>
          <p:cNvPicPr/>
          <p:nvPr/>
        </p:nvPicPr>
        <p:blipFill>
          <a:blip r:embed="rId5"/>
          <a:stretch/>
        </p:blipFill>
        <p:spPr>
          <a:xfrm rot="16200000">
            <a:off x="7358040" y="150048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Администратор\Рабочий стол\9 024.jpg"/>
          <p:cNvPicPr/>
          <p:nvPr/>
        </p:nvPicPr>
        <p:blipFill>
          <a:blip r:embed="rId6"/>
          <a:stretch/>
        </p:blipFill>
        <p:spPr>
          <a:xfrm rot="16200000">
            <a:off x="5929560" y="360"/>
            <a:ext cx="1499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8000"/>
            <a:ext cx="9143640" cy="365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животного не стало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4520880" y="55152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4921920" y="372204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181440" y="35334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720900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D:\torrents_PHOTOS\животные(2)\животные\OS21103.JPG"/>
          <p:cNvPicPr/>
          <p:nvPr/>
        </p:nvPicPr>
        <p:blipFill>
          <a:blip r:embed="rId7"/>
          <a:stretch/>
        </p:blipFill>
        <p:spPr>
          <a:xfrm flipH="1">
            <a:off x="2357640" y="3929040"/>
            <a:ext cx="2428560" cy="1785600"/>
          </a:xfrm>
          <a:prstGeom prst="rect">
            <a:avLst/>
          </a:prstGeom>
          <a:ln w="9525">
            <a:noFill/>
          </a:ln>
        </p:spPr>
      </p:pic>
      <p:pic>
        <p:nvPicPr>
          <p:cNvPr id="78" name="Содержимое 3" descr="484bc7c8a093.png"/>
          <p:cNvPicPr/>
          <p:nvPr/>
        </p:nvPicPr>
        <p:blipFill>
          <a:blip r:embed="rId8"/>
          <a:stretch/>
        </p:blipFill>
        <p:spPr>
          <a:xfrm>
            <a:off x="7072200" y="3214800"/>
            <a:ext cx="183600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rot="16200000">
            <a:off x="1949400" y="623160"/>
            <a:ext cx="1887480" cy="264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rot="16200000">
            <a:off x="6922080" y="9360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Администратор\Рабочий стол\9 026.jpg"/>
          <p:cNvPicPr/>
          <p:nvPr/>
        </p:nvPicPr>
        <p:blipFill>
          <a:blip r:embed="rId3"/>
          <a:stretch/>
        </p:blipFill>
        <p:spPr>
          <a:xfrm rot="16200000">
            <a:off x="824400" y="331920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Администратор\Рабочий стол\9 028.jpg"/>
          <p:cNvPicPr/>
          <p:nvPr/>
        </p:nvPicPr>
        <p:blipFill>
          <a:blip r:embed="rId4"/>
          <a:stretch/>
        </p:blipFill>
        <p:spPr>
          <a:xfrm flipH="1" rot="5400000">
            <a:off x="6637320" y="350712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Администратор\Рабочий стол\9 011.jpg"/>
          <p:cNvPicPr/>
          <p:nvPr/>
        </p:nvPicPr>
        <p:blipFill>
          <a:blip r:embed="rId5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Администратор\Рабочий стол\9 009.jpg"/>
          <p:cNvPicPr/>
          <p:nvPr/>
        </p:nvPicPr>
        <p:blipFill>
          <a:blip r:embed="rId6"/>
          <a:stretch/>
        </p:blipFill>
        <p:spPr>
          <a:xfrm rot="16200000">
            <a:off x="3636360" y="329328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4500720" y="443160"/>
            <a:ext cx="1978920" cy="276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torrents_PHOTOS\животные(2)\животные\OS21103.JPG"/>
          <p:cNvPicPr/>
          <p:nvPr/>
        </p:nvPicPr>
        <p:blipFill>
          <a:blip r:embed="rId1"/>
          <a:stretch/>
        </p:blipFill>
        <p:spPr>
          <a:xfrm flipH="1">
            <a:off x="2428920" y="1643040"/>
            <a:ext cx="436608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6707880" y="3936600"/>
            <a:ext cx="2014200" cy="185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Администратор\Рабочий стол\9 026.jpg"/>
          <p:cNvPicPr/>
          <p:nvPr/>
        </p:nvPicPr>
        <p:blipFill>
          <a:blip r:embed="rId2"/>
          <a:stretch/>
        </p:blipFill>
        <p:spPr>
          <a:xfrm rot="16200000">
            <a:off x="3681720" y="3676320"/>
            <a:ext cx="2074320" cy="243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Администратор\Рабочий стол\9 028.jpg"/>
          <p:cNvPicPr/>
          <p:nvPr/>
        </p:nvPicPr>
        <p:blipFill>
          <a:blip r:embed="rId3"/>
          <a:stretch/>
        </p:blipFill>
        <p:spPr>
          <a:xfrm flipH="1" rot="5400000">
            <a:off x="7209000" y="1006560"/>
            <a:ext cx="1254240" cy="224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Администратор\Рабочий стол\9 011.jpg"/>
          <p:cNvPicPr/>
          <p:nvPr/>
        </p:nvPicPr>
        <p:blipFill>
          <a:blip r:embed="rId4"/>
          <a:stretch/>
        </p:blipFill>
        <p:spPr>
          <a:xfrm rot="16200000">
            <a:off x="-63360" y="1206360"/>
            <a:ext cx="1714320" cy="1587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Администратор\Рабочий стол\9 009.jpg"/>
          <p:cNvPicPr/>
          <p:nvPr/>
        </p:nvPicPr>
        <p:blipFill>
          <a:blip r:embed="rId5"/>
          <a:stretch/>
        </p:blipFill>
        <p:spPr>
          <a:xfrm rot="16200000">
            <a:off x="1993320" y="864360"/>
            <a:ext cx="1656360" cy="235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torrents_PHOTOS\животные(2)\животные\OS21103.JPG"/>
          <p:cNvPicPr/>
          <p:nvPr/>
        </p:nvPicPr>
        <p:blipFill>
          <a:blip r:embed="rId6"/>
          <a:stretch/>
        </p:blipFill>
        <p:spPr>
          <a:xfrm flipH="1">
            <a:off x="643320" y="3857760"/>
            <a:ext cx="2428560" cy="1785600"/>
          </a:xfrm>
          <a:prstGeom prst="rect">
            <a:avLst/>
          </a:prstGeom>
          <a:ln w="9525">
            <a:noFill/>
          </a:ln>
        </p:spPr>
      </p:pic>
      <p:pic>
        <p:nvPicPr>
          <p:cNvPr id="93" name="Содержимое 3" descr="484bc7c8a093.png"/>
          <p:cNvPicPr/>
          <p:nvPr/>
        </p:nvPicPr>
        <p:blipFill>
          <a:blip r:embed="rId7"/>
          <a:stretch/>
        </p:blipFill>
        <p:spPr>
          <a:xfrm>
            <a:off x="4357800" y="785880"/>
            <a:ext cx="2050560" cy="25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85</TotalTime>
  <Application>LibreOffice/7.4.7.2$Linux_X86_64 LibreOffice_project/40$Build-2</Application>
  <AppVersion>15.0000</AppVersion>
  <Words>9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12T13:22:14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5</vt:r8>
  </property>
</Properties>
</file>