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7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17.jpeg" ContentType="image/jpeg"/>
  <Override PartName="/ppt/media/image3.png" ContentType="image/png"/>
  <Override PartName="/ppt/media/image29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12.wmf" ContentType="image/x-wmf"/>
  <Override PartName="/ppt/media/image6.jpeg" ContentType="image/jpeg"/>
  <Override PartName="/ppt/media/image13.wmf" ContentType="image/x-wmf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B26-9A47-4FB4-B804-60BDF74C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A49-66EA-48D4-BBAF-05D30563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EA1-E3D5-4FBA-A193-DBCCD972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2E0-D76A-4FB4-8FD7-2241E30F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97A-5751-4268-91D2-8B790AD2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DDB-1409-4A6D-82F5-2773922E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E03-E2D5-4BAE-9A24-7CC335B1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E3FD-33C7-4D21-BD4A-F081E12D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B67-D57C-49C2-A57C-4B6FBF71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6D4-E6AA-4A14-A16E-394E43F1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F60-C382-469F-B915-ED4DE072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8E6-EAE0-4259-8813-FA7C9055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DB17-DC7F-4946-BAD7-1C671EB3C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87280"/>
            <a:ext cx="856908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ение – вот лучшее у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06560" y="4724280"/>
            <a:ext cx="421308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угунова 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-в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ласс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стеренко С.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Её цель и результат состоят в изменении самого субъекта деятельности, - Картинка 8461/13"/>
          <p:cNvPicPr/>
          <p:nvPr/>
        </p:nvPicPr>
        <p:blipFill>
          <a:blip r:embed="rId1"/>
          <a:stretch/>
        </p:blipFill>
        <p:spPr>
          <a:xfrm>
            <a:off x="395280" y="1844640"/>
            <a:ext cx="4032360" cy="389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Её цель и результат состоят в изменении самого субъекта деятельности, - Картинка 8461/13"/>
          <p:cNvPicPr/>
          <p:nvPr/>
        </p:nvPicPr>
        <p:blipFill>
          <a:blip r:embed="rId2"/>
          <a:stretch/>
        </p:blipFill>
        <p:spPr>
          <a:xfrm>
            <a:off x="395280" y="1844640"/>
            <a:ext cx="4032360" cy="38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Величайшее сокровище -  хорошая библиотека.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.Г.Бе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597528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0150406_101854"/>
          <p:cNvPicPr/>
          <p:nvPr/>
        </p:nvPicPr>
        <p:blipFill>
          <a:blip r:embed="rId1"/>
          <a:stretch/>
        </p:blipFill>
        <p:spPr>
          <a:xfrm>
            <a:off x="250920" y="1989000"/>
            <a:ext cx="2736720" cy="4464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20150406_102550"/>
          <p:cNvPicPr/>
          <p:nvPr/>
        </p:nvPicPr>
        <p:blipFill>
          <a:blip r:embed="rId2"/>
          <a:stretch/>
        </p:blipFill>
        <p:spPr>
          <a:xfrm>
            <a:off x="3348000" y="2060640"/>
            <a:ext cx="2664000" cy="439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20150406_102527"/>
          <p:cNvPicPr/>
          <p:nvPr/>
        </p:nvPicPr>
        <p:blipFill>
          <a:blip r:embed="rId3"/>
          <a:stretch/>
        </p:blipFill>
        <p:spPr>
          <a:xfrm>
            <a:off x="6300720" y="2060640"/>
            <a:ext cx="2367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неклассное ч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589720"/>
            <a:ext cx="5770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0150406_102839"/>
          <p:cNvPicPr/>
          <p:nvPr/>
        </p:nvPicPr>
        <p:blipFill>
          <a:blip r:embed="rId1"/>
          <a:stretch/>
        </p:blipFill>
        <p:spPr>
          <a:xfrm>
            <a:off x="5148360" y="1484280"/>
            <a:ext cx="3456000" cy="468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20150406_104546"/>
          <p:cNvPicPr/>
          <p:nvPr/>
        </p:nvPicPr>
        <p:blipFill>
          <a:blip r:embed="rId2"/>
          <a:stretch/>
        </p:blipFill>
        <p:spPr>
          <a:xfrm>
            <a:off x="684360" y="1484280"/>
            <a:ext cx="331308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Театральный кружок «Волшебные кукл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5949720"/>
            <a:ext cx="8002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Мы показали сказку детям в детском саду и ученикам нашей шк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20150331_162223"/>
          <p:cNvPicPr/>
          <p:nvPr/>
        </p:nvPicPr>
        <p:blipFill>
          <a:blip r:embed="rId1"/>
          <a:stretch/>
        </p:blipFill>
        <p:spPr>
          <a:xfrm>
            <a:off x="611280" y="1268280"/>
            <a:ext cx="3095640" cy="439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20150331_162019"/>
          <p:cNvPicPr/>
          <p:nvPr/>
        </p:nvPicPr>
        <p:blipFill>
          <a:blip r:embed="rId2"/>
          <a:stretch/>
        </p:blipFill>
        <p:spPr>
          <a:xfrm>
            <a:off x="5148360" y="1341360"/>
            <a:ext cx="3097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Любите ли вы театр так, как  любим его м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5949720"/>
            <a:ext cx="86421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Театр Жар-птица                          Театр «Модерн»                      Камерный театр .ку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театр 2-в"/>
          <p:cNvPicPr/>
          <p:nvPr/>
        </p:nvPicPr>
        <p:blipFill>
          <a:blip r:embed="rId1"/>
          <a:stretch/>
        </p:blipFill>
        <p:spPr>
          <a:xfrm>
            <a:off x="250920" y="1557360"/>
            <a:ext cx="2520720" cy="431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театр Модерн 2"/>
          <p:cNvPicPr/>
          <p:nvPr/>
        </p:nvPicPr>
        <p:blipFill>
          <a:blip r:embed="rId2"/>
          <a:stretch/>
        </p:blipFill>
        <p:spPr>
          <a:xfrm>
            <a:off x="3059280" y="1557360"/>
            <a:ext cx="2766960" cy="413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театр1 (2)"/>
          <p:cNvPicPr/>
          <p:nvPr/>
        </p:nvPicPr>
        <p:blipFill>
          <a:blip r:embed="rId3"/>
          <a:stretch/>
        </p:blipFill>
        <p:spPr>
          <a:xfrm>
            <a:off x="6084720" y="1557360"/>
            <a:ext cx="25354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Конкурс «Самый талантливый читател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21080" y="4940280"/>
            <a:ext cx="32382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3" name="Picture 4" descr="IMG-20150119-WA0033"/>
          <p:cNvPicPr/>
          <p:nvPr/>
        </p:nvPicPr>
        <p:blipFill>
          <a:blip r:embed="rId1"/>
          <a:stretch/>
        </p:blipFill>
        <p:spPr>
          <a:xfrm>
            <a:off x="900000" y="1557360"/>
            <a:ext cx="3651480" cy="4869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Users\user\Desktop\1 001.jpg"/>
          <p:cNvPicPr/>
          <p:nvPr/>
        </p:nvPicPr>
        <p:blipFill>
          <a:blip r:embed="rId2"/>
          <a:stretch/>
        </p:blipFill>
        <p:spPr>
          <a:xfrm>
            <a:off x="5148360" y="1557360"/>
            <a:ext cx="3456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Конкурс «Самый талантливый читател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DSC05346"/>
          <p:cNvPicPr/>
          <p:nvPr/>
        </p:nvPicPr>
        <p:blipFill>
          <a:blip r:embed="rId1"/>
          <a:stretch/>
        </p:blipFill>
        <p:spPr>
          <a:xfrm>
            <a:off x="468360" y="1484280"/>
            <a:ext cx="8207280" cy="49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Победители школьного 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092720" y="5589720"/>
            <a:ext cx="159372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IMG-20150119-WA0063"/>
          <p:cNvPicPr/>
          <p:nvPr/>
        </p:nvPicPr>
        <p:blipFill>
          <a:blip r:embed="rId1"/>
          <a:stretch/>
        </p:blipFill>
        <p:spPr>
          <a:xfrm>
            <a:off x="2050920" y="1268280"/>
            <a:ext cx="48214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Победа в окружном конкурс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92360" y="764640"/>
            <a:ext cx="49291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1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DSC03043"/>
          <p:cNvPicPr/>
          <p:nvPr/>
        </p:nvPicPr>
        <p:blipFill>
          <a:blip r:embed="rId1"/>
          <a:stretch/>
        </p:blipFill>
        <p:spPr>
          <a:xfrm>
            <a:off x="826920" y="1528920"/>
            <a:ext cx="3673800" cy="4527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 место в окружном конкурсе"/>
          <p:cNvPicPr/>
          <p:nvPr/>
        </p:nvPicPr>
        <p:blipFill>
          <a:blip r:embed="rId2"/>
          <a:stretch/>
        </p:blipFill>
        <p:spPr>
          <a:xfrm>
            <a:off x="5435640" y="1522440"/>
            <a:ext cx="2995560" cy="45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4978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5084640"/>
            <a:ext cx="7813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итать - модно, немодно не читат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Читать - модно, немодно не читать: Интересные факты о чтении"/>
          <p:cNvPicPr/>
          <p:nvPr/>
        </p:nvPicPr>
        <p:blipFill>
          <a:blip r:embed="rId1"/>
          <a:stretch/>
        </p:blipFill>
        <p:spPr>
          <a:xfrm>
            <a:off x="1042920" y="1628640"/>
            <a:ext cx="6985080" cy="3313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684360" y="6922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646200" y="907920"/>
            <a:ext cx="84978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04292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Советы и рекомендации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6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ктивные ссылки  на использованные из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Изображение к слайду №1.http://ru.delfi.lt/misc/culture/v-rige-poyavyatsya-ezhenedelnye-detskie-chteniya-na-russkom-yazyke.d?id=5947209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Изображение к слайду №2 http://nechaevblog.ru/page/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Изображение к слайду №3 http://dailydubie.webfactional.com/images/uploads/blog/read_more_books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зображение к слайду №4 http://www.bankoboev.ru/oboi_raskrytaya_kniga_na_radostnom_fone_leta.c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Изображение к слайду №18 http://nashabiblio.blogspot.ru/2014/12/blog-post_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ение – вот лучшее у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56360" y="5805000"/>
            <a:ext cx="251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059280" y="1773360"/>
            <a:ext cx="59054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знать, какое место в жизни младших школьников занимает чтение книг, и изучить круг чтения детей. Выработать желание в регулярном посещении библиотеки, систематическом чтении. Воспитывать интерес к чтению, любовь к хорошей книге. Не бояться участвовать в конкур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дач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ить детям конкретные мероприятия для развития интереса к чт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i (1)"/>
          <p:cNvPicPr/>
          <p:nvPr/>
        </p:nvPicPr>
        <p:blipFill>
          <a:blip r:embed="rId1"/>
          <a:stretch/>
        </p:blipFill>
        <p:spPr>
          <a:xfrm>
            <a:off x="250920" y="2060640"/>
            <a:ext cx="244944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Чтение – вот лучшее у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84720" y="5445000"/>
            <a:ext cx="26020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43280" y="1125360"/>
            <a:ext cx="6049800" cy="46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ктуальность проекта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тели связывают   падение интереса к чтению с изменением информационной среды. В наше время книга перестала быть единственным источником знаний. Телевизор и компьютер заменили книгу дет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жидаемые результат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пользе книг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правилах поведения в библиотеке; о правилах обращения с книгой, о способах самостоятельного поиска, нахождения информации; обогащение познавательной деятельности; расширение кругозора детей; повышение числа читателей библиотеки; переход к самостоятельному чтению; готовность детей к усвоению нового, получение удовольствия и радости от чт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здание продукт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Как готовить домашнее зада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Books_stack"/>
          <p:cNvPicPr/>
          <p:nvPr/>
        </p:nvPicPr>
        <p:blipFill>
          <a:blip r:embed="rId1"/>
          <a:stretch/>
        </p:blipFill>
        <p:spPr>
          <a:xfrm>
            <a:off x="250920" y="1557360"/>
            <a:ext cx="2305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ето с книг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reative-flower-book"/>
          <p:cNvPicPr/>
          <p:nvPr/>
        </p:nvPicPr>
        <p:blipFill>
          <a:blip r:embed="rId1"/>
          <a:stretch/>
        </p:blipFill>
        <p:spPr>
          <a:xfrm>
            <a:off x="468360" y="2781360"/>
            <a:ext cx="5076720" cy="34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Моё читательское ле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43280" y="1197000"/>
            <a:ext cx="2233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тчё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 прочитан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20150406_115949"/>
          <p:cNvPicPr/>
          <p:nvPr/>
        </p:nvPicPr>
        <p:blipFill>
          <a:blip r:embed="rId1"/>
          <a:stretch/>
        </p:blipFill>
        <p:spPr>
          <a:xfrm>
            <a:off x="324000" y="1052640"/>
            <a:ext cx="3456000" cy="479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user\Desktop\20150407_132058.jpg"/>
          <p:cNvPicPr/>
          <p:nvPr/>
        </p:nvPicPr>
        <p:blipFill>
          <a:blip r:embed="rId2"/>
          <a:stretch/>
        </p:blipFill>
        <p:spPr>
          <a:xfrm>
            <a:off x="3780000" y="1989000"/>
            <a:ext cx="360036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Скажи, что ты читаешь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и я скажу кто ты.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                     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Луи Б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16720" y="5805360"/>
            <a:ext cx="26272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Анкетировани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0150406_103452"/>
          <p:cNvPicPr/>
          <p:nvPr/>
        </p:nvPicPr>
        <p:blipFill>
          <a:blip r:embed="rId1"/>
          <a:stretch/>
        </p:blipFill>
        <p:spPr>
          <a:xfrm>
            <a:off x="250920" y="1844640"/>
            <a:ext cx="2700360" cy="468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20150406_103817"/>
          <p:cNvPicPr/>
          <p:nvPr/>
        </p:nvPicPr>
        <p:blipFill>
          <a:blip r:embed="rId2"/>
          <a:stretch/>
        </p:blipFill>
        <p:spPr>
          <a:xfrm>
            <a:off x="3059280" y="1844640"/>
            <a:ext cx="2592360" cy="468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20150406_103617"/>
          <p:cNvPicPr/>
          <p:nvPr/>
        </p:nvPicPr>
        <p:blipFill>
          <a:blip r:embed="rId3"/>
          <a:stretch/>
        </p:blipFill>
        <p:spPr>
          <a:xfrm>
            <a:off x="5796000" y="1844640"/>
            <a:ext cx="295272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Для чего нужно чи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03640" y="333000"/>
            <a:ext cx="3889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колько книг вы прочитали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 3 четвер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3492360" y="1557360"/>
          <a:ext cx="565164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56516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6"/>
          <p:cNvGraphicFramePr/>
          <p:nvPr/>
        </p:nvGraphicFramePr>
        <p:xfrm>
          <a:off x="0" y="1628640"/>
          <a:ext cx="3419640" cy="38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628640"/>
                    <a:ext cx="34196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788000" y="27432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акие книги вы люби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аких писателей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4643280" y="1125360"/>
          <a:ext cx="450072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125360"/>
                    <a:ext cx="450072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6"/>
          <p:cNvGraphicFramePr/>
          <p:nvPr/>
        </p:nvGraphicFramePr>
        <p:xfrm>
          <a:off x="0" y="1268280"/>
          <a:ext cx="4643280" cy="482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68280"/>
                    <a:ext cx="464328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3240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Любите ли вы читать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0" y="333000"/>
            <a:ext cx="4427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то советует вам в выборе книг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6"/>
          <p:cNvGraphicFramePr/>
          <p:nvPr/>
        </p:nvGraphicFramePr>
        <p:xfrm>
          <a:off x="4427640" y="981000"/>
          <a:ext cx="439236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981000"/>
                    <a:ext cx="439236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0"/>
          <p:cNvGraphicFramePr/>
          <p:nvPr/>
        </p:nvGraphicFramePr>
        <p:xfrm>
          <a:off x="324000" y="1125360"/>
          <a:ext cx="3887640" cy="475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125360"/>
                    <a:ext cx="388764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19:07:08Z</dcterms:created>
  <dc:creator>23-16</dc:creator>
  <dc:description/>
  <dc:language>en-US</dc:language>
  <cp:lastModifiedBy>23-16</cp:lastModifiedBy>
  <dcterms:modified xsi:type="dcterms:W3CDTF">2015-05-12T17:25:13Z</dcterms:modified>
  <cp:revision>24</cp:revision>
  <dc:subject/>
  <dc:title>Слайд 1</dc:title>
</cp:coreProperties>
</file>