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12.wmf" ContentType="image/x-wmf"/>
  <Override PartName="/ppt/media/image6.jpeg" ContentType="image/jpeg"/>
  <Override PartName="/ppt/media/image13.wmf" ContentType="image/x-wmf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348-17BC-4C32-A8C5-BBB4A226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AF9-F4A4-4ED9-8302-95485FFE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A9D-FA3D-40DD-B20B-71599982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DEF-40E1-423B-B165-BD2D6F0F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493-5883-49E1-8132-1731E4C2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00A-86C5-4934-B0F4-EFC584BB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CCD-D2BD-43DD-8DC6-1A68BF30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5AF-FB3C-426D-A8A9-FF639DD5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38A-7236-4F44-A936-DDD1C6F5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9DA-7D5E-4C44-848F-B57B5D9D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B85-4EDF-4716-8BE9-1C2C0D86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3BB-546D-4B9C-9634-6D22B10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81F2-8BEC-4CAA-B9F6-B206E0FCA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87280"/>
            <a:ext cx="85690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ение – вот лучшее у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06560" y="4724280"/>
            <a:ext cx="42130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угунова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-в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стеренко С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Её цель и результат состоят в изменении самого субъекта деятельности, - Картинка 8461/13"/>
          <p:cNvPicPr/>
          <p:nvPr/>
        </p:nvPicPr>
        <p:blipFill>
          <a:blip r:embed="rId1"/>
          <a:stretch/>
        </p:blipFill>
        <p:spPr>
          <a:xfrm>
            <a:off x="395280" y="1844640"/>
            <a:ext cx="4032360" cy="389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Её цель и результат состоят в изменении самого субъекта деятельности, - Картинка 8461/13"/>
          <p:cNvPicPr/>
          <p:nvPr/>
        </p:nvPicPr>
        <p:blipFill>
          <a:blip r:embed="rId2"/>
          <a:stretch/>
        </p:blipFill>
        <p:spPr>
          <a:xfrm>
            <a:off x="395280" y="1844640"/>
            <a:ext cx="403236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Величайшее сокровище -  хорошая библиотека.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   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.Г.Бе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597528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150406_101854"/>
          <p:cNvPicPr/>
          <p:nvPr/>
        </p:nvPicPr>
        <p:blipFill>
          <a:blip r:embed="rId1"/>
          <a:stretch/>
        </p:blipFill>
        <p:spPr>
          <a:xfrm>
            <a:off x="250920" y="1989000"/>
            <a:ext cx="2736720" cy="446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20150406_102550"/>
          <p:cNvPicPr/>
          <p:nvPr/>
        </p:nvPicPr>
        <p:blipFill>
          <a:blip r:embed="rId2"/>
          <a:stretch/>
        </p:blipFill>
        <p:spPr>
          <a:xfrm>
            <a:off x="3348000" y="2060640"/>
            <a:ext cx="2664000" cy="439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20150406_102527"/>
          <p:cNvPicPr/>
          <p:nvPr/>
        </p:nvPicPr>
        <p:blipFill>
          <a:blip r:embed="rId3"/>
          <a:stretch/>
        </p:blipFill>
        <p:spPr>
          <a:xfrm>
            <a:off x="6300720" y="2060640"/>
            <a:ext cx="2367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неклассно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589720"/>
            <a:ext cx="5770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0150406_102839"/>
          <p:cNvPicPr/>
          <p:nvPr/>
        </p:nvPicPr>
        <p:blipFill>
          <a:blip r:embed="rId1"/>
          <a:stretch/>
        </p:blipFill>
        <p:spPr>
          <a:xfrm>
            <a:off x="5148360" y="1484280"/>
            <a:ext cx="3456000" cy="468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0150406_104546"/>
          <p:cNvPicPr/>
          <p:nvPr/>
        </p:nvPicPr>
        <p:blipFill>
          <a:blip r:embed="rId2"/>
          <a:stretch/>
        </p:blipFill>
        <p:spPr>
          <a:xfrm>
            <a:off x="684360" y="1484280"/>
            <a:ext cx="331308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атральный кружок «Волшебные кукл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5949720"/>
            <a:ext cx="8002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Мы показали сказку детям в детском саду и ученикам нашей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20150331_162223"/>
          <p:cNvPicPr/>
          <p:nvPr/>
        </p:nvPicPr>
        <p:blipFill>
          <a:blip r:embed="rId1"/>
          <a:stretch/>
        </p:blipFill>
        <p:spPr>
          <a:xfrm>
            <a:off x="611280" y="1268280"/>
            <a:ext cx="3095640" cy="439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20150331_162019"/>
          <p:cNvPicPr/>
          <p:nvPr/>
        </p:nvPicPr>
        <p:blipFill>
          <a:blip r:embed="rId2"/>
          <a:stretch/>
        </p:blipFill>
        <p:spPr>
          <a:xfrm>
            <a:off x="5148360" y="1341360"/>
            <a:ext cx="3097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Любите ли вы театр так, как  любим его 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Театр Жар-птица                          Театр «Модерн»                      Камерный театр .ку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еатр 2-в"/>
          <p:cNvPicPr/>
          <p:nvPr/>
        </p:nvPicPr>
        <p:blipFill>
          <a:blip r:embed="rId1"/>
          <a:stretch/>
        </p:blipFill>
        <p:spPr>
          <a:xfrm>
            <a:off x="250920" y="1557360"/>
            <a:ext cx="2520720" cy="431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театр Модерн 2"/>
          <p:cNvPicPr/>
          <p:nvPr/>
        </p:nvPicPr>
        <p:blipFill>
          <a:blip r:embed="rId2"/>
          <a:stretch/>
        </p:blipFill>
        <p:spPr>
          <a:xfrm>
            <a:off x="3059280" y="1557360"/>
            <a:ext cx="2766960" cy="413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театр1 (2)"/>
          <p:cNvPicPr/>
          <p:nvPr/>
        </p:nvPicPr>
        <p:blipFill>
          <a:blip r:embed="rId3"/>
          <a:stretch/>
        </p:blipFill>
        <p:spPr>
          <a:xfrm>
            <a:off x="6084720" y="1557360"/>
            <a:ext cx="2535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Конкурс «Самый талантливый читател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21080" y="4940280"/>
            <a:ext cx="32382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3" name="Picture 4" descr="IMG-20150119-WA0033"/>
          <p:cNvPicPr/>
          <p:nvPr/>
        </p:nvPicPr>
        <p:blipFill>
          <a:blip r:embed="rId1"/>
          <a:stretch/>
        </p:blipFill>
        <p:spPr>
          <a:xfrm>
            <a:off x="900000" y="1557360"/>
            <a:ext cx="3651480" cy="486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user\Desktop\1 001.jpg"/>
          <p:cNvPicPr/>
          <p:nvPr/>
        </p:nvPicPr>
        <p:blipFill>
          <a:blip r:embed="rId2"/>
          <a:stretch/>
        </p:blipFill>
        <p:spPr>
          <a:xfrm>
            <a:off x="5148360" y="1557360"/>
            <a:ext cx="3456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Конкурс «Самый талантливый читател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SC05346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9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бедители школьного 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092720" y="5589720"/>
            <a:ext cx="159372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IMG-20150119-WA0063"/>
          <p:cNvPicPr/>
          <p:nvPr/>
        </p:nvPicPr>
        <p:blipFill>
          <a:blip r:embed="rId1"/>
          <a:stretch/>
        </p:blipFill>
        <p:spPr>
          <a:xfrm>
            <a:off x="2050920" y="1268280"/>
            <a:ext cx="48214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беда в окружном конкурс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92360" y="764640"/>
            <a:ext cx="4929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1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DSC03043"/>
          <p:cNvPicPr/>
          <p:nvPr/>
        </p:nvPicPr>
        <p:blipFill>
          <a:blip r:embed="rId1"/>
          <a:stretch/>
        </p:blipFill>
        <p:spPr>
          <a:xfrm>
            <a:off x="826920" y="1528920"/>
            <a:ext cx="3673800" cy="452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 место в окружном конкурсе"/>
          <p:cNvPicPr/>
          <p:nvPr/>
        </p:nvPicPr>
        <p:blipFill>
          <a:blip r:embed="rId2"/>
          <a:stretch/>
        </p:blipFill>
        <p:spPr>
          <a:xfrm>
            <a:off x="5435640" y="1522440"/>
            <a:ext cx="2995560" cy="45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4978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5084640"/>
            <a:ext cx="7813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итать - модно, немодно не чита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Читать - модно, немодно не читать: Интересные факты о чтении"/>
          <p:cNvPicPr/>
          <p:nvPr/>
        </p:nvPicPr>
        <p:blipFill>
          <a:blip r:embed="rId1"/>
          <a:stretch/>
        </p:blipFill>
        <p:spPr>
          <a:xfrm>
            <a:off x="1042920" y="1628640"/>
            <a:ext cx="6985080" cy="3313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684360" y="6922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46200" y="907920"/>
            <a:ext cx="84978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042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Советы и рекомендации</a:t>
            </a: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ктивные ссылки 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Изображение к слайду №1.http://ru.delfi.lt/misc/culture/v-rige-poyavyatsya-ezhenedelnye-detskie-chteniya-na-russkom-yazyke.d?id=5947209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зображение к слайду №2 http://nechaevblog.ru/page/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зображение к слайду №3 http://dailydubie.webfactional.com/images/uploads/blog/read_more_books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 слайду №4 http://www.bankoboev.ru/oboi_raskrytaya_kniga_na_radostnom_fone_leta.c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Изображение к слайду №18 http://nashabiblio.blogspot.ru/2014/12/blog-post_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ение – вот лучшее у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56360" y="5805000"/>
            <a:ext cx="251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59280" y="1773360"/>
            <a:ext cx="590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нать, какое место в жизни младших школьников занимает чтение книг, и изучить круг чтения детей. Выработать желание в регулярном посещении библиотеки, систематическом чтении. Воспитывать интерес к чтению, любовь к хорошей книге. Не бояться участвовать в конкур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дач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ь детям конкретные мероприятия для развития интереса к чт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i (1)"/>
          <p:cNvPicPr/>
          <p:nvPr/>
        </p:nvPicPr>
        <p:blipFill>
          <a:blip r:embed="rId1"/>
          <a:stretch/>
        </p:blipFill>
        <p:spPr>
          <a:xfrm>
            <a:off x="250920" y="2060640"/>
            <a:ext cx="24494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ение – вот лучшее у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84720" y="5445000"/>
            <a:ext cx="26020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43280" y="1125360"/>
            <a:ext cx="604980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ктуальность проект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и связывают   падение интереса к чтению с изменением информационной среды. В наше время книга перестала быть единственным источником знаний. Телевизор и компьютер заменили книгу дет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жидаемые результат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ользе книг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равилах поведения в библиотеке; о правилах обращения с книгой, о способах самостоятельного поиска, нахождения информации; обогащение познавательной деятельности; расширение кругозора детей; повышение числа читателей библиотеки; переход к самостоятельному чтению; готовность детей к усвоению нового, получение удовольствия и радости от ч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здание продукт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Как готовить домашнее зада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Books_stack"/>
          <p:cNvPicPr/>
          <p:nvPr/>
        </p:nvPicPr>
        <p:blipFill>
          <a:blip r:embed="rId1"/>
          <a:stretch/>
        </p:blipFill>
        <p:spPr>
          <a:xfrm>
            <a:off x="250920" y="1557360"/>
            <a:ext cx="2305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ето с книг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reative-flower-book"/>
          <p:cNvPicPr/>
          <p:nvPr/>
        </p:nvPicPr>
        <p:blipFill>
          <a:blip r:embed="rId1"/>
          <a:stretch/>
        </p:blipFill>
        <p:spPr>
          <a:xfrm>
            <a:off x="468360" y="2781360"/>
            <a:ext cx="507672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Моё читательское ле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43280" y="1197000"/>
            <a:ext cx="2233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тчё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 прочита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0150406_115949"/>
          <p:cNvPicPr/>
          <p:nvPr/>
        </p:nvPicPr>
        <p:blipFill>
          <a:blip r:embed="rId1"/>
          <a:stretch/>
        </p:blipFill>
        <p:spPr>
          <a:xfrm>
            <a:off x="324000" y="1052640"/>
            <a:ext cx="3456000" cy="479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user\Desktop\20150407_132058.jpg"/>
          <p:cNvPicPr/>
          <p:nvPr/>
        </p:nvPicPr>
        <p:blipFill>
          <a:blip r:embed="rId2"/>
          <a:stretch/>
        </p:blipFill>
        <p:spPr>
          <a:xfrm>
            <a:off x="3780000" y="1989000"/>
            <a:ext cx="360036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Скажи, что ты читаешь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и я скажу кто ты.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               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Луи Б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16720" y="5805360"/>
            <a:ext cx="26272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нкетирова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150406_103452"/>
          <p:cNvPicPr/>
          <p:nvPr/>
        </p:nvPicPr>
        <p:blipFill>
          <a:blip r:embed="rId1"/>
          <a:stretch/>
        </p:blipFill>
        <p:spPr>
          <a:xfrm>
            <a:off x="250920" y="1844640"/>
            <a:ext cx="2700360" cy="46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20150406_103817"/>
          <p:cNvPicPr/>
          <p:nvPr/>
        </p:nvPicPr>
        <p:blipFill>
          <a:blip r:embed="rId2"/>
          <a:stretch/>
        </p:blipFill>
        <p:spPr>
          <a:xfrm>
            <a:off x="3059280" y="1844640"/>
            <a:ext cx="2592360" cy="468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20150406_103617"/>
          <p:cNvPicPr/>
          <p:nvPr/>
        </p:nvPicPr>
        <p:blipFill>
          <a:blip r:embed="rId3"/>
          <a:stretch/>
        </p:blipFill>
        <p:spPr>
          <a:xfrm>
            <a:off x="5796000" y="1844640"/>
            <a:ext cx="2952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Для чего нужно 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03640" y="333000"/>
            <a:ext cx="388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колько книг вы прочитали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 3 четвер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492360" y="1557360"/>
          <a:ext cx="565164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5651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0" y="1628640"/>
          <a:ext cx="341964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28640"/>
                    <a:ext cx="34196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ие книги вы люб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их писателей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4643280" y="1125360"/>
          <a:ext cx="450072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125360"/>
                    <a:ext cx="45007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6"/>
          <p:cNvGraphicFramePr/>
          <p:nvPr/>
        </p:nvGraphicFramePr>
        <p:xfrm>
          <a:off x="0" y="1268280"/>
          <a:ext cx="4643280" cy="482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68280"/>
                    <a:ext cx="46432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3240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Любите ли вы читать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0" y="333000"/>
            <a:ext cx="442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то советует вам в выборе кни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6"/>
          <p:cNvGraphicFramePr/>
          <p:nvPr/>
        </p:nvGraphicFramePr>
        <p:xfrm>
          <a:off x="4427640" y="981000"/>
          <a:ext cx="439236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39236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0"/>
          <p:cNvGraphicFramePr/>
          <p:nvPr/>
        </p:nvGraphicFramePr>
        <p:xfrm>
          <a:off x="324000" y="1125360"/>
          <a:ext cx="3887640" cy="475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125360"/>
                    <a:ext cx="388764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19:07:08Z</dcterms:created>
  <dc:creator>23-16</dc:creator>
  <dc:description/>
  <dc:language>en-US</dc:language>
  <cp:lastModifiedBy>23-16</cp:lastModifiedBy>
  <dcterms:modified xsi:type="dcterms:W3CDTF">2015-05-12T17:25:13Z</dcterms:modified>
  <cp:revision>24</cp:revision>
  <dc:subject/>
  <dc:title>Слайд 1</dc:title>
</cp:coreProperties>
</file>