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251-A46E-4F5F-AF82-58B7CD7E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F2D-D4FC-422C-85FF-EC39E228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9CA-D24E-40A6-A29D-89BC7F24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1F3-6DB4-4F7F-9E7F-114D83E6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9293-6A69-49AF-BA25-04E166CF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F476-0005-4867-AB96-4B698249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B99A-26E8-4E02-973E-B73BB3FA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D5DB-4F5D-4278-8E62-1A2E3AB5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14FB-DA70-4B01-8E11-0004519A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7B00-14B1-4CB2-B2BB-5BFAFD8B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6558-A87E-474B-92D4-8675CD34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795-B9A9-483D-BA99-9EA91EF2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7BA9-0A0B-4ABB-94BE-6221122C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8C3A-999E-4C0A-9CC6-B65AE27C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3892-C15E-4F89-8A2A-F12F331F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31B6-185D-4FC8-B084-E1655AA7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0B5D-3011-48A6-B1F7-147135EE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58D-1391-42BD-BCEC-589AC1CA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ABE-D12C-4CEF-BD3C-F31E68B2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2262-1E44-4325-989D-5202C782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0FE-E3AF-4A02-A658-6A156A07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E6B-D4EF-45F3-9CC6-32CC876E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FA6-2463-4A05-B0E2-A1EB8B54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F52-FE5B-4D29-9B8C-2D806806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54FB-1BFE-4D3E-8BF1-B28F926A5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8525-25F0-482F-95C9-A4A092CF1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Музыка в церкви</a:t>
            </a:r>
            <a:br>
              <a:rPr sz="48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ученицы 4 класса В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Михайловой Мари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Рисунок 5" descr="Юные певчие.jpg"/>
          <p:cNvPicPr/>
          <p:nvPr/>
        </p:nvPicPr>
        <p:blipFill>
          <a:blip r:embed="rId2"/>
          <a:stretch/>
        </p:blipFill>
        <p:spPr>
          <a:xfrm>
            <a:off x="2133720" y="3200400"/>
            <a:ext cx="4800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1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Литургия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тренняя служба, которая продолжает Всенощную. В ней выражается всеобщее благодарение Бога за спасение рода человеческого от грех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0"/>
            <a:ext cx="4038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Рисунок 5" descr="57291546.jpeg"/>
          <p:cNvPicPr/>
          <p:nvPr/>
        </p:nvPicPr>
        <p:blipFill>
          <a:blip r:embed="rId2"/>
          <a:stretch/>
        </p:blipFill>
        <p:spPr>
          <a:xfrm>
            <a:off x="4952880" y="549360"/>
            <a:ext cx="381024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Жанры православной церковной музыки привлекли многих русских композитор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4628880"/>
            <a:ext cx="40384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.Г.Чесно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Рисунок 10" descr="image001.jpg"/>
          <p:cNvPicPr/>
          <p:nvPr/>
        </p:nvPicPr>
        <p:blipFill>
          <a:blip r:embed="rId2"/>
          <a:stretch/>
        </p:blipFill>
        <p:spPr>
          <a:xfrm>
            <a:off x="5791320" y="228600"/>
            <a:ext cx="2724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1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038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Церковная музыка- это культура несущая нам через века свой свет. Во все века, музыка рожденная в церкви несла людям свет истины, укрепляя их духовн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6" descr="post-3-1210355942_thumb.jpg"/>
          <p:cNvPicPr/>
          <p:nvPr/>
        </p:nvPicPr>
        <p:blipFill>
          <a:blip r:embed="rId2"/>
          <a:stretch/>
        </p:blipFill>
        <p:spPr>
          <a:xfrm>
            <a:off x="380880" y="549360"/>
            <a:ext cx="42674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504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65076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рковная музыка- одна из важнейших частей церковной службы, где соединяясь со словом Божьим выступает носителем духов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Рисунок 6" descr="0008px8g.jpeg"/>
          <p:cNvPicPr/>
          <p:nvPr/>
        </p:nvPicPr>
        <p:blipFill>
          <a:blip r:embed="rId2"/>
          <a:srcRect l="0" t="11780" r="-860" b="11780"/>
          <a:stretch/>
        </p:blipFill>
        <p:spPr>
          <a:xfrm>
            <a:off x="228600" y="304920"/>
            <a:ext cx="39625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580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51756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уховная музыка- это вокальные произведения на тексты религиозного характе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Рисунок 8" descr="1262963988.jpg"/>
          <p:cNvPicPr/>
          <p:nvPr/>
        </p:nvPicPr>
        <p:blipFill>
          <a:blip r:embed="rId2"/>
          <a:stretch/>
        </p:blipFill>
        <p:spPr>
          <a:xfrm>
            <a:off x="457200" y="380880"/>
            <a:ext cx="3581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27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Руси церковная музыка получила распространение вместе с принятием христианства в конце 10 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Рисунок 4" descr="52655c93a8a9.jpg"/>
          <p:cNvPicPr/>
          <p:nvPr/>
        </p:nvPicPr>
        <p:blipFill>
          <a:blip r:embed="rId2"/>
          <a:stretch/>
        </p:blipFill>
        <p:spPr>
          <a:xfrm>
            <a:off x="1600200" y="2133720"/>
            <a:ext cx="5730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96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рковное пение в древности было одноголосным, мужск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Рисунок 6" descr="В. Маковский . Певчие на клиросе.jpg"/>
          <p:cNvPicPr/>
          <p:nvPr/>
        </p:nvPicPr>
        <p:blipFill>
          <a:blip r:embed="rId2"/>
          <a:stretch/>
        </p:blipFill>
        <p:spPr>
          <a:xfrm>
            <a:off x="1692360" y="1600200"/>
            <a:ext cx="5815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-497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личительная черта русской православной музыки- пение без музыкального сопровожд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Рисунок 3" descr="222.jpg"/>
          <p:cNvPicPr/>
          <p:nvPr/>
        </p:nvPicPr>
        <p:blipFill>
          <a:blip r:embed="rId2"/>
          <a:stretch/>
        </p:blipFill>
        <p:spPr>
          <a:xfrm>
            <a:off x="1908000" y="2276640"/>
            <a:ext cx="5080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466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38052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наменный распев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ой вид древнерусского церковного пения (напевы записывались особыми знаменами, или крюкам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19720" y="-20574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Рисунок 5" descr="знаменный распев 1.jpg"/>
          <p:cNvPicPr/>
          <p:nvPr/>
        </p:nvPicPr>
        <p:blipFill>
          <a:blip r:embed="rId2"/>
          <a:stretch/>
        </p:blipFill>
        <p:spPr>
          <a:xfrm>
            <a:off x="4038480" y="457200"/>
            <a:ext cx="4873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5 веке из Киева в Москву пришло многоголосное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артесн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от слова партия) пение, которое вытеснило одноголосное сопровождение молит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Рисунок 4" descr="26895_66878.jpg"/>
          <p:cNvPicPr/>
          <p:nvPr/>
        </p:nvPicPr>
        <p:blipFill>
          <a:blip r:embed="rId2"/>
          <a:stretch/>
        </p:blipFill>
        <p:spPr>
          <a:xfrm>
            <a:off x="1752480" y="2590920"/>
            <a:ext cx="5334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новными жанрами в религиозно-духовной музыке являются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сенощная и Литургия-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лавные церковные службы, образующие суточный кру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Всенощная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черняя служба состоит из двух частей: великой вечерни и утре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5" descr="56ee5ac1c7f5.jpg"/>
          <p:cNvPicPr/>
          <p:nvPr/>
        </p:nvPicPr>
        <p:blipFill>
          <a:blip r:embed="rId2"/>
          <a:stretch/>
        </p:blipFill>
        <p:spPr>
          <a:xfrm>
            <a:off x="2362320" y="3124080"/>
            <a:ext cx="4784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11:52Z</dcterms:created>
  <dc:creator>ПАПА</dc:creator>
  <dc:description/>
  <dc:language>en-US</dc:language>
  <cp:lastModifiedBy>ПАПА</cp:lastModifiedBy>
  <dcterms:modified xsi:type="dcterms:W3CDTF">2015-04-16T20:08:0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