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CDE-F1FD-44AA-A063-8B800324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D75-338C-45E3-AFAE-32F785DE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F58-780C-4CCD-9EB5-DF253846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8CC-A7EF-443B-B1D1-6D932AE0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8392-B88B-45F7-82FC-0B046AEF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2FD3-4B89-4F28-A1C6-2CF62386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0A23-F917-49A8-B7D8-BBACE597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FE07-A7E4-44D8-9F7B-C3058285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E08F-C8EE-477D-94DB-D9143F4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7D25-A88B-438C-B829-372C1887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35C3-E859-4097-904F-EF0C66BA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74F-86A0-4E3B-9634-0F7E18F8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C673-78A4-47BD-A0DB-4937290A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6B0B-53F5-4EC7-A254-BF40C50D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61F8-4235-4114-BB83-9F525543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F468-5D2E-44D7-8C61-FF52BA27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E13C-FF6A-4D8D-88F1-D057D161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949-AE17-41E4-A6DE-0FBBFA6C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483-224D-44B6-9552-29B25B3A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252-3B8B-412A-953A-2F0A9B9A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7BD-24CA-44AC-9BE3-15FEC241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66F-2725-4D83-BE2B-25D0401F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C8F-B5B1-4DED-A182-9E471F0A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C08-EF5D-488D-AE21-EB944CB7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31DD-0DF5-4F2B-96AF-7777C8477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C1C1-B725-4E12-A420-DC6594DE8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Музыка в церкви</a:t>
            </a:r>
            <a:br>
              <a:rPr sz="4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ученицы 4 класса В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Михайловой Мар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Рисунок 5" descr="Юные певчие.jpg"/>
          <p:cNvPicPr/>
          <p:nvPr/>
        </p:nvPicPr>
        <p:blipFill>
          <a:blip r:embed="rId2"/>
          <a:stretch/>
        </p:blipFill>
        <p:spPr>
          <a:xfrm>
            <a:off x="2133720" y="3200400"/>
            <a:ext cx="4800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1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Литургия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тренняя служба, которая продолжает Всенощную. В ней выражается всеобщее благодарение Бога за спасение рода человеческого от гре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Рисунок 5" descr="57291546.jpeg"/>
          <p:cNvPicPr/>
          <p:nvPr/>
        </p:nvPicPr>
        <p:blipFill>
          <a:blip r:embed="rId2"/>
          <a:stretch/>
        </p:blipFill>
        <p:spPr>
          <a:xfrm>
            <a:off x="4952880" y="549360"/>
            <a:ext cx="381024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Жанры православной церковной музыки привлекли многих русских композитор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4628880"/>
            <a:ext cx="40384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.Г.Чесно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10" descr="image001.jpg"/>
          <p:cNvPicPr/>
          <p:nvPr/>
        </p:nvPicPr>
        <p:blipFill>
          <a:blip r:embed="rId2"/>
          <a:stretch/>
        </p:blipFill>
        <p:spPr>
          <a:xfrm>
            <a:off x="5791320" y="228600"/>
            <a:ext cx="2724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1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ерковная музыка- это культура несущая нам через века свой свет. Во все века, музыка рожденная в церкви несла людям свет истины, укрепляя их духовн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6" descr="post-3-1210355942_thumb.jpg"/>
          <p:cNvPicPr/>
          <p:nvPr/>
        </p:nvPicPr>
        <p:blipFill>
          <a:blip r:embed="rId2"/>
          <a:stretch/>
        </p:blipFill>
        <p:spPr>
          <a:xfrm>
            <a:off x="380880" y="549360"/>
            <a:ext cx="4267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504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65076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рковная музыка- одна из важнейших частей церковной службы, где соединяясь со словом Божьим выступает носителем духов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Рисунок 6" descr="0008px8g.jpeg"/>
          <p:cNvPicPr/>
          <p:nvPr/>
        </p:nvPicPr>
        <p:blipFill>
          <a:blip r:embed="rId2"/>
          <a:srcRect l="0" t="11780" r="-860" b="11780"/>
          <a:stretch/>
        </p:blipFill>
        <p:spPr>
          <a:xfrm>
            <a:off x="228600" y="304920"/>
            <a:ext cx="39625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580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51756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уховная музыка- это вокальные произведения на тексты религиозного характ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Рисунок 8" descr="1262963988.jpg"/>
          <p:cNvPicPr/>
          <p:nvPr/>
        </p:nvPicPr>
        <p:blipFill>
          <a:blip r:embed="rId2"/>
          <a:stretch/>
        </p:blipFill>
        <p:spPr>
          <a:xfrm>
            <a:off x="457200" y="380880"/>
            <a:ext cx="3581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Руси церковная музыка получила распространение вместе с принятием христианства в конце 10 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Рисунок 4" descr="52655c93a8a9.jpg"/>
          <p:cNvPicPr/>
          <p:nvPr/>
        </p:nvPicPr>
        <p:blipFill>
          <a:blip r:embed="rId2"/>
          <a:stretch/>
        </p:blipFill>
        <p:spPr>
          <a:xfrm>
            <a:off x="1600200" y="2133720"/>
            <a:ext cx="5730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96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рковное пение в древности было одноголосным, мужск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Рисунок 6" descr="В. Маковский . Певчие на клиросе.jpg"/>
          <p:cNvPicPr/>
          <p:nvPr/>
        </p:nvPicPr>
        <p:blipFill>
          <a:blip r:embed="rId2"/>
          <a:stretch/>
        </p:blipFill>
        <p:spPr>
          <a:xfrm>
            <a:off x="1692360" y="1600200"/>
            <a:ext cx="5815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-497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личительная черта русской православной музыки- пение без музыкального сопровож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3" descr="222.jpg"/>
          <p:cNvPicPr/>
          <p:nvPr/>
        </p:nvPicPr>
        <p:blipFill>
          <a:blip r:embed="rId2"/>
          <a:stretch/>
        </p:blipFill>
        <p:spPr>
          <a:xfrm>
            <a:off x="1908000" y="227664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46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наменный распев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ой вид древнерусского церковного пения (напевы записывались особыми знаменами, или крюкам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19720" y="-20574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Рисунок 5" descr="знаменный распев 1.jpg"/>
          <p:cNvPicPr/>
          <p:nvPr/>
        </p:nvPicPr>
        <p:blipFill>
          <a:blip r:embed="rId2"/>
          <a:stretch/>
        </p:blipFill>
        <p:spPr>
          <a:xfrm>
            <a:off x="4038480" y="457200"/>
            <a:ext cx="4873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5 веке из Киева в Москву пришло многоголосное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артесн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от слова партия) пение, которое вытеснило одноголосное сопровождение молит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Рисунок 4" descr="26895_66878.jpg"/>
          <p:cNvPicPr/>
          <p:nvPr/>
        </p:nvPicPr>
        <p:blipFill>
          <a:blip r:embed="rId2"/>
          <a:stretch/>
        </p:blipFill>
        <p:spPr>
          <a:xfrm>
            <a:off x="1752480" y="2590920"/>
            <a:ext cx="5334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ными жанрами в религиозно-духовной музыке являются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сенощная и Литургия-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авные церковные службы, образующие суточный кр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сенощная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черняя служба состоит из двух частей: великой вечерни и утр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5" descr="56ee5ac1c7f5.jpg"/>
          <p:cNvPicPr/>
          <p:nvPr/>
        </p:nvPicPr>
        <p:blipFill>
          <a:blip r:embed="rId2"/>
          <a:stretch/>
        </p:blipFill>
        <p:spPr>
          <a:xfrm>
            <a:off x="2362320" y="3124080"/>
            <a:ext cx="4784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11:52Z</dcterms:created>
  <dc:creator>ПАПА</dc:creator>
  <dc:description/>
  <dc:language>en-US</dc:language>
  <cp:lastModifiedBy>ПАПА</cp:lastModifiedBy>
  <dcterms:modified xsi:type="dcterms:W3CDTF">2015-04-16T20:08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