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5FE-D126-4FB2-8C64-7042201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BC8-9F48-4BE9-8816-8469615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B9231-9584-4D2B-8A7A-A33884CA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6EE4C-5829-421B-AB0A-25400F9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3CDDB-8711-466A-980B-F57B7666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D62E3-1465-4576-8556-B4305615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A2D08-8C0F-430A-B982-2B6B933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B995F-1FFF-4A74-8EF4-D7360052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85223-8C7D-464F-B021-06FF644E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BDEB5-EDBF-4B15-AC24-435F44BA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2476-0DF2-4BFF-BAA7-6305E3A3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989BD-6DF5-482B-874B-91093057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18D-BE15-4F58-A31E-27043792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7A682-8EC2-4779-B0B2-346FB92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2CC21-071C-425E-A7D9-F42EF122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3177F-F976-41BD-9507-9170995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DE057-6D60-43AB-BD2B-E44208C1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78FC7-16E1-4763-A02D-874AE27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F600-E924-4306-8F8F-6B5A186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7EECE-04C1-4ACF-A1E2-59DFD2BF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0C512-6DF3-43BA-8E45-36D52ED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A136-817D-40D0-8419-1343ED2B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CEA4-06AC-4C02-8749-835912EC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2F4-FB6F-4077-9434-0B37E13F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E2D3C-7451-4115-8AE5-D7BDF015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7556D-97A5-4458-9D1E-91B11764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C2AA-98F3-45EB-99B3-89A60C0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09DD4-B9F7-4724-BD77-FF73797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3463-B23F-4E01-AEE1-3C8694B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14C98-CC76-47B7-814B-C9A217A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44FA9-088A-4698-BC48-2097531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1F41-4607-438D-9B65-93AFD1A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A5F04-3264-4E59-9D52-A9D8C0D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FE3DF-CB10-4073-9466-CBFC8AD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4EFE-3433-4106-ACAC-F30F5F6C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CCD8A-73C1-4D7C-AB7A-3D3A98E6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C04D-47E6-48DB-905D-E6293426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07D24-E2BF-4877-8E43-C14EE00B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2628F-86E3-4AF4-9A14-D6EEB8AA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4348-12A7-4CD5-BB5A-6332642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68DF9-137D-4AD2-AC50-9B20DF51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1651C-3842-4792-AC3F-74349B84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7F60A-B442-4447-BBC4-638BE39B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A277B-D23E-40DE-8D72-E9033D5E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70C6D-331F-4F44-81CF-DE6978B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1FDB-7F42-4642-8C3E-56DB3B1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B6108-88BE-4199-A7F0-940285A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83707-4715-4043-9C38-687FD4A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37781-B2FC-4E4F-9357-C2B3B1B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09FE5-7DAB-45F4-8DFF-F40F9361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286E8-D40A-4163-A5C7-F8A4E9D1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BC8B-7485-4913-88A6-D08E1C3B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E811A-303F-4B50-AB89-B2349FC4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1660C-3AD4-4A03-9C3D-3013792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3DD98-E214-492B-852C-B38B911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6F14F-5E9B-411C-9751-12139D73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F23-8815-4A85-B127-9B3357A5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C440B-23A2-4189-8713-7FA82E4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3A48E-5B9F-405D-BF1E-834BDCA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4C6C1-C9A6-4102-A103-2090418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488BF-6B0D-4DEB-B5E8-9CAEE7E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C8E62-91C7-4563-AA0B-0C7169E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392FB-DA11-44E2-A95A-B8359E39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0555B-B2E0-4570-82BF-30E15ED6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1596C-2B56-4425-97FC-3DCD20EC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D9D74-2628-4CAC-8DC0-CCB15DA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4AAFD-E046-4238-9147-3E9B7BEE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F34-6C72-4A42-9B82-2ED7D34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C09E6-47DF-4A55-9879-A46F9222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AA06A-7BE9-4873-AB14-234A7AF9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647D4-42EF-4FF3-B271-A52F0A9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84E63-5726-4277-BF6E-F0D9FA1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D628A-638E-404E-846E-5385DAA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66EA2-9FD2-431E-9E4D-AF121CD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91CFB-F236-44B5-9F9D-020A8E0E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E6962-C6E5-44F8-9F73-F3450379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CAE0C-B713-48EC-86C4-D4578FE1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84FA3-C28B-40FF-B4AC-921F74F6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573A-ECFB-410A-AB55-015F895A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516B7-7778-4CA7-9A12-8A75F981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ECBC4-05E4-428B-8F2F-8718FF2F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32F5B-2E4B-41A9-A721-FDE07CF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04774-1D4C-4D99-AE9A-91B7301D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8717C-3248-4808-B7FB-FC2E2CC4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E25D2-C60B-46AD-B8ED-7CBE2FC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9FD56-F26C-4DAD-ABA8-A6E051E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A69BF-7974-4D3D-B5EA-2338A29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A7B1F-5D7C-460E-A85E-B58FC84D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9A5CB-FB41-4307-AF3F-6802A6A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F896-1559-47A0-8104-725F1B2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2C2C1-F19F-4083-957C-0C1695EB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37431-11EF-48B7-B131-5491D147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31C4C-7997-4C75-9495-647AC273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62261-D07B-4318-AEB0-4B9C3BC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40C5A-4BE3-4F60-8C4A-CD4B6C4B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65869-494B-4DC3-941C-AD865F62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9F985-9973-4834-8740-4E52AC3A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5A6FB-3807-4200-97A3-9AA3D7C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84F4C-8B22-4668-9C8A-B0BE817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2372A-6EB4-49BF-BDCA-D487CD2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226-1C22-41DA-81BE-F78CFD4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65CEF-8BB4-4BD5-AA86-D31BAC93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D864A-1019-461A-86B3-F3FBEAC8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E3630-0761-438E-82F5-83AC6962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FCB-FB5F-44AE-8897-F5745B9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4B48-6662-41A5-BA7E-96AD4F4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98C-2150-4B65-A672-DBD63591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4C5-B272-42B5-8F41-9FC080B9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C4E-D262-4064-9EAE-2851C51C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3AD7-2C13-47F8-9611-CA46CD4A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635D-F295-414A-93CE-CE056F78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1D37-3AAE-4986-9595-92D6913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5709-ACDB-4471-AAD3-7C6C63F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D5A4-63EE-4702-8682-7C0F191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4405-0554-41A2-A3A8-2842C59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622-7ABD-425F-A614-9ECAFED1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DCFA-EFC4-4763-8055-B7D0937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DB2F-2EF6-4932-BAF9-590335B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6046-720F-436A-9FF1-04C8C26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D56E-ED44-4066-BB0A-C4A7E56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A124-2A79-44BE-9D66-14473AB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E511-7711-4BA4-9560-F9FF7546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2467-EF67-4690-B307-5FD485A1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9895-7B53-4639-89FC-3F33581A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1494-324D-41AB-84DC-7D7C49FA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3CA3-B0C5-4504-A6DB-37DE4191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D2B-CFCE-4D12-9A06-E6F42591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22DA-9E0D-406C-BF40-04713D1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C862-DBF5-4EC4-ACB5-43ABBB2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7782-A26A-4737-9FCD-9BF28AA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AC3F-5224-4F6D-BDC7-78D016E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FAEC-47A1-431D-9537-8C38E04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80D4C-CDB9-45D1-8E70-67D38FC7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DBCB-2522-4AF0-A5E2-AF92267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3584-E1E3-4DB2-A8FB-6BDBF97F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ECD2F-5F02-4628-A9A0-0E8D8B92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C007-C174-46C2-BA4A-A2C2636F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DA7-DE04-4905-B1CA-7D362D2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7FC0D-2BDB-46B0-92DF-A7F2F18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6EFCE-A3F7-4732-8824-BB63113B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FD72-E713-4838-88D8-E2F2A1BC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2EC1-BA3A-4580-98B2-3E077BE2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9DF6-8112-488D-8779-0046EF9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C1F64-AC57-4B39-9E93-24BA4C8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866C-91F2-48B6-B278-422F114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DB6A-AF5A-4400-AA57-6E82241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439D-D475-432D-BE8B-CA49C67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CE06-6E4E-4797-AD1F-70B1F819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741-9A81-45A7-94AB-01570B95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2F86-37E8-4437-B3CF-65DC12B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5D67-250C-4227-91D9-C128A33D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EEFC-6C24-4F75-90F4-0B2E5AF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8CF1-A6D4-463C-8232-DF7A7E2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95186-9E8B-4BD0-AF68-AE88124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E055-4B08-4E58-8747-F886267B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2827A-C63B-40AC-BF6C-B4EC6044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02282-5D19-4F4F-A2CE-C52B635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31EA-4518-4A59-A2A2-0147DCC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E16D-F3C5-48A9-B2CE-E7AB821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12C-CA66-45C8-BBB1-93B0C30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AE87-029A-432C-A065-1FF58ADC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2DDC-43DC-42AC-AC0B-99EBE74C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7C47-410D-47A4-A3C2-31AD750B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D3E7-F4FC-422C-A3B1-6E1137DA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C166-A832-4C84-957D-AE93463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C491-15AD-4CD1-9071-CD833D9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EB2E-1EAF-4ADE-B2BF-5FB0337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1F2C-20C8-4D12-9CEA-3A06A27B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CCBB7-3BA9-4DF2-B5E2-6CD7F580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561F-DF57-4417-B160-E9F72EE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9E7-4516-4655-9BB8-1DC35EB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6BCA-BBDC-41EE-BC01-2D5A24E9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8F43-DFDF-44A5-82D6-F8B5D0C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AE25-B3F3-437A-91CB-4278C99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AF81-90B1-440F-9124-229810E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A82B-89D0-4F30-8CA0-18A80A29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6FD4-2006-4CFE-B2E3-8EF9AE23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86616-5685-4383-83EF-561D644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8813-DF56-4F22-9543-152FB19D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AE31A-FA82-4BCF-AF1B-4ACFD0F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F651-8923-4E31-B99C-F7B5867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362-8A41-43C7-AE74-5E4B3E5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FBFC-E5D9-441C-9803-AF490713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2A647-5936-450C-A757-A70B7D5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E5F5-09D0-4C31-80F1-197BB67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04F2-0559-4CA7-8F8D-C288A29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88EF0-AA5E-4AE6-8CDB-9AB4B412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C812-B14B-46E6-95DA-CCCD6106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2C18-C4D2-4740-B852-23263864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3B060-3339-4235-A0DD-C369E893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5B37E-E3DC-4304-8829-5BA062D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F390-7E41-4911-9B21-5C306E1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65C1-2125-4C6C-A3F4-44AB8F307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B13-1981-47A4-9F63-E91A5C84FA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0272-0C4D-48B3-8FA6-F9418F1BB4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D66-1E2B-4D61-B312-CED1BCD297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517D-F021-4D89-8906-ED20E0C7C1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5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8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8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8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8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D17-A68B-4E10-9F5E-82C38E51CF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3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4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4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5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3D1-FD3A-4CB6-B67B-C16A59B4EE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F8EF-622A-4324-9BCA-060EA525B9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F78-E045-474F-8EEF-80554F3A3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3A5-2ADD-4590-BB02-2932B14702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EDF6-92F9-4FBE-989B-810111A674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7FD3-484F-446E-A0DB-67B65FFAC5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90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B3C-371C-4CC7-9EC2-7EE4D1EC30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37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66F5-2176-47A2-90D4-B4F5262297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8FA-D12F-4F1B-9D90-5CA315863B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903-BA44-42AF-9E24-9199426FB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p-kupimvmeste.ru/viewtopic.php?t=1528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u-samovara.ru/index.php?showtopic=5269%5Cu0026st=163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lstuk-kupit.ru/romario_manzini_g11se57719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ermama.ru/forum/thread875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Тестовая работа по теме «Одежда» для 4 класс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9а клас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Шутов Алекс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рф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лери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1.Black with thin grey lines running dow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6083280" y="1628640"/>
            <a:ext cx="2000160" cy="44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.Black, brand-new, had lac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hoe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708360" y="2708280"/>
            <a:ext cx="4256280" cy="36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0000"/>
                </a:solidFill>
                <a:latin typeface="Times New Roman"/>
              </a:rPr>
              <a:t>3.Black, with 12 buttons down the front and the pockets on both sides</a:t>
            </a:r>
            <a:endParaRPr b="0" lang="en-US" sz="4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stco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2766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4.Detachable, starched stiff with sli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ll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12536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5.Black, tied with an ordinary kno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1" name="" descr="Romario Manzini G11SE-57-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565360"/>
            <a:ext cx="374364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.Looking like a tailcoat made of a heavy material, with one but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jacket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3504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7.Buttoned to the trousers, could be fixed to the correct lengt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rac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060640"/>
            <a:ext cx="456732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8.Wide-brimmed, made of straw, with a blue and black ba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Verdana"/>
              </a:rPr>
              <a:t>hat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6624720" cy="38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9:55Z</dcterms:created>
  <dc:creator>Alex</dc:creator>
  <dc:description/>
  <dc:language>en-US</dc:language>
  <cp:lastModifiedBy>я</cp:lastModifiedBy>
  <dcterms:modified xsi:type="dcterms:W3CDTF">2013-12-04T09:29:59Z</dcterms:modified>
  <cp:revision>3</cp:revision>
  <dc:subject/>
  <dc:title>1.Black with thin grey lines running down</dc:title>
</cp:coreProperties>
</file>