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391-28E6-48E9-B012-20963368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E0E-A3F2-4166-A027-4ACD22FD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D1DA2-38B1-4F22-86A8-43BD7430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F0883-AFFA-4AB8-BE34-9BF7AAAD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2AF27-2457-4C43-8B21-B924FB92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A24F8-A6B4-4714-998F-29E1C35C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E9568-2419-4E81-B9A8-6D57A6BD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E705E-6C16-4A42-8E6B-A7EBF6FB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D9FD5-43DE-46F9-9C3B-6F50908B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9FF69-9061-4282-88F4-C8019518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FD62E-30D6-4A88-B093-8874876C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68CCB-EF01-4331-A19F-27164639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A15-E6E2-4314-8B51-60484F85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85A16-0354-479A-B29B-7FFC23C8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04EEF-0113-4BB5-8D26-1615BFC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E2DA8-E569-4D9D-8638-84300DD7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B11C9-9CB9-49B6-AD68-F04146F0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E301F-E586-4DF0-A239-126F5DF0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86EA0-D143-4DEC-B0F2-738E3A2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49ABC-E24F-4644-98C1-F5B73B1E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F2DF2-3446-4597-87A6-9C83340D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2E5AC-644D-4383-AB96-D282B74C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C0825-F84E-4168-BF99-2E7B326A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1DB-5FB7-49AA-89E1-96C4BE7B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829F9-8794-47B4-8663-BC08B690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D8C4C-8642-4464-9D41-D23A9A98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C606C-F9B0-45C6-86BB-F0041A15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237F2-4600-4E48-B894-EA7EBA6F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E9332-210D-42A6-86B2-E743AA5A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2DAEB-56E1-4FDF-AA26-021B81D7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3A7D9-4C4F-4E79-B2C1-13EA1C4D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39200-9E6C-4093-92A6-F831D176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80842-0EB3-4107-AF40-C9862ECB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93EA0-6AA2-4406-92B5-1D60645F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C665-211D-409E-8A32-A2A8741C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01D49-15A5-4B53-B195-767A74B7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E2F63-258A-4786-927B-79EB35AA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5C46D-542F-4242-B812-1133ADAE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2398C-9D2A-4F1A-AD2E-C193546C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27795-2F09-4985-A4F5-78E8B688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84B32-F5AB-4063-A8B8-A2888981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AC990-1598-4EA0-A3F7-B19C75B4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81054-5AF3-4F40-972B-C34C12DB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084DF-15F2-467E-B0B0-075EB3A3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BE2F0-49AE-41AC-9B47-2CA5C4B4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57A7-6044-4181-9F26-34FE2745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E4C7C-5341-4BAD-A4CC-C000CB9B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9ECC3-BC0C-4EF0-8F4B-4FFBC385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3B9DA-15B2-4B98-8781-6FFD79CB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01C8C-4590-4376-BA2B-74480183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7C8A7-1278-4E37-9691-AE8409ED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A3CC4-C5DB-4C56-BBE0-D996FCFB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2D3FD-383A-473E-90BB-3F0F237C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F7DE0-A200-4058-BD55-DF1D7E81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D013A-F8A2-4AB3-89AA-1A2FD15F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D26DB-DF30-4BEE-9776-F44D9C3E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C8D4-7FD4-423A-AFE3-6A37F4F2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DD5BE-0F1E-4274-92C8-84A093A4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E1612-0056-46D2-A456-46A6C0CB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AAF86-52AA-4EE8-BCE7-095AF0A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30A52-9476-4ED5-9043-703026D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9A830-A04D-4065-8796-05E85113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FF1DB-4584-4926-90EC-D1174AD1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32215-ED74-42FF-B973-3C3DCF49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858EE-F111-4403-8EAE-92C9823F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A0F67-D7D6-45D3-8B24-9999D172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79646-ECFA-4D26-BB0F-E8CF9978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4762-AD29-4E02-967E-BD17D708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D4F78-9432-43CA-B43F-466BEF80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C5EA6-A9FC-4C01-8707-4C7A8897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E5D12-A523-4237-976F-41BB474C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33075-9DCE-4B43-B9D3-6AA20C96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F1718-DAE0-4676-9D28-CEB09317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97A7A-285F-46F9-8EBD-765E5F18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36666-933D-483C-A271-69B1FA5C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9E261-A155-485F-A99B-5FDB0A35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3A5CA-8972-4D94-8071-5CF5CA24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ED340-4921-4A33-9BD7-E163B756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EBC4-41A1-4051-BAA5-EE685558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4D321-0DA8-43DC-9B16-F2DB277A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32EFE-28B8-4BC0-9451-EAF22992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15DF9-44BE-4A0D-AF4B-BA9CDC2F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A7FAC-260C-448E-ABB2-20D92E63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31C4B-E8C4-49C5-9DD2-084E991E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0B7CE-54E8-4780-9798-F6A75A68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0A9CD-C363-4DA8-9414-1DFD7937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9FA42-DCA5-4BC8-8A23-C539C77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EF908-DE82-4FB0-B47D-57CB8D0D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FC53B-D63D-440C-83A8-56D45F50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700F-CC6E-4A01-B1CA-E01BB33A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D711E-4023-44A9-9F68-7C742955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B4BE1-6679-4EC0-94F1-80792311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7E741-88F0-48C2-BA8B-141060A5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00972-FF30-48A5-A630-57B1BBF9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CF139-12AA-4D20-BB70-D632F5D3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357041-E758-4172-8A40-796670DE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FA2C9-BAE6-4746-A169-0E651557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11BF4-9B7A-4CBF-BFCC-5EC20C19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15C5B5-E31C-4DB1-A690-0D75CC43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C19CF-2177-4073-9D41-21B6AF1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7B4C-2DF2-4453-9C5E-91CAD26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BA714-7969-410D-AE37-2B9B585A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232599-CB00-4951-9E48-2056589D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91F1B-9391-43BA-AB14-3D87EA74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2DC-C343-4012-BA5E-04690AC0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2C86-1B6E-43B3-95B1-6DBAD03B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D5D3-8622-4AB9-AC62-A898473F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57D8-C928-42CE-B06D-F436FD47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E9BA-4CC7-4B3C-9B0A-2BB8B51C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CC0F-F96A-4604-8BD3-8E4B0285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C07F-106C-42FA-BA9E-166901BB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11A80-642F-48E3-8936-7CFAF4D2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3FFE-47EB-4635-ACDA-4DA97470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EB15-19CB-4253-93D0-E0F05FDE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E6C1-F11A-4CDB-8EBA-358D8CA4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B17-C17A-47C1-831C-7EFE518F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3528F-D946-4F1E-8B6D-0DCBB48C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FBE3C-6173-4C69-9559-1CC49EF8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798C0-A892-4E6A-A08A-08D08F6E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8780-EC37-485A-AE05-F235A383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4459-3D85-48E0-8F22-561334C1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EBB5-67C5-48DA-9767-7810D0B2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FC969-A2AB-46DA-B9A7-2BB2EB36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CA91-D406-44F8-AD90-96478E30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946CF-2278-42BA-B50E-23324557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C1DA-70F6-4D62-827B-689CCA10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820-3B18-46A4-94B8-03E27D1D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5536-1AD4-4998-BDC0-892F3680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09DA2-0D01-4312-925A-5F8B2CE0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AB39C-16C8-4095-92E1-D452E887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EB27-26E8-4318-A54F-1426F30C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C10B-B138-4F2F-A155-421E9A50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6EC2-2036-49EF-82E5-7971E26D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8804-C491-4EAE-BD28-3AB64949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3D43E-050E-4958-9699-EF1385D6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138E-10BF-4E51-97B3-7E584899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4DDA1-2333-4295-8F5B-8341B5A0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3FB-DA5A-453C-A6B5-890C32E8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89484-F72E-40B3-A41D-47804C36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A63AE-5A1A-4DA4-AFCC-83B43D34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0340C-A76F-4732-87AA-6E60FE37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868A0-1077-4F68-AA50-A75E89F5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ABB6F-9C39-4E0E-82C4-7AD17880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7709A-DE3A-416E-A43F-1B57F632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99214-A1B6-4DF1-BCA6-1F7965F8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4384F-636A-4451-AB9A-B4D73F5E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A0CF5-0352-422B-B8A2-0E04C07A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CBFDD-07B6-4EBC-946D-540651BB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0DC-7ECA-4CDB-934D-EF911121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D9BA2-46DF-470F-9103-9E6996BD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841AE-5FEA-4B6A-8810-2515C75E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60CA9-23FD-496C-9366-689B5D69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178AC-4793-4891-8C57-09CD1365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C1B09-C1F8-496A-B047-7AF75078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0CC55-863C-4365-829C-FE922562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3B16E-1FD1-458E-9F77-A44BDF2F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E2A36-D569-42F7-92B6-F8F43B3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C26C5-F200-4880-9145-53AC0D5A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F0BB5-8ED1-494D-866F-AB60C0D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82F-C63D-4C7A-8B8B-7180F80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805D8-9161-4D1B-92E3-8BFC5517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6B87C-D651-4278-A640-5A1EA682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35E54-01FB-4169-995E-973A6F9D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958EB-D46D-4517-A5AE-2014DFFE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2B48E-3CAA-412C-A959-269148F4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896DF-6854-42A4-BC95-51064683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BAD7A-7725-4FF5-9174-FA01BA2A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8C565-9E97-419B-B66A-D896CFDF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6797A-5C07-4F47-BAFA-D1BFDA88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4DA59-FD1F-4461-9AC6-96658E09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B8B-6F20-4E56-AD5D-1FC5531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F8313-71A0-476E-B455-01910F34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05169-6FF6-4ABE-89D8-E304797B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C4A54-CCDB-46A4-84C3-3EDBB925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A97CE-C6DE-490B-A1A2-DE5DECE1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02A78-9F8F-47EB-A0A4-D6300703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1A6B3-89DF-425E-AA93-CBBC068D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28080-A970-4169-9D19-83A12A93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79CC0-E42C-4769-8375-B80A9734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A6683-3658-4FDE-B0F1-B53ABFFE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471FA-DA8E-4358-9099-9283721A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91B-1EEE-4B09-A8E9-C78BDD6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BF493-9333-4A0A-B937-D52CBBF4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5DAFF-FCFF-4113-9113-91420226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DA2A2-AAA0-42B4-8AC0-A5ED0AC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5FB04-911B-41CD-B6CA-E21CD6C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8AF1E-CEC0-4FDA-A2E4-FFD7246F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5B60A-6791-4E71-9DA1-E78DB669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A4BCC-6B01-4830-AD49-A2F5B1F2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9CB41-53C6-41D5-982E-6B6DD770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7E0DB-E436-4C44-960B-78136574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FA3E8-D425-44CF-A405-7A74103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8E2B-FF78-489A-B24E-C68178AAD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1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30ED-410B-48EA-9193-0C2A3122DE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E131-3792-4098-8C11-C6B4F4C148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BC61-9441-4BA6-B165-83FA5CB7B9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0672-AD84-420E-AA49-9FB2843AE4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5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8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8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8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8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5F19-259F-4E68-BA37-535B312371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3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4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4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5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9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3CC5-5199-432A-88B0-09C99FF876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4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E4FD-F18F-4E7C-B43B-F79D864819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6934-26A8-4B5A-AC70-4288559747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BF0D-39A4-4B1E-847F-734A1D281A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2DD-BDAF-4F78-8016-9F06F7824C0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6A52-E2B1-4EC9-8FEF-1A3521E667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90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77EB-7822-48FE-A9B2-07EE5E5874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37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9FC1-B133-4BCB-A478-DD7094D632F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0DAB-AC72-4859-A89A-B4D19F9188D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13B1-0179-42C1-B69E-9F6A5FCE68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p-kupimvmeste.ru/viewtopic.php?t=1528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orum.u-samovara.ru/index.php?showtopic=5269%5Cu0026st=163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alstuk-kupit.ru/romario_manzini_g11se57719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ermama.ru/forum/thread875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Тестовая работа по теме «Одежда» для 4 класс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 9а класс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Шутов Алекс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рфа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алерия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1.Black with thin grey lines running dow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ous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6083280" y="1628640"/>
            <a:ext cx="2000160" cy="44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2.Black, brand-new, had lace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hoes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708360" y="2708280"/>
            <a:ext cx="4256280" cy="3605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0000"/>
                </a:solidFill>
                <a:latin typeface="Times New Roman"/>
              </a:rPr>
              <a:t>3.Black, with 12 buttons down the front and the pockets on both sides</a:t>
            </a:r>
            <a:endParaRPr b="0" lang="en-US" sz="4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istco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2766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4.Detachable, starched stiff with sli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olla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1125360"/>
            <a:ext cx="47242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5.Black, tied with an ordinary kno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tie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1" name="" descr="Romario Manzini G11SE-57-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2565360"/>
            <a:ext cx="3743640" cy="37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9" dur="1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.Looking like a tailcoat made of a heavy material, with one but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jacket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35049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7.Buttoned to the trousers, could be fixed to the correct lengt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rac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060640"/>
            <a:ext cx="4567320" cy="42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8.Wide-brimmed, made of straw, with a blue and black ba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Verdana"/>
              </a:rPr>
              <a:t>hat</a:t>
            </a:r>
            <a:endParaRPr b="0" lang="en-US" sz="5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6624720" cy="382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9:55Z</dcterms:created>
  <dc:creator>Alex</dc:creator>
  <dc:description/>
  <dc:language>en-US</dc:language>
  <cp:lastModifiedBy>я</cp:lastModifiedBy>
  <dcterms:modified xsi:type="dcterms:W3CDTF">2013-12-04T09:29:59Z</dcterms:modified>
  <cp:revision>3</cp:revision>
  <dc:subject/>
  <dc:title>1.Black with thin grey lines running down</dc:title>
</cp:coreProperties>
</file>