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3DBB-BCC7-4787-91D8-1BBCECA207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91B3-E405-40A8-AF3E-AC43DEA61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9CF5-795F-488A-8B12-381BCACEF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9EC-80B4-4F26-8A33-1FB292D7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E9F-38CA-4ED6-A23D-04FDEAC7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490-2F9D-462A-B542-7A2E8D9D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F77-30A8-4A7D-92E9-87C54DD8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48EA-3BA8-404C-B47B-3F2433A7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721B-06F8-4E9E-8BD5-B95F9E6A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B242-2422-40B7-865E-04412FEA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59B8-B4CA-4606-8F54-EEB1C3A9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E350-5593-45A3-9CA4-11C02C6E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3792-6454-41EB-9508-BEE798CB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317D-5AA0-400D-8A71-A311953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F17-2B42-4DA0-A0CC-C1DBC500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EA21-963B-4AC6-8584-9EFAC8F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9367-E485-459A-9839-4687BA9D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DA46-AB46-4528-AD8C-BD7132E2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0405-970E-47AD-B51D-A60C40EA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BCC7-0974-4905-B2CD-7B5FCDC1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56D4-1A6A-4D3F-A122-C1785575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CE22-2204-49F7-BB70-457B3EBD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2647-F379-4085-8A6A-3E94022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E7E2-41C7-4C88-99EF-D3EFD29E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9CAA-CA6F-4D60-A3EF-81E5A72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E6E-43CD-456E-BF04-3D13DF66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ECFE-BB9C-424B-9418-DA22E589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8A52-CB4F-4F5B-9D9B-22D0060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FF03-54CA-4247-B50D-D739C948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9DDE-6AB4-4105-8F41-980AC10B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D669-D619-4433-BE17-4C9872EA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848AD-4A83-434E-8364-3234EAB7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0103-E227-4412-83EF-5F54386F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FBBC-628C-4063-AA14-7E5D8D67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77CA-6EA5-411E-AAFB-C0DDDBCF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6313-CC84-4914-865F-2CA7722F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5D7-D4EA-4F20-83FD-F3750349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99E5-477F-45EE-B782-30FC4751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4042-11DE-4B15-8905-E3A5DD3D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BF80-15D9-40FC-8116-BA7C1FF0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ED0F-CA59-46DB-8DBD-12611F4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4D92-D924-4B15-8D59-D27E7370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5F41B-0377-4D72-9180-93B1178A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31AB-19BC-417B-82A5-2A12EF15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BA74-B1EA-4065-9D3D-89628066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10608-D730-4A27-9180-1D94E4D5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90060-66D1-4A16-9F86-A892E54E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B55-3CCE-405C-989A-DD7373E9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EF80A-4677-46E0-93EB-7E52B53C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B069-6A53-4561-B5A2-76E268BA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3C2B4-E579-40E2-8468-23941887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E2401-534C-4BB2-9B7A-2A183DE7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F1327-2289-4C88-9C5A-6494402C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609E-F614-4919-87A9-77C796F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8C07-AF0E-4631-BF13-762C638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83B8-8A03-40A9-A416-C77F63CB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0141A-1042-443C-8D73-F1DD86DD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77AB-125F-4A0B-AE1E-03A4B6C3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0C0-DD49-40FE-908F-81CB9F8E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A1A31-4BE3-46CC-85D1-51222D52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847F-DC04-4F6A-841E-746DFCA8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8B195-5041-4599-8DDC-4FFB712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8A92E-BA70-4DE6-9E2F-6614E61F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2938D-3448-4C32-B6BF-AB2F4345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CB75-2A69-4A0E-AB42-50D172B9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88FC8-D688-4BE3-821C-0C0EB162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1588-922B-4EEF-94B6-A06E6C19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13F0-A4A7-48A0-A9DA-81C28B4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D9886-1F55-4A46-905D-F6B53EE8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845-5AA2-4914-A4C1-D8B42865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CA63F-C2EA-44F9-91A0-4580141A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AEE56-4079-4207-81CE-DC92A9BB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6D59A-A0AE-48BC-8643-FD20A424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933-CAD2-4F03-B19F-A29ED09D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ABD-8ED8-41C9-B99B-FA807B6F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1F02-3C69-4612-9161-06B11038DA56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547A-D134-4090-B3F5-D606AC8601B4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2590-5892-428B-A2AE-10972E0590B2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8C24-D9D8-4A34-92DB-30792A4884F6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31E0-95ED-44E3-A2A9-95905035A9F7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580"/>
            </a:gs>
            <a:gs pos="100000">
              <a:srgbClr val="f7e9c8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81a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81a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3341-0E1F-441B-BA04-3EE43A4A1411}" type="slidenum">
              <a:rPr b="0" lang="ru-RU" sz="1000" spc="-1" strike="noStrike">
                <a:solidFill>
                  <a:srgbClr val="381a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alend.ru/img/content/i0/861.gif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468360" y="3942000"/>
            <a:ext cx="795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УЧЕБНОГО ЗАНЯТИЯ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ЗИЦИИ ТРЕБОВАНИЙ ФГОС Н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rcRect l="33440" t="-4265" r="0" b="0"/>
          <a:stretch/>
        </p:blipFill>
        <p:spPr>
          <a:xfrm>
            <a:off x="611280" y="18900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2"/>
          <p:cNvSpPr/>
          <p:nvPr/>
        </p:nvSpPr>
        <p:spPr>
          <a:xfrm>
            <a:off x="8105760" y="8366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8105760" y="15408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5"/>
          <p:cNvSpPr/>
          <p:nvPr/>
        </p:nvSpPr>
        <p:spPr>
          <a:xfrm>
            <a:off x="944640" y="1052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Самостояте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самопроверкой по образцу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-5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216000" y="2760840"/>
            <a:ext cx="87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   Включение нового знания в систему знаний и повторение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-8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395280" y="47991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X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Итог. Рефлексия учебной деятельности (итог)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-3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250920" y="40464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флексия - размышление человека, направленное на анализ самого себя (самоанализ) – собственных состояний, своих поступков и прошедших событ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трелка вниз 4"/>
          <p:cNvSpPr/>
          <p:nvPr/>
        </p:nvSpPr>
        <p:spPr>
          <a:xfrm rot="1769400">
            <a:off x="995040" y="2533680"/>
            <a:ext cx="360360" cy="1998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низ 5"/>
          <p:cNvSpPr/>
          <p:nvPr/>
        </p:nvSpPr>
        <p:spPr>
          <a:xfrm rot="19361400">
            <a:off x="7473960" y="2381400"/>
            <a:ext cx="379440" cy="209844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низ 6"/>
          <p:cNvSpPr/>
          <p:nvPr/>
        </p:nvSpPr>
        <p:spPr>
          <a:xfrm rot="1769400">
            <a:off x="2854080" y="2565360"/>
            <a:ext cx="360360" cy="151128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низ 7"/>
          <p:cNvSpPr/>
          <p:nvPr/>
        </p:nvSpPr>
        <p:spPr>
          <a:xfrm rot="19361400">
            <a:off x="5280120" y="2484360"/>
            <a:ext cx="379440" cy="15112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8"/>
          <p:cNvSpPr/>
          <p:nvPr/>
        </p:nvSpPr>
        <p:spPr>
          <a:xfrm>
            <a:off x="161640" y="4867200"/>
            <a:ext cx="23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1872720" y="419400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нс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1"/>
          <p:cNvSpPr/>
          <p:nvPr/>
        </p:nvSpPr>
        <p:spPr>
          <a:xfrm>
            <a:off x="3843000" y="37576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2"/>
          <p:cNvSpPr/>
          <p:nvPr/>
        </p:nvSpPr>
        <p:spPr>
          <a:xfrm>
            <a:off x="7032600" y="47131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0" y="1071720"/>
            <a:ext cx="4294080" cy="264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4294080" y="1071720"/>
            <a:ext cx="4819680" cy="2643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3"/>
          <a:stretch/>
        </p:blipFill>
        <p:spPr>
          <a:xfrm>
            <a:off x="1285920" y="3643200"/>
            <a:ext cx="5929200" cy="3214800"/>
          </a:xfrm>
          <a:prstGeom prst="rect">
            <a:avLst/>
          </a:prstGeom>
          <a:ln w="0">
            <a:noFill/>
          </a:ln>
        </p:spPr>
      </p:pic>
      <p:sp>
        <p:nvSpPr>
          <p:cNvPr id="329" name="Заголовок 1"/>
          <p:cNvSpPr/>
          <p:nvPr/>
        </p:nvSpPr>
        <p:spPr>
          <a:xfrm>
            <a:off x="304920" y="0"/>
            <a:ext cx="86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Классификация приемов рефлек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0" y="1330200"/>
            <a:ext cx="1496880" cy="1513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5"/>
          <a:stretch/>
        </p:blipFill>
        <p:spPr>
          <a:xfrm>
            <a:off x="98280" y="2708280"/>
            <a:ext cx="1398600" cy="1441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6"/>
          <a:stretch/>
        </p:blipFill>
        <p:spPr>
          <a:xfrm>
            <a:off x="5662440" y="1800360"/>
            <a:ext cx="781200" cy="1258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7"/>
          <a:stretch/>
        </p:blipFill>
        <p:spPr>
          <a:xfrm>
            <a:off x="5662440" y="3051000"/>
            <a:ext cx="2981520" cy="6764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0"/>
          <p:cNvSpPr/>
          <p:nvPr/>
        </p:nvSpPr>
        <p:spPr>
          <a:xfrm>
            <a:off x="6410160" y="3735360"/>
            <a:ext cx="2695680" cy="914400"/>
          </a:xfrm>
          <a:prstGeom prst="rect">
            <a:avLst/>
          </a:prstGeom>
          <a:solidFill>
            <a:srgbClr val="feb80a"/>
          </a:solidFill>
          <a:ln w="5508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сенка успе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11" descr=""/>
          <p:cNvPicPr/>
          <p:nvPr/>
        </p:nvPicPr>
        <p:blipFill>
          <a:blip r:embed="rId8"/>
          <a:srcRect l="0" t="12599" r="0" b="18364"/>
          <a:stretch/>
        </p:blipFill>
        <p:spPr>
          <a:xfrm>
            <a:off x="1042920" y="5438880"/>
            <a:ext cx="72104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179280" y="0"/>
            <a:ext cx="548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еятельности педагога, работающего по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7" descr="Teacher Owl Stock Photos, Pictures, Royalty Free Teacher Owl Images And Stock Photography"/>
          <p:cNvPicPr/>
          <p:nvPr/>
        </p:nvPicPr>
        <p:blipFill>
          <a:blip r:embed="rId2"/>
          <a:stretch/>
        </p:blipFill>
        <p:spPr>
          <a:xfrm>
            <a:off x="5664240" y="0"/>
            <a:ext cx="3479760" cy="23004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1"/>
          <p:cNvSpPr/>
          <p:nvPr/>
        </p:nvSpPr>
        <p:spPr>
          <a:xfrm>
            <a:off x="179280" y="55688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иентир на самооценку обучающегося, формирование адекватной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179280" y="2835360"/>
            <a:ext cx="8425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овать деятельность детей: по поиску и обработке информации, обобщению способов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154080" y="4452840"/>
            <a:ext cx="89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обуч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, метапредметные, личнос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154080" y="1368360"/>
            <a:ext cx="578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остоятельная деятельность обучающихся (более половины времени урок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"/>
          <p:cNvSpPr/>
          <p:nvPr/>
        </p:nvSpPr>
        <p:spPr>
          <a:xfrm>
            <a:off x="843840" y="247680"/>
            <a:ext cx="75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я в деятельности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"/>
          <p:cNvSpPr/>
          <p:nvPr/>
        </p:nvSpPr>
        <p:spPr>
          <a:xfrm>
            <a:off x="525600" y="8859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амостоятельный пои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шения поставлен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250920" y="2060640"/>
            <a:ext cx="8642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чителем организована деятельность детей по поиску, обработке информации; постановке учебной задачи; обобщению способов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0" y="3860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доставлена в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ариативного выполнения зад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чащиеся свободно выражают мыс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казывают свою точку зр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 боятся высказывать м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тивоположные мнению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108000" y="11880"/>
            <a:ext cx="87850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  <a:ea typeface="Times New Roman"/>
              </a:rPr>
              <a:t>Учитель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отношение к учебному процесс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творчество и профессионализ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желание раскрыть спосо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ого ребен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это всё и есть главный ресур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 которого невозможно вопло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х стандартов школьного 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2223"/>
                </a:solidFill>
                <a:latin typeface="Calibri"/>
                <a:ea typeface="Times New Roman"/>
              </a:rPr>
              <a:t>         </a:t>
            </a:r>
            <a:r>
              <a:rPr b="0" lang="ru-RU" sz="4400" spc="-1" strike="noStrike">
                <a:solidFill>
                  <a:srgbClr val="922223"/>
                </a:solidFill>
                <a:latin typeface="Calibri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артинка 10 из 168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903920"/>
            <a:ext cx="28573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306360" y="3665520"/>
            <a:ext cx="2235240" cy="264312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5"/>
          <p:cNvSpPr/>
          <p:nvPr/>
        </p:nvSpPr>
        <p:spPr>
          <a:xfrm>
            <a:off x="150840" y="1486080"/>
            <a:ext cx="1944720" cy="1347480"/>
          </a:xfrm>
          <a:prstGeom prst="roundRect">
            <a:avLst>
              <a:gd name="adj" fmla="val 16667"/>
            </a:avLst>
          </a:prstGeom>
          <a:solidFill>
            <a:srgbClr val="0033cc">
              <a:alpha val="49000"/>
            </a:srgbClr>
          </a:solidFill>
          <a:ln w="0">
            <a:noFill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2095560" y="1908000"/>
            <a:ext cx="357120" cy="505080"/>
          </a:xfrm>
          <a:custGeom>
            <a:avLst/>
            <a:gdLst>
              <a:gd name="textAreaLeft" fmla="*/ 55800 w 357120"/>
              <a:gd name="textAreaRight" fmla="*/ 312480 w 3571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541600" y="189000"/>
            <a:ext cx="6278400" cy="32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2630520" y="358920"/>
            <a:ext cx="618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рмоничное развитие личности, обладающей ключевыми компетентностями, способной к ответственному поведению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амореализ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овременном общ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7"/>
          <p:cNvSpPr/>
          <p:nvPr/>
        </p:nvSpPr>
        <p:spPr>
          <a:xfrm rot="5400000">
            <a:off x="5269680" y="3442320"/>
            <a:ext cx="407880" cy="504720"/>
          </a:xfrm>
          <a:custGeom>
            <a:avLst/>
            <a:gdLst>
              <a:gd name="textAreaLeft" fmla="*/ 63720 w 407880"/>
              <a:gd name="textAreaRight" fmla="*/ 357120 w 4078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600440" y="3960720"/>
            <a:ext cx="2160720" cy="1347840"/>
          </a:xfrm>
          <a:prstGeom prst="roundRect">
            <a:avLst>
              <a:gd name="adj" fmla="val 16667"/>
            </a:avLst>
          </a:prstGeom>
          <a:solidFill>
            <a:srgbClr val="0033cc">
              <a:alpha val="49000"/>
            </a:srgbClr>
          </a:solidFill>
          <a:ln w="0">
            <a:noFill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у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108360" y="1197000"/>
            <a:ext cx="829332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40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о-деятельностный подход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0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о содержание учебного процесса, в  котором главное место отводится  активной и разносторонней, самостоятельной познавательной деятельности школьни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684360" y="1774800"/>
            <a:ext cx="79930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Современный урок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урок действен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имеющий непосредственное от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к интересам личности ребе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nastasiaScript"/>
              </a:rPr>
              <a:t>его родителей, общества, государства</a:t>
            </a:r>
            <a:r>
              <a:rPr b="1" lang="ru-RU" sz="2800" spc="-1" strike="noStrike">
                <a:solidFill>
                  <a:srgbClr val="4f271c"/>
                </a:solidFill>
                <a:latin typeface="AnastasiaScrip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1274729389_tlalrz8z3fowidi"/>
          <p:cNvPicPr/>
          <p:nvPr/>
        </p:nvPicPr>
        <p:blipFill>
          <a:blip r:embed="rId1"/>
          <a:srcRect l="0" t="0" r="0" b="12916"/>
          <a:stretch/>
        </p:blipFill>
        <p:spPr>
          <a:xfrm>
            <a:off x="5435640" y="4365720"/>
            <a:ext cx="3390840" cy="2330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Копия 1274729389_tlalrz8z3fowidi"/>
          <p:cNvPicPr/>
          <p:nvPr/>
        </p:nvPicPr>
        <p:blipFill>
          <a:blip r:embed="rId2"/>
          <a:stretch/>
        </p:blipFill>
        <p:spPr>
          <a:xfrm>
            <a:off x="324000" y="34920"/>
            <a:ext cx="210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820080" y="-3240"/>
            <a:ext cx="85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результативност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532080" y="765000"/>
            <a:ext cx="76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функций от учителя к уче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1776960" y="140004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ые 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30240" y="2073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учащихся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3317760" y="263376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630360" y="327672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оценоч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8"/>
          <p:cNvSpPr/>
          <p:nvPr/>
        </p:nvSpPr>
        <p:spPr>
          <a:xfrm>
            <a:off x="1365120" y="415440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я учебного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1861560" y="4903920"/>
            <a:ext cx="58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е позиция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1"/>
          <p:cNvSpPr/>
          <p:nvPr/>
        </p:nvSpPr>
        <p:spPr>
          <a:xfrm>
            <a:off x="1713600" y="571356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 сотрудни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://dg50.mycdn.me/getImage?photoId=770597693372&amp;photoType=3"/>
          <p:cNvPicPr/>
          <p:nvPr/>
        </p:nvPicPr>
        <p:blipFill>
          <a:blip r:embed="rId1"/>
          <a:stretch/>
        </p:blipFill>
        <p:spPr>
          <a:xfrm>
            <a:off x="0" y="-171360"/>
            <a:ext cx="9252000" cy="731520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"/>
          <p:cNvSpPr/>
          <p:nvPr/>
        </p:nvSpPr>
        <p:spPr>
          <a:xfrm>
            <a:off x="376200" y="1278000"/>
            <a:ext cx="8567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Мотивирование к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Актуализация и фиксирование индивидуального затруднения в пробном учебном действ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Выявление места и причины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Построение проекта выхода из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Реализация построенн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.Первичное закрепление с проговариванием во внешн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.Самостоятельная работа с самопроверкой по этал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.Включение в систему знаний и 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.Рефлексия учебной деятельности на уро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108000" y="0"/>
            <a:ext cx="9036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труктура урока введения нового зн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в рамках системно-деятельностн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C:\Users\Ирина\Desktop\plat.gif"/>
          <p:cNvPicPr/>
          <p:nvPr/>
        </p:nvPicPr>
        <p:blipFill>
          <a:blip r:embed="rId1"/>
          <a:stretch/>
        </p:blipFill>
        <p:spPr>
          <a:xfrm>
            <a:off x="1150920" y="1984320"/>
            <a:ext cx="6842160" cy="4113360"/>
          </a:xfrm>
          <a:prstGeom prst="rect">
            <a:avLst/>
          </a:prstGeom>
          <a:ln w="0">
            <a:noFill/>
          </a:ln>
        </p:spPr>
      </p:pic>
      <p:sp>
        <p:nvSpPr>
          <p:cNvPr id="298" name="Овальная выноска 2"/>
          <p:cNvSpPr/>
          <p:nvPr/>
        </p:nvSpPr>
        <p:spPr>
          <a:xfrm>
            <a:off x="2700360" y="792000"/>
            <a:ext cx="3311640" cy="1818000"/>
          </a:xfrm>
          <a:prstGeom prst="wedgeEllipseCallout">
            <a:avLst>
              <a:gd name="adj1" fmla="val -46"/>
              <a:gd name="adj2" fmla="val 70787"/>
            </a:avLst>
          </a:prstGeom>
          <a:gradFill rotWithShape="0">
            <a:gsLst>
              <a:gs pos="0">
                <a:srgbClr val="d4a599"/>
              </a:gs>
              <a:gs pos="100000">
                <a:srgbClr val="f5dfda"/>
              </a:gs>
            </a:gsLst>
            <a:lin ang="16200000"/>
          </a:gradFill>
          <a:ln w="9360">
            <a:solidFill>
              <a:srgbClr val="96430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ьная выноска 4"/>
          <p:cNvSpPr/>
          <p:nvPr/>
        </p:nvSpPr>
        <p:spPr>
          <a:xfrm>
            <a:off x="0" y="1397160"/>
            <a:ext cx="2627280" cy="1800000"/>
          </a:xfrm>
          <a:prstGeom prst="wedgeEllipseCallout">
            <a:avLst>
              <a:gd name="adj1" fmla="val 34023"/>
              <a:gd name="adj2" fmla="val 58314"/>
            </a:avLst>
          </a:prstGeom>
          <a:gradFill rotWithShape="0">
            <a:gsLst>
              <a:gs pos="0">
                <a:srgbClr val="d4a599"/>
              </a:gs>
              <a:gs pos="100000">
                <a:srgbClr val="f5dfda"/>
              </a:gs>
            </a:gsLst>
            <a:lin ang="16200000"/>
          </a:gradFill>
          <a:ln w="9360">
            <a:solidFill>
              <a:srgbClr val="96430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ьная выноска 5"/>
          <p:cNvSpPr/>
          <p:nvPr/>
        </p:nvSpPr>
        <p:spPr>
          <a:xfrm>
            <a:off x="6138720" y="1252440"/>
            <a:ext cx="2845080" cy="20876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d4a599"/>
              </a:gs>
              <a:gs pos="100000">
                <a:srgbClr val="f5dfda"/>
              </a:gs>
            </a:gsLst>
            <a:lin ang="16200000"/>
          </a:gradFill>
          <a:ln w="9360">
            <a:solidFill>
              <a:srgbClr val="96430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олна 6"/>
          <p:cNvSpPr/>
          <p:nvPr/>
        </p:nvSpPr>
        <p:spPr>
          <a:xfrm>
            <a:off x="1835280" y="5589720"/>
            <a:ext cx="5473440" cy="1123920"/>
          </a:xfrm>
          <a:custGeom>
            <a:avLst/>
            <a:gdLst>
              <a:gd name="textAreaLeft" fmla="*/ 64080 w 5473440"/>
              <a:gd name="textAreaRight" fmla="*/ 5409360 w 5473440"/>
              <a:gd name="textAreaTop" fmla="*/ 280800 h 1123920"/>
              <a:gd name="textAreaBottom" fmla="*/ 84312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073" y="-6865"/>
                  <a:pt x="14273" y="12265"/>
                  <a:pt x="21346" y="2700"/>
                </a:cubicBezTo>
                <a:lnTo>
                  <a:pt x="21600" y="18900"/>
                </a:lnTo>
                <a:cubicBezTo>
                  <a:pt x="14527" y="28465"/>
                  <a:pt x="7327" y="9335"/>
                  <a:pt x="254" y="18900"/>
                </a:cubicBezTo>
                <a:close/>
              </a:path>
            </a:pathLst>
          </a:custGeom>
          <a:gradFill rotWithShape="0">
            <a:gsLst>
              <a:gs pos="0">
                <a:srgbClr val="9ccbdd"/>
              </a:gs>
              <a:gs pos="100000">
                <a:srgbClr val="daf0f9"/>
              </a:gs>
            </a:gsLst>
            <a:lin ang="16200000"/>
          </a:gradFill>
          <a:ln w="9360">
            <a:solidFill>
              <a:srgbClr val="3891a7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– ИДЕАЛЬНЫЙ УЧЕ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11040" y="-60120"/>
            <a:ext cx="7213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ctr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тивирование к учебной деятельности -1-2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611280" y="393480"/>
            <a:ext cx="8532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Актуализация и фиксирование индивидуального затруднения в пробном учебном действии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- 3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5"/>
          <p:cNvSpPr/>
          <p:nvPr/>
        </p:nvSpPr>
        <p:spPr>
          <a:xfrm>
            <a:off x="1268280" y="203040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II. Выявление места и причины затруднения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 - 4  минут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6"/>
          <p:cNvSpPr/>
          <p:nvPr/>
        </p:nvSpPr>
        <p:spPr>
          <a:xfrm>
            <a:off x="392040" y="3363840"/>
            <a:ext cx="85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V. Целеполаг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новка учебной задачи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 - 2 минут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407520" y="4592520"/>
            <a:ext cx="74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. Открытие нового знания 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-8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2"/>
          <p:cNvSpPr/>
          <p:nvPr/>
        </p:nvSpPr>
        <p:spPr>
          <a:xfrm>
            <a:off x="848520" y="5589720"/>
            <a:ext cx="70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Первичное закрепление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-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DV85</cp:lastModifiedBy>
  <dcterms:modified xsi:type="dcterms:W3CDTF">2015-03-17T17:25:38Z</dcterms:modified>
  <cp:revision>73</cp:revision>
  <dc:subject/>
  <dc:title>Слайд 1</dc:title>
</cp:coreProperties>
</file>