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E4EA-A9FF-44B5-96F9-40E90275A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733-CC49-4BCD-92FE-13E5101F0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F97-6244-4990-B4B9-BB38E1955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020-0CF7-4F53-853B-D0404B82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443-635C-475F-8BE5-2E0DC14F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CE8-6A1E-4FF8-A80E-ED0EEBC9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8E7-5E8F-47B2-A908-72495511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811A-2A0A-41D9-9926-FD7CE027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775-6F76-4508-B552-4D10246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B67-CD37-446D-9B1B-4E518B0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2E88-0C26-4DCC-A5A4-E1B0EBB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321-1960-4C14-8DF3-8D2459F3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F43F-B20A-4AFE-B420-43A2B4F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4B5B-6A9F-41D3-AE46-E9DBB1D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785-9B05-485A-93E7-BE2713C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7119-BD87-4EC4-99FC-00300DC8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9F5-DCF0-4CEA-B255-1FF1114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9D4B-7515-4B6E-AF76-DD0BAC9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5534-37CD-4B49-97F0-AB6394B2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C31E-61B6-4B3A-896A-CFE832CB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7A33-DD57-4742-868D-AB4A9464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A12D-C727-4455-B8CD-750A44F1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78D4-88CD-46B3-873B-C9E4131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03B0-DC07-4776-AC03-E1BC4EA5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878E-8CE5-4D18-A0AF-BFEE5B02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085-9009-48C3-84FD-DF8432DB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0D56-D881-4A0C-87C6-E29DCB0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C02E-ABE3-4657-8A5E-57DA309D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06FE-2A19-457F-9579-3976577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B1A8-F075-4747-946D-F244AA5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7474-6CCD-43EF-B40E-AC28BBB1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CD7F-30C6-4571-AD0C-E4CB24A3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945C-5FD7-45BD-85CB-6D03C318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2D75-8E97-425C-A839-DCFC834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E6E2-0EC3-4E70-A95A-CC2294B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4E73-51C8-4842-98B9-C053BE88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272-0C37-41D8-BF79-79E6D5D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9B05-3CB9-4A29-A996-C3F9803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845B-1447-4664-BDB3-7911732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79E3-CB8D-4A80-AFB4-A85BCF1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D21C-D03D-42A1-B62B-E53BACD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155E-FE53-4704-9CE0-F815256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CD8F-9068-4E53-8B74-B23CDD2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2D4B-C0CA-4BBF-B9B6-8BB34415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D25D-713A-4523-8E2D-F0F7D09A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17D8-E5D1-45D7-8FAB-CB0C736D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6C249-3F80-42A7-A7B3-466414C6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1C8-D2B7-4240-8A2E-71181EB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B1FC-FD8F-4EA3-A715-D16B9DE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6BFC-2E14-4C76-8773-1554BA2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7F36-0B20-4212-8BD7-32AA8A1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315C1-3DDD-4B84-9FC7-A2FA9085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D047-0BD6-4429-B047-75CD2C0A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6EDA-A442-4F06-A732-56BC24C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B317A-2DC5-42B1-8D56-CE1535E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553C-5A61-4D2F-B519-D61456AC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7F09-2200-426F-8D6A-7A4E1EE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B3D6-D4E2-4B91-8525-89668459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E9B-BD40-4773-A1FD-5323E457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C5A3-65F6-4F8B-8AE3-CCA2AA86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C757-FE41-45AF-8A51-BB02E91C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B100-16B1-47CA-AE77-906BC24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38FF-4BA3-4128-B10E-90E7BE7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1963-8DEB-4BAD-9EE4-F1512AB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C165-BCE3-40A3-A85F-744E6167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E006-E510-4A1A-9E11-EA0A52D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FE05-77E0-48E3-A4D8-9BA2117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85D19-A378-42F0-A6A2-D595BEE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73A8-DB46-4B33-AD11-312E5E6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F7F-06D4-4A16-BF8E-103CA0BF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11696-9860-4DD6-9800-96E9FCD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6974-C569-4111-AFCB-755010F3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EB00-A4A1-4CBC-A213-6F692630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986-087E-4831-871C-9F1E3DC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31C-EA79-481E-8A10-15D2A31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5ED-CFF4-4479-BEB9-D80D209E7968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8642-3240-47E9-9E1A-EC871E653A11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04B-D8D9-46C1-A45B-96A91646175A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5611-8F3B-483F-AC5B-49B469D44900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D52-DDE8-4EBB-BB3C-BA6D9AF487CA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4A7-A3FD-4B0D-8703-F88F7B705BDD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alend.ru/img/content/i0/861.gi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468360" y="3942000"/>
            <a:ext cx="795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УЧЕБНОГО ЗАНЯТИЯ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ЗИЦИИ ТРЕБОВАНИЙ ФГОС Н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33440" t="-4265" r="0" b="0"/>
          <a:stretch/>
        </p:blipFill>
        <p:spPr>
          <a:xfrm>
            <a:off x="611280" y="18900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"/>
          <p:cNvSpPr/>
          <p:nvPr/>
        </p:nvSpPr>
        <p:spPr>
          <a:xfrm>
            <a:off x="8105760" y="8366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8105760" y="15408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944640" y="1052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амостояте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самопроверкой по образцу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216000" y="276084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   Включение нового знания в систему знаний и повторение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395280" y="47991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Итог. Рефлексия учебной деятельности (итог)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-3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250920" y="40464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я - размышление человека, направленное на анализ самого себя (самоанализ) – собственных состояний, своих поступков и прошедших собы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низ 4"/>
          <p:cNvSpPr/>
          <p:nvPr/>
        </p:nvSpPr>
        <p:spPr>
          <a:xfrm rot="1769400">
            <a:off x="995040" y="2533680"/>
            <a:ext cx="360360" cy="1998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низ 5"/>
          <p:cNvSpPr/>
          <p:nvPr/>
        </p:nvSpPr>
        <p:spPr>
          <a:xfrm rot="19361400">
            <a:off x="7473960" y="2381400"/>
            <a:ext cx="379440" cy="209844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6"/>
          <p:cNvSpPr/>
          <p:nvPr/>
        </p:nvSpPr>
        <p:spPr>
          <a:xfrm rot="1769400">
            <a:off x="2854080" y="2565360"/>
            <a:ext cx="360360" cy="1511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7"/>
          <p:cNvSpPr/>
          <p:nvPr/>
        </p:nvSpPr>
        <p:spPr>
          <a:xfrm rot="19361400">
            <a:off x="5280120" y="2484360"/>
            <a:ext cx="379440" cy="1511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161640" y="486720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1872720" y="41940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с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3843000" y="3757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2"/>
          <p:cNvSpPr/>
          <p:nvPr/>
        </p:nvSpPr>
        <p:spPr>
          <a:xfrm>
            <a:off x="7032600" y="4713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0" y="1071720"/>
            <a:ext cx="4294080" cy="264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294080" y="1071720"/>
            <a:ext cx="4819680" cy="2643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1285920" y="3643200"/>
            <a:ext cx="5929200" cy="3214800"/>
          </a:xfrm>
          <a:prstGeom prst="rect">
            <a:avLst/>
          </a:prstGeom>
          <a:ln w="0">
            <a:noFill/>
          </a:ln>
        </p:spPr>
      </p:pic>
      <p:sp>
        <p:nvSpPr>
          <p:cNvPr id="329" name="Заголовок 1"/>
          <p:cNvSpPr/>
          <p:nvPr/>
        </p:nvSpPr>
        <p:spPr>
          <a:xfrm>
            <a:off x="304920" y="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Классификация приемов рефлек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0" y="1330200"/>
            <a:ext cx="1496880" cy="1513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98280" y="2708280"/>
            <a:ext cx="1398600" cy="1441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6"/>
          <a:stretch/>
        </p:blipFill>
        <p:spPr>
          <a:xfrm>
            <a:off x="5662440" y="180036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7"/>
          <a:stretch/>
        </p:blipFill>
        <p:spPr>
          <a:xfrm>
            <a:off x="5662440" y="3051000"/>
            <a:ext cx="2981520" cy="6764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0"/>
          <p:cNvSpPr/>
          <p:nvPr/>
        </p:nvSpPr>
        <p:spPr>
          <a:xfrm>
            <a:off x="6410160" y="3735360"/>
            <a:ext cx="2695680" cy="914400"/>
          </a:xfrm>
          <a:prstGeom prst="rect">
            <a:avLst/>
          </a:prstGeom>
          <a:solidFill>
            <a:srgbClr val="feb80a"/>
          </a:solidFill>
          <a:ln w="55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1" descr=""/>
          <p:cNvPicPr/>
          <p:nvPr/>
        </p:nvPicPr>
        <p:blipFill>
          <a:blip r:embed="rId8"/>
          <a:srcRect l="0" t="12599" r="0" b="18364"/>
          <a:stretch/>
        </p:blipFill>
        <p:spPr>
          <a:xfrm>
            <a:off x="1042920" y="5438880"/>
            <a:ext cx="7210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79280" y="0"/>
            <a:ext cx="548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еятельности педагога, работающего по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Teacher Owl Stock Photos, Pictures, Royalty Free Teacher Owl Images And Stock Photography"/>
          <p:cNvPicPr/>
          <p:nvPr/>
        </p:nvPicPr>
        <p:blipFill>
          <a:blip r:embed="rId2"/>
          <a:stretch/>
        </p:blipFill>
        <p:spPr>
          <a:xfrm>
            <a:off x="5664240" y="0"/>
            <a:ext cx="3479760" cy="23004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"/>
          <p:cNvSpPr/>
          <p:nvPr/>
        </p:nvSpPr>
        <p:spPr>
          <a:xfrm>
            <a:off x="179280" y="55688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 на самооценку обучающегося, формирование адекватной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179280" y="2835360"/>
            <a:ext cx="8425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ть деятельность детей: по поиску и обработке информации, обобщению способов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154080" y="4452840"/>
            <a:ext cx="89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обуч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, метапредметные, личнос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154080" y="136836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стоятельная деятельность обучающихся (более половины времени уро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"/>
          <p:cNvSpPr/>
          <p:nvPr/>
        </p:nvSpPr>
        <p:spPr>
          <a:xfrm>
            <a:off x="843840" y="247680"/>
            <a:ext cx="75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в деятельност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"/>
          <p:cNvSpPr/>
          <p:nvPr/>
        </p:nvSpPr>
        <p:spPr>
          <a:xfrm>
            <a:off x="525600" y="8859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оятельный пои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шения поставлен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250920" y="2060640"/>
            <a:ext cx="8642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ем организована деятельность детей по поиску, обработке информации; постановке учебной задачи; обобщению способов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0" y="386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оставлена 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риативного выполнения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ащиеся свободно выражают мыс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казывают свою точку зр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боятся высказывать м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положные мнению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08000" y="11880"/>
            <a:ext cx="87850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Times New Roman"/>
              </a:rPr>
              <a:t>Учитель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отношение к учебному процесс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творчество и профессионализ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желание раскрыть спосо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ого ребен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это всё и есть главный ресур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которого невозможно вопло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х стандартов школьного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alibri"/>
                <a:ea typeface="Times New Roman"/>
              </a:rPr>
              <a:t>         </a:t>
            </a:r>
            <a:r>
              <a:rPr b="0" lang="ru-RU" sz="4400" spc="-1" strike="noStrike">
                <a:solidFill>
                  <a:srgbClr val="922223"/>
                </a:solidFill>
                <a:latin typeface="Calibri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артинка 10 из 168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90392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306360" y="3665520"/>
            <a:ext cx="2235240" cy="264312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/>
          <p:cNvSpPr/>
          <p:nvPr/>
        </p:nvSpPr>
        <p:spPr>
          <a:xfrm>
            <a:off x="150840" y="1486080"/>
            <a:ext cx="1944720" cy="1347480"/>
          </a:xfrm>
          <a:prstGeom prst="roundRect">
            <a:avLst>
              <a:gd name="adj" fmla="val 16667"/>
            </a:avLst>
          </a:prstGeom>
          <a:solidFill>
            <a:srgbClr val="0033cc">
              <a:alpha val="49000"/>
            </a:srgbClr>
          </a:solidFill>
          <a:ln w="0">
            <a:noFill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2095560" y="1908000"/>
            <a:ext cx="357120" cy="505080"/>
          </a:xfrm>
          <a:custGeom>
            <a:avLst/>
            <a:gdLst>
              <a:gd name="textAreaLeft" fmla="*/ 55800 w 357120"/>
              <a:gd name="textAreaRight" fmla="*/ 312480 w 3571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541600" y="189000"/>
            <a:ext cx="6278400" cy="32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630520" y="358920"/>
            <a:ext cx="618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моничное развитие личности, обладающей ключевыми компетентностями, способной к ответственному поведению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мореал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овременном общ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7"/>
          <p:cNvSpPr/>
          <p:nvPr/>
        </p:nvSpPr>
        <p:spPr>
          <a:xfrm rot="5400000">
            <a:off x="5269680" y="3442320"/>
            <a:ext cx="407880" cy="504720"/>
          </a:xfrm>
          <a:custGeom>
            <a:avLst/>
            <a:gdLst>
              <a:gd name="textAreaLeft" fmla="*/ 63720 w 407880"/>
              <a:gd name="textAreaRight" fmla="*/ 357120 w 4078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600440" y="3960720"/>
            <a:ext cx="2160720" cy="1347840"/>
          </a:xfrm>
          <a:prstGeom prst="roundRect">
            <a:avLst>
              <a:gd name="adj" fmla="val 16667"/>
            </a:avLst>
          </a:prstGeom>
          <a:solidFill>
            <a:srgbClr val="0033cc">
              <a:alpha val="49000"/>
            </a:srgbClr>
          </a:solidFill>
          <a:ln w="0">
            <a:noFill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у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108360" y="1197000"/>
            <a:ext cx="82933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0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о-деятельностный подход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0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содержание учебного процесса, в  котором главное место отводится  активной и разносторонней, самостоятельной познавательной деятельности школь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684360" y="1774800"/>
            <a:ext cx="79930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Современный ур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урок действ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имеющий непосредственное 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к интересам личности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его родителей, общества, государства</a:t>
            </a:r>
            <a:r>
              <a:rPr b="1" lang="ru-RU" sz="2800" spc="-1" strike="noStrike">
                <a:solidFill>
                  <a:srgbClr val="4f271c"/>
                </a:solidFill>
                <a:latin typeface="AnastasiaScrip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1274729389_tlalrz8z3fowidi"/>
          <p:cNvPicPr/>
          <p:nvPr/>
        </p:nvPicPr>
        <p:blipFill>
          <a:blip r:embed="rId1"/>
          <a:srcRect l="0" t="0" r="0" b="12916"/>
          <a:stretch/>
        </p:blipFill>
        <p:spPr>
          <a:xfrm>
            <a:off x="5435640" y="4365720"/>
            <a:ext cx="3390840" cy="2330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Копия 1274729389_tlalrz8z3fowidi"/>
          <p:cNvPicPr/>
          <p:nvPr/>
        </p:nvPicPr>
        <p:blipFill>
          <a:blip r:embed="rId2"/>
          <a:stretch/>
        </p:blipFill>
        <p:spPr>
          <a:xfrm>
            <a:off x="324000" y="34920"/>
            <a:ext cx="210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820080" y="-3240"/>
            <a:ext cx="85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532080" y="765000"/>
            <a:ext cx="76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функций от учителя к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1776960" y="140004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е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30240" y="207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учащихся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3317760" y="263376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630360" y="327672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1365120" y="415440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я учеб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1861560" y="490392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е позиция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1713600" y="571356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сотрудн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dg50.mycdn.me/getImage?photoId=770597693372&amp;photoType=3"/>
          <p:cNvPicPr/>
          <p:nvPr/>
        </p:nvPicPr>
        <p:blipFill>
          <a:blip r:embed="rId1"/>
          <a:stretch/>
        </p:blipFill>
        <p:spPr>
          <a:xfrm>
            <a:off x="0" y="-171360"/>
            <a:ext cx="9252000" cy="73152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376200" y="1278000"/>
            <a:ext cx="856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Мотивирование к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Актуализация и фиксирование индивидуального затруднения в пробном учебном дей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Выявление места и причины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Построение проекта выхода из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Реализация построен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Первичное закрепление с проговариванием во внешн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Самостоятельная работа с самопроверкой по этал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Включение в систему знаний и 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Рефлексия учебной деятельности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08000" y="0"/>
            <a:ext cx="9036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труктура урока введения нового з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в рамках системно-деятельностн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C:\Users\Ирина\Desktop\plat.gif"/>
          <p:cNvPicPr/>
          <p:nvPr/>
        </p:nvPicPr>
        <p:blipFill>
          <a:blip r:embed="rId1"/>
          <a:stretch/>
        </p:blipFill>
        <p:spPr>
          <a:xfrm>
            <a:off x="1150920" y="1984320"/>
            <a:ext cx="6842160" cy="4113360"/>
          </a:xfrm>
          <a:prstGeom prst="rect">
            <a:avLst/>
          </a:prstGeom>
          <a:ln w="0">
            <a:noFill/>
          </a:ln>
        </p:spPr>
      </p:pic>
      <p:sp>
        <p:nvSpPr>
          <p:cNvPr id="298" name="Овальная выноска 2"/>
          <p:cNvSpPr/>
          <p:nvPr/>
        </p:nvSpPr>
        <p:spPr>
          <a:xfrm>
            <a:off x="2700360" y="792000"/>
            <a:ext cx="3311640" cy="1818000"/>
          </a:xfrm>
          <a:prstGeom prst="wedgeEllipseCallout">
            <a:avLst>
              <a:gd name="adj1" fmla="val -46"/>
              <a:gd name="adj2" fmla="val 70787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ьная выноска 4"/>
          <p:cNvSpPr/>
          <p:nvPr/>
        </p:nvSpPr>
        <p:spPr>
          <a:xfrm>
            <a:off x="0" y="1397160"/>
            <a:ext cx="2627280" cy="1800000"/>
          </a:xfrm>
          <a:prstGeom prst="wedgeEllipseCallout">
            <a:avLst>
              <a:gd name="adj1" fmla="val 34023"/>
              <a:gd name="adj2" fmla="val 58314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ьная выноска 5"/>
          <p:cNvSpPr/>
          <p:nvPr/>
        </p:nvSpPr>
        <p:spPr>
          <a:xfrm>
            <a:off x="6138720" y="1252440"/>
            <a:ext cx="2845080" cy="20876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олна 6"/>
          <p:cNvSpPr/>
          <p:nvPr/>
        </p:nvSpPr>
        <p:spPr>
          <a:xfrm>
            <a:off x="1835280" y="5589720"/>
            <a:ext cx="5473440" cy="1123920"/>
          </a:xfrm>
          <a:custGeom>
            <a:avLst/>
            <a:gdLst>
              <a:gd name="textAreaLeft" fmla="*/ 64080 w 5473440"/>
              <a:gd name="textAreaRight" fmla="*/ 5409360 w 547344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73" y="-6865"/>
                  <a:pt x="14273" y="12265"/>
                  <a:pt x="21346" y="2700"/>
                </a:cubicBezTo>
                <a:lnTo>
                  <a:pt x="21600" y="18900"/>
                </a:lnTo>
                <a:cubicBezTo>
                  <a:pt x="14527" y="28465"/>
                  <a:pt x="7327" y="9335"/>
                  <a:pt x="254" y="18900"/>
                </a:cubicBezTo>
                <a:close/>
              </a:path>
            </a:pathLst>
          </a:custGeom>
          <a:gradFill rotWithShape="0">
            <a:gsLst>
              <a:gs pos="0">
                <a:srgbClr val="9ccbdd"/>
              </a:gs>
              <a:gs pos="100000">
                <a:srgbClr val="daf0f9"/>
              </a:gs>
            </a:gsLst>
            <a:lin ang="16200000"/>
          </a:gradFill>
          <a:ln w="9360">
            <a:solidFill>
              <a:srgbClr val="3891a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– ИДЕАЛЬНЫЙ 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11040" y="-60120"/>
            <a:ext cx="7213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ctr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ирование к учебной деятельности -1-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611280" y="393480"/>
            <a:ext cx="8532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Актуализация и фиксирование индивидуального затруднения в пробном учебном действии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- 3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1268280" y="203040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I. Выявление места и причины затруднения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 минут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392040" y="336384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. Целеполаг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а учебной задачи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 - 2 минут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407520" y="4592520"/>
            <a:ext cx="74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. Открытие нового знания 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"/>
          <p:cNvSpPr/>
          <p:nvPr/>
        </p:nvSpPr>
        <p:spPr>
          <a:xfrm>
            <a:off x="848520" y="558972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Первичное закрепление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DV85</cp:lastModifiedBy>
  <dcterms:modified xsi:type="dcterms:W3CDTF">2015-03-17T17:25:38Z</dcterms:modified>
  <cp:revision>73</cp:revision>
  <dc:subject/>
  <dc:title>Слайд 1</dc:title>
</cp:coreProperties>
</file>