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_shk"/>
          <p:cNvPicPr/>
          <p:nvPr/>
        </p:nvPicPr>
        <p:blipFill>
          <a:blip r:embed="rId3"/>
          <a:stretch/>
        </p:blipFill>
        <p:spPr>
          <a:xfrm>
            <a:off x="8893080" y="0"/>
            <a:ext cx="25092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4"/>
          <p:cNvSpPr txBox="1"/>
          <p:nvPr/>
        </p:nvSpPr>
        <p:spPr>
          <a:xfrm>
            <a:off x="1979640" y="1268280"/>
            <a:ext cx="525636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ГО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" name="Ягода-Малина.mp3" descr=""/>
          <p:cNvPicPr/>
          <p:nvPr/>
        </p:nvPicPr>
        <p:blipFill>
          <a:blip r:embed="rId3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f_484d648f3b24d"/>
          <p:cNvPicPr/>
          <p:nvPr/>
        </p:nvPicPr>
        <p:blipFill>
          <a:blip r:embed="rId4"/>
          <a:stretch/>
        </p:blipFill>
        <p:spPr>
          <a:xfrm>
            <a:off x="1476360" y="2349360"/>
            <a:ext cx="6121440" cy="3560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overberries"/>
          <p:cNvPicPr/>
          <p:nvPr/>
        </p:nvPicPr>
        <p:blipFill>
          <a:blip r:embed="rId1"/>
          <a:stretch/>
        </p:blipFill>
        <p:spPr>
          <a:xfrm>
            <a:off x="395280" y="765000"/>
            <a:ext cx="3794040" cy="3573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3487320" y="3499200"/>
            <a:ext cx="5529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равствуй, лето-летечк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годное времечко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голубою голуби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чёрной ягодой черни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ёмно-красной земляникой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438160" y="3714120"/>
            <a:ext cx="334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сы красные вися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устов на нас гляд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любят бусы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, пчёлы и медве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9"/>
          <p:cNvGraphicFramePr/>
          <p:nvPr/>
        </p:nvGraphicFramePr>
        <p:xfrm>
          <a:off x="5219640" y="779400"/>
          <a:ext cx="302580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779400"/>
                    <a:ext cx="30258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1"/>
          <p:cNvSpPr/>
          <p:nvPr/>
        </p:nvSpPr>
        <p:spPr>
          <a:xfrm>
            <a:off x="969840" y="831960"/>
            <a:ext cx="306108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ную, сладкую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годку мали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ываю с веточе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кладу в корзин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потом бабул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арит всем варень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, такое вкусно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объеденье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зимой холодн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друг просты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 скажет ласково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, сынок, малин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4572000" y="5589720"/>
            <a:ext cx="424800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мородина кра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961160" y="3893400"/>
            <a:ext cx="354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сестры летом зелен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ени одна красне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ая черне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6"/>
          <p:cNvPicPr/>
          <p:nvPr/>
        </p:nvPicPr>
        <p:blipFill>
          <a:blip r:embed="rId1"/>
          <a:stretch/>
        </p:blipFill>
        <p:spPr>
          <a:xfrm>
            <a:off x="468360" y="1268280"/>
            <a:ext cx="3120840" cy="431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morodina"/>
          <p:cNvPicPr/>
          <p:nvPr/>
        </p:nvPicPr>
        <p:blipFill>
          <a:blip r:embed="rId2"/>
          <a:stretch/>
        </p:blipFill>
        <p:spPr>
          <a:xfrm>
            <a:off x="4643280" y="1341360"/>
            <a:ext cx="3610080" cy="17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Ежев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06160" y="3713760"/>
            <a:ext cx="387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ус у ягоды хорош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сорви ее поди-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ст в колючках будто еж,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назван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9"/>
          <p:cNvGraphicFramePr/>
          <p:nvPr/>
        </p:nvGraphicFramePr>
        <p:xfrm>
          <a:off x="0" y="1916280"/>
          <a:ext cx="518328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518328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11"/>
          <p:cNvSpPr/>
          <p:nvPr/>
        </p:nvSpPr>
        <p:spPr>
          <a:xfrm>
            <a:off x="326160" y="690480"/>
            <a:ext cx="84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озревания плоды ежевики имеют сперва зелё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буроватый, потом яркий красно-бур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релые плоды ежевики имеют чёр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емля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02960" y="4159800"/>
            <a:ext cx="454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капелька лета на тоненькой нож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етут для меня кузовки и лукош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любит меня, тот и рад поклони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имя дала мне родная земл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f_484d648f3b24d"/>
          <p:cNvPicPr/>
          <p:nvPr/>
        </p:nvPicPr>
        <p:blipFill>
          <a:blip r:embed="rId1"/>
          <a:stretch/>
        </p:blipFill>
        <p:spPr>
          <a:xfrm>
            <a:off x="611280" y="836640"/>
            <a:ext cx="3774960" cy="503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4815360" y="615600"/>
            <a:ext cx="386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й крохотной девч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ть не скучно на оп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аучками и жуч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ыми червя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порою за тра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илой матушкой землё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здесь уедин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екретами дел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Шип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1242685166_dogrose-1"/>
          <p:cNvPicPr/>
          <p:nvPr/>
        </p:nvPicPr>
        <p:blipFill>
          <a:blip r:embed="rId1"/>
          <a:stretch/>
        </p:blipFill>
        <p:spPr>
          <a:xfrm>
            <a:off x="179280" y="260280"/>
            <a:ext cx="3657600" cy="489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89"/>
          <p:cNvPicPr/>
          <p:nvPr/>
        </p:nvPicPr>
        <p:blipFill>
          <a:blip r:embed="rId2"/>
          <a:stretch/>
        </p:blipFill>
        <p:spPr>
          <a:xfrm>
            <a:off x="5724360" y="765000"/>
            <a:ext cx="2729160" cy="2465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2482920" y="4075560"/>
            <a:ext cx="646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ический образ старинной народной сказки о спя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авице  возник из наблюдений за дикой роз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шиповником. Сказка о спящей красавице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х народов так и называется "Дикая розочк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395280" y="5516640"/>
            <a:ext cx="208908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ка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Дикая розо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006520" y="3787200"/>
            <a:ext cx="39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листом на каждой вет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дят маленькие д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т, кто деток собер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и вымажет и 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ер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hernika"/>
          <p:cNvPicPr/>
          <p:nvPr/>
        </p:nvPicPr>
        <p:blipFill>
          <a:blip r:embed="rId1"/>
          <a:stretch/>
        </p:blipFill>
        <p:spPr>
          <a:xfrm>
            <a:off x="1042920" y="1268280"/>
            <a:ext cx="3049560" cy="388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untitled"/>
          <p:cNvPicPr/>
          <p:nvPr/>
        </p:nvPicPr>
        <p:blipFill>
          <a:blip r:embed="rId2"/>
          <a:stretch/>
        </p:blipFill>
        <p:spPr>
          <a:xfrm>
            <a:off x="5435640" y="907920"/>
            <a:ext cx="2581200" cy="277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5867280" y="5589720"/>
            <a:ext cx="295272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иног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Виноград. Карабурну."/>
          <p:cNvPicPr/>
          <p:nvPr/>
        </p:nvPicPr>
        <p:blipFill>
          <a:blip r:embed="rId1"/>
          <a:stretch/>
        </p:blipFill>
        <p:spPr>
          <a:xfrm>
            <a:off x="611280" y="1484280"/>
            <a:ext cx="3878280" cy="445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Виноград. Шасла белая."/>
          <p:cNvPicPr/>
          <p:nvPr/>
        </p:nvPicPr>
        <p:blipFill>
          <a:blip r:embed="rId2"/>
          <a:stretch/>
        </p:blipFill>
        <p:spPr>
          <a:xfrm>
            <a:off x="5219640" y="1413000"/>
            <a:ext cx="306720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7"/>
          <p:cNvSpPr/>
          <p:nvPr/>
        </p:nvSpPr>
        <p:spPr>
          <a:xfrm>
            <a:off x="975240" y="69084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 килограмм свежих ягод винограда обеспеч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30% калорий дневного рациона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0:27:42Z</dcterms:created>
  <dc:creator>L. Lazareva</dc:creator>
  <dc:description/>
  <dc:language>en-US</dc:language>
  <cp:lastModifiedBy>Admin</cp:lastModifiedBy>
  <dcterms:modified xsi:type="dcterms:W3CDTF">2015-05-12T17:08:45Z</dcterms:modified>
  <cp:revision>45</cp:revision>
  <dc:subject/>
  <dc:title>Jagodi</dc:title>
</cp:coreProperties>
</file>