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30.gif" ContentType="image/gif"/>
  <Override PartName="/ppt/media/image31.gif" ContentType="image/gif"/>
  <Override PartName="/ppt/media/image6.wmf" ContentType="image/x-wmf"/>
  <Override PartName="/ppt/media/image1.jpeg" ContentType="image/jpeg"/>
  <Override PartName="/ppt/media/image22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24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336B-7696-4785-B8F8-24EB63AA95E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773A-7166-4F49-B73A-C7386A13154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2600" y="4362120"/>
            <a:ext cx="50180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2D4-36E6-472F-B75A-EF4BC89B85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215-9F3C-4029-8E2F-96D0328A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105-8E9D-4CDA-BD09-640B137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27A-449A-4887-8351-88152D5F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72-4579-4D60-9096-48D81890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05FB-439A-4663-AFF1-89710B38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8AC4-9A9F-40D5-8AC0-77B5E9D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B9F6-17A2-4D41-A1F6-CC83489F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F458-3D5D-48A3-A054-EB67076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A2F5-FBCD-4735-B0EC-381644E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7A0-E51F-4CFE-A9AC-28A281A5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F85A-8C45-4E77-96A4-5E5DFAE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4AE-0772-4439-9B14-E2AECEB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3E97-22AF-4C39-AAAF-4913287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E5A-EF85-4641-ACC1-87624B3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F8B2-E8AA-48DF-8933-3452287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C77F-D9DC-4EF5-87E3-BD2C41C0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4270-9A71-481B-8A70-78BFB41F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D52F-D30E-4D60-9C41-6B56FAA6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9B46-8DA7-4815-BAEB-59A3459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C2EE-7771-4DEF-9573-38525114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2423-5448-4212-BFA2-2EFBA5D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39F0-92A9-4E27-A42A-BC99C3D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DAC-8F33-46D9-A3EC-9B03C18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2EEB-505F-4DC3-9465-49AC8499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B152-EB57-4260-8645-B01A648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83EB-CD65-43A8-A8B4-5297B96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B466-9A0C-4489-B030-80F0847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83FD-0C24-4A4A-8499-DD900C8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91D4-D858-4C8B-8B59-87671724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946E-23B4-42F4-8C63-8234F561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53FE-5323-48D5-A42E-580D8572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3D42-68D1-47E3-8063-5442A8C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01CF-9B0F-48F8-BD28-C168DA2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732-0F69-4E49-82DF-80D4B70A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AE04-D846-4F92-9C41-DE53D9A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D2DD-BE96-4963-B9DA-0505D40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062D-5DD1-4F29-82F6-216F7EF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00BD-D1D8-4686-9E38-C326FE8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5F26-0E77-40D5-80BB-88CFE11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E5F3-7527-4A54-9072-94EDB1E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3197-9C1F-4144-A396-DAE432D8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EE6A-398C-4E06-A99C-2D08C718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C6BF-1EAE-41C6-B29F-67D21DCD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555-0197-4416-A163-5AF7E95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8EE-C6C5-4571-9722-3AE2C54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FE2-3599-4DBE-8714-6974AD5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668-B323-4C59-9F13-1738378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252-0D90-4A0D-B668-E5D3709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80F-E05E-47C9-9CD9-7C1CB0BD7118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8FE-2685-444C-892B-3014E30D741A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BD94-15BA-4737-9D87-9F4AEE53B312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FE1-C8A4-46FB-B484-AF2969C92D4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79640" y="1125360"/>
            <a:ext cx="6629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3" descr="MCj04344430000[1]"/>
          <p:cNvPicPr/>
          <p:nvPr/>
        </p:nvPicPr>
        <p:blipFill>
          <a:blip r:embed="rId1"/>
          <a:stretch/>
        </p:blipFill>
        <p:spPr>
          <a:xfrm rot="21345000">
            <a:off x="7613280" y="4851360"/>
            <a:ext cx="1477800" cy="1693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Cj04344490000[1]"/>
          <p:cNvPicPr/>
          <p:nvPr/>
        </p:nvPicPr>
        <p:blipFill>
          <a:blip r:embed="rId2"/>
          <a:stretch/>
        </p:blipFill>
        <p:spPr>
          <a:xfrm rot="665400">
            <a:off x="4744800" y="146160"/>
            <a:ext cx="1701720" cy="1969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MCj04361330000[1]"/>
          <p:cNvPicPr/>
          <p:nvPr/>
        </p:nvPicPr>
        <p:blipFill>
          <a:blip r:embed="rId3"/>
          <a:stretch/>
        </p:blipFill>
        <p:spPr>
          <a:xfrm rot="20977200">
            <a:off x="1828440" y="183960"/>
            <a:ext cx="2193840" cy="171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MCj04359750000[1]"/>
          <p:cNvPicPr/>
          <p:nvPr/>
        </p:nvPicPr>
        <p:blipFill>
          <a:blip r:embed="rId4"/>
          <a:stretch/>
        </p:blipFill>
        <p:spPr>
          <a:xfrm rot="415200">
            <a:off x="7049880" y="36360"/>
            <a:ext cx="1760400" cy="189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MCj04359970000[1]"/>
          <p:cNvPicPr/>
          <p:nvPr/>
        </p:nvPicPr>
        <p:blipFill>
          <a:blip r:embed="rId5"/>
          <a:stretch/>
        </p:blipFill>
        <p:spPr>
          <a:xfrm rot="21296400">
            <a:off x="78840" y="4889520"/>
            <a:ext cx="2038680" cy="188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MCj04360150000[1]"/>
          <p:cNvPicPr/>
          <p:nvPr/>
        </p:nvPicPr>
        <p:blipFill>
          <a:blip r:embed="rId6"/>
          <a:stretch/>
        </p:blipFill>
        <p:spPr>
          <a:xfrm rot="750000">
            <a:off x="2932200" y="4987800"/>
            <a:ext cx="1484280" cy="1729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MCj04359790000[1]"/>
          <p:cNvPicPr/>
          <p:nvPr/>
        </p:nvPicPr>
        <p:blipFill>
          <a:blip r:embed="rId7"/>
          <a:stretch/>
        </p:blipFill>
        <p:spPr>
          <a:xfrm rot="723600">
            <a:off x="176040" y="127080"/>
            <a:ext cx="1413000" cy="1841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MCj04359850000[1]"/>
          <p:cNvPicPr/>
          <p:nvPr/>
        </p:nvPicPr>
        <p:blipFill>
          <a:blip r:embed="rId8"/>
          <a:stretch/>
        </p:blipFill>
        <p:spPr>
          <a:xfrm rot="21079200">
            <a:off x="5442120" y="4959000"/>
            <a:ext cx="1541160" cy="17924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1"/>
          <p:cNvSpPr/>
          <p:nvPr/>
        </p:nvSpPr>
        <p:spPr>
          <a:xfrm>
            <a:off x="1187280" y="234936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ознавательная  игра по профориентаци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АФОН ПРОФЕССИЙ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5.Р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-аген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связан с политико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рекламе и связям с общественность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редник между организациями и людьм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9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данной профессии осуществляет методическое руководство правовой работой на предприятии, участвует в подготовке ответов при отклонении предприятием претензий. Дает справки и консультации работникам, гражданам о текущем законодательстве, а также содействует оформлению документов и актов правового характера. Для выполнения работы необходимо иметь оперативную и долговременную память, внимательность, коммуникабельность. Обязательно высшее специальное образ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95280" y="83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Tahoma"/>
              </a:rPr>
              <a:t>«Назовите профессию по описанию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-360" y="1052280"/>
            <a:ext cx="86756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созданию имиджа – образа личности. Человеку заботящемуся о своем имидже, важно помнить, что эффект приятного впечатления создают не только модная прическа и дорогая одежда, но и внутреннее содержание личности, которое внешне незаметно, но и хорошо улавливается другими людьми. Он умеет увидеть в человеке положительные качества и создать вокруг него ауру внимания, научить искусству самопрезент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4000" y="1125360"/>
            <a:ext cx="8516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остоверяет сделки, оформляет наследственные права граждан, договоры, свидетельствует копии документов. В своей работе должен  знать правила оформления юридических документов, нормативные и руководящие материалы по правовой деятельности, действующее законодательство. Должен иметь высшее юридическое образ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посреднические услуги при заключении сделок на бирже. Специализируется по определенным видам товаров и услуг. Консультирует клиентов. Анализирует информацию о конъюнктуре рынка, потребительских свойствах товаров, надежности ценных бума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3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бери  пословицу»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ло мастера боится, а иной мастер дела бои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можешь сделать сегодня, не откладывай на завт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дельничать любил — жизнь погуби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ялся за дело — выполняй его ум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ловок в труде — кует счастье себ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инструмент тупой, то работник ты плох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т человек в почете, чьи руки в рабо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зобразить профессию, указанную в карточке при помощи жестов и мимики, без слов. Команды должны угадать, какую профессию им демонстрирую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ая разминка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гадай профессию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5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ыбери профессию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арь, писатель, строитель, бухгалтер, учитель, экскурсовод, фермер, актер, библиотекарь, водитель, портной, сапожник, спасатель, врач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6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 2 минут составить перечень профессий, представители которых приняли участие в создании данных предметов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яной свитер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из кирпич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конкурс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фессия или должность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347640" y="1125360"/>
            <a:ext cx="5327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я\Desktop\гюго.gif"/>
          <p:cNvPicPr/>
          <p:nvPr/>
        </p:nvPicPr>
        <p:blipFill>
          <a:blip r:embed="rId1"/>
          <a:stretch/>
        </p:blipFill>
        <p:spPr>
          <a:xfrm>
            <a:off x="684360" y="1413000"/>
            <a:ext cx="2303280" cy="3168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" descr=""/>
          <p:cNvPicPr/>
          <p:nvPr/>
        </p:nvPicPr>
        <p:blipFill>
          <a:blip r:embed="rId2"/>
          <a:stretch/>
        </p:blipFill>
        <p:spPr>
          <a:xfrm>
            <a:off x="2535120" y="433440"/>
            <a:ext cx="4024440" cy="79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ecor"/>
          <p:cNvPicPr/>
          <p:nvPr/>
        </p:nvPicPr>
        <p:blipFill>
          <a:blip r:embed="rId3"/>
          <a:stretch/>
        </p:blipFill>
        <p:spPr>
          <a:xfrm>
            <a:off x="4284720" y="3429000"/>
            <a:ext cx="39592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4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Распределит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рофессии, должности и специальности по колонкам табл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0920" y="1989000"/>
          <a:ext cx="8532720" cy="5763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3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Профе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Специ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66" name="TextBox 6"/>
          <p:cNvSpPr/>
          <p:nvPr/>
        </p:nvSpPr>
        <p:spPr>
          <a:xfrm>
            <a:off x="324000" y="2637000"/>
            <a:ext cx="88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одитель, учитель физкультуры, инженер, конструкт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главный конструктор, тренер, строитель, терапев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итель,  учитель начальных классов, хирург, заву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ренер по волейболу, директор, помощник юриста, прора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сполняющий обязанности, врач, стоматолог, начальник участка, водитель автомоби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3"/>
          <p:cNvSpPr/>
          <p:nvPr/>
        </p:nvSpPr>
        <p:spPr>
          <a:xfrm>
            <a:off x="0" y="1125360"/>
            <a:ext cx="871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Профессия – это род трудовой деятельности, занятий, требующих  определенной  подготовки и  являющихся  источником существования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42960" y="5716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Что такое професс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8436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Что такое специальнос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0" y="3357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Специальность – это вид занятия в рамках одной профессии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428760" y="442908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Что такое должнос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0" y="5516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6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a3"/>
                </a:solidFill>
                <a:latin typeface="Tahoma"/>
              </a:rPr>
              <a:t>Должность – это служебная обязанность, это круг  действий, возложенных на определённого человека  и обязательных для исполн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веряем!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39640" y="1268280"/>
          <a:ext cx="8229600" cy="5137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Проф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Специа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Долж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одитель  автомоб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ире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рора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ерапе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хир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омощник юр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нже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 физ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сполняющий обяза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онстру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ре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 начальных кла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ренер по волейб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Зав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Главный констру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тро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томато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ачальник учас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8580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</a:rPr>
              <a:t>типы професс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50920" y="69228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efff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Человек-тех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324480" y="6858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83763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83763"/>
                </a:solidFill>
                <a:latin typeface="Times New Roman"/>
              </a:rPr>
              <a:t>Человек-при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352680" y="685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Times New Roman"/>
              </a:rPr>
              <a:t>Человек-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04920" y="3657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6686d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6686d"/>
                </a:solidFill>
                <a:latin typeface="Times New Roman"/>
              </a:rPr>
              <a:t>Человек-знаковая систе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181480" y="335268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76a3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76a3"/>
                </a:solidFill>
                <a:latin typeface="Times New Roman"/>
              </a:rPr>
              <a:t>Человек-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879560" cy="1817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755720" cy="1981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4"/>
          <a:stretch/>
        </p:blipFill>
        <p:spPr>
          <a:xfrm>
            <a:off x="1066680" y="4876920"/>
            <a:ext cx="2362320" cy="1734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5"/>
          <a:stretch/>
        </p:blipFill>
        <p:spPr>
          <a:xfrm>
            <a:off x="6248520" y="4724280"/>
            <a:ext cx="1692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0" y="190440"/>
            <a:ext cx="91440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профессий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Распределите  профессии по типам, заполнив таблиц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одитель, биолог, оператор ПК, бухгалтер,  дизайнер, социальный работник, журналист, эколог, токарь, физик, учитель, вокалист, слесарь, зоотехник, строитель, кассир, врач, декоратор, судья, геолог, столяр, егерь, воспитатель, визажи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2060640"/>
          <a:ext cx="9144000" cy="1224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0" y="476280"/>
          <a:ext cx="9144000" cy="6121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би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оператор 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дизай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бухгалтер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журн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зоотех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физ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к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ге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деко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оля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еге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изаж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5"/>
          <p:cNvSpPr/>
          <p:nvPr/>
        </p:nvSpPr>
        <p:spPr>
          <a:xfrm>
            <a:off x="755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bfefe"/>
                </a:solidFill>
                <a:latin typeface="Tahoma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4617b"/>
                </a:solidFill>
                <a:uFillTx/>
                <a:latin typeface="Calibri"/>
              </a:rPr>
              <a:t>Тестирование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три геометрические фигуры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угольник, круг, квадрат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человечка, состоящего из 10 элементов. Должны быть использованы все три вида фигур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рисунка не имеет значения. Если нарисованы лишние элементы - их надо зачеркнуть, если их не хватает - дорисовать недостающи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259920"/>
            <a:ext cx="914400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 треугольников -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о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и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реугольника. Разнообразие интересов и талантов. Склонность к индивидуальн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тверт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 треугольника. Тип ученого. Рационален, объективен, легко переключается с одного вида деятельности на друг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треугольника. Интерес к искусству и человеку. Тонко чувствует все новое и необычн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сто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треугольник. Изобретатель, конструктор, художник. Обладает богатым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ображ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1258920" y="733320"/>
            <a:ext cx="788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Рабочий? Строитель? Учитель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Кто нужен России сейчас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А, может быть, врач-исцелитель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Сегодня важнее для нас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Быть может нужней инженеры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Возможно, ученый важней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А, может, нужней офицеры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тоб армию сделать сильней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тбросьте ненужные споры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 том, кто важней для стран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тветим: для нашей России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Профессии все нужн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                                                (Ф.С. Махов</a:t>
            </a:r>
            <a:r>
              <a:rPr b="0" i="1" lang="ru-RU" sz="2800" spc="-1" strike="noStrike">
                <a:solidFill>
                  <a:srgbClr val="002060"/>
                </a:solidFill>
                <a:latin typeface="Tahoma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6" descr="j0356712"/>
          <p:cNvPicPr/>
          <p:nvPr/>
        </p:nvPicPr>
        <p:blipFill>
          <a:blip r:embed="rId1"/>
          <a:stretch/>
        </p:blipFill>
        <p:spPr>
          <a:xfrm>
            <a:off x="7308720" y="2708280"/>
            <a:ext cx="1835280" cy="2233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j0356784"/>
          <p:cNvPicPr/>
          <p:nvPr/>
        </p:nvPicPr>
        <p:blipFill>
          <a:blip r:embed="rId2"/>
          <a:stretch/>
        </p:blipFill>
        <p:spPr>
          <a:xfrm>
            <a:off x="0" y="4913280"/>
            <a:ext cx="154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ймись таким трудом, который приносил бы тебе честь и доход»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34880" y="46944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пехов в выборе профессии!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4" descr="Entertainment-02"/>
          <p:cNvPicPr/>
          <p:nvPr/>
        </p:nvPicPr>
        <p:blipFill>
          <a:blip r:embed="rId1"/>
          <a:stretch/>
        </p:blipFill>
        <p:spPr>
          <a:xfrm>
            <a:off x="4500720" y="3584520"/>
            <a:ext cx="4174920" cy="29401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611280" y="3284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сем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742240" cy="1103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9" name="Овал 3"/>
          <p:cNvGrpSpPr/>
          <p:nvPr/>
        </p:nvGrpSpPr>
        <p:grpSpPr>
          <a:xfrm>
            <a:off x="2395440" y="3638520"/>
            <a:ext cx="2378160" cy="2232000"/>
            <a:chOff x="2395440" y="3638520"/>
            <a:chExt cx="2378160" cy="2232000"/>
          </a:xfrm>
        </p:grpSpPr>
        <p:pic>
          <p:nvPicPr>
            <p:cNvPr id="220" name="Овал 3" descr=""/>
            <p:cNvPicPr/>
            <p:nvPr/>
          </p:nvPicPr>
          <p:blipFill>
            <a:blip r:embed="rId2"/>
            <a:stretch/>
          </p:blipFill>
          <p:spPr>
            <a:xfrm>
              <a:off x="2395440" y="3638520"/>
              <a:ext cx="237816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97200" y="3979800"/>
              <a:ext cx="157788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хоч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" name="Овал 5"/>
          <p:cNvGrpSpPr/>
          <p:nvPr/>
        </p:nvGrpSpPr>
        <p:grpSpPr>
          <a:xfrm>
            <a:off x="4389480" y="3651120"/>
            <a:ext cx="2297160" cy="2200320"/>
            <a:chOff x="4389480" y="3651120"/>
            <a:chExt cx="2297160" cy="2200320"/>
          </a:xfrm>
        </p:grpSpPr>
        <p:pic>
          <p:nvPicPr>
            <p:cNvPr id="223" name="Овал 5" descr=""/>
            <p:cNvPicPr/>
            <p:nvPr/>
          </p:nvPicPr>
          <p:blipFill>
            <a:blip r:embed="rId3"/>
            <a:stretch/>
          </p:blipFill>
          <p:spPr>
            <a:xfrm>
              <a:off x="4389480" y="3651120"/>
              <a:ext cx="22971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5040" y="3990960"/>
              <a:ext cx="15289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надо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" name="Овал 6"/>
          <p:cNvGrpSpPr/>
          <p:nvPr/>
        </p:nvGrpSpPr>
        <p:grpSpPr>
          <a:xfrm>
            <a:off x="3359160" y="1884240"/>
            <a:ext cx="2401920" cy="2370240"/>
            <a:chOff x="3359160" y="1884240"/>
            <a:chExt cx="2401920" cy="2370240"/>
          </a:xfrm>
        </p:grpSpPr>
        <p:pic>
          <p:nvPicPr>
            <p:cNvPr id="226" name="Овал 6" descr=""/>
            <p:cNvPicPr/>
            <p:nvPr/>
          </p:nvPicPr>
          <p:blipFill>
            <a:blip r:embed="rId4"/>
            <a:stretch/>
          </p:blipFill>
          <p:spPr>
            <a:xfrm>
              <a:off x="3359160" y="1884240"/>
              <a:ext cx="240192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760920" y="2247840"/>
              <a:ext cx="15937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мог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Равнобедренный треугольник 8"/>
          <p:cNvGrpSpPr/>
          <p:nvPr/>
        </p:nvGrpSpPr>
        <p:grpSpPr>
          <a:xfrm>
            <a:off x="3724200" y="3681360"/>
            <a:ext cx="1470240" cy="1378080"/>
            <a:chOff x="3724200" y="3681360"/>
            <a:chExt cx="1470240" cy="1378080"/>
          </a:xfrm>
        </p:grpSpPr>
        <p:pic>
          <p:nvPicPr>
            <p:cNvPr id="229" name="Равнобедренный треугольник 8" descr=""/>
            <p:cNvPicPr/>
            <p:nvPr/>
          </p:nvPicPr>
          <p:blipFill>
            <a:blip r:embed="rId5"/>
            <a:stretch/>
          </p:blipFill>
          <p:spPr>
            <a:xfrm>
              <a:off x="3724200" y="3681360"/>
              <a:ext cx="14702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0800000">
              <a:off x="4128840" y="3716280"/>
              <a:ext cx="6620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31" name="Прямая со стрелкой 10"/>
          <p:cNvCxnSpPr/>
          <p:nvPr/>
        </p:nvCxnSpPr>
        <p:spPr>
          <a:xfrm>
            <a:off x="1666440" y="990720"/>
            <a:ext cx="1607400" cy="2118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matematika_carica_nauk_1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642960" y="242892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Желаем удачи во взаимодействии с родителям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matematika_carica_nauk_1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755640" y="1557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1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ЗМИНКА-ЮМОРИНКА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826920" y="321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ить буквы в предложенных словах так, чтобы получились названия професс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2. «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br>
              <a:rPr sz="27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C:\Users\я\Desktop\b15d3a2774993f93a5ba8529ee7.jpg"/>
          <p:cNvPicPr/>
          <p:nvPr/>
        </p:nvPicPr>
        <p:blipFill>
          <a:blip r:embed="rId1"/>
          <a:stretch/>
        </p:blipFill>
        <p:spPr>
          <a:xfrm>
            <a:off x="1557360" y="2286000"/>
            <a:ext cx="6526080" cy="379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я\Desktop\b15d3a2774993f93a5ba8529ee7.jpg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Ориентир в новых профессиях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1. Логис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занимается логико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организации транспортировки продук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изатор конференций и научных саммит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2.Веб-маст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 , кто работает на компьютер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чик про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чик проектов сай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3. Маркетолог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работает на рынке ценных бумаг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изучению ры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4. Фандрайз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ищет деньги и возможности для организ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анат, которого нанимает «звезда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, изучающий пути развития предприят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01:27Z</dcterms:created>
  <dc:creator>Admin</dc:creator>
  <dc:description/>
  <dc:language>en-US</dc:language>
  <cp:lastModifiedBy>Шемякин Н.Г.</cp:lastModifiedBy>
  <dcterms:modified xsi:type="dcterms:W3CDTF">2015-04-18T04:41:12Z</dcterms:modified>
  <cp:revision>94</cp:revision>
  <dc:subject/>
  <dc:title>Слайд 1</dc:title>
</cp:coreProperties>
</file>