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30.gif" ContentType="image/gif"/>
  <Override PartName="/ppt/media/image31.gif" ContentType="image/gif"/>
  <Override PartName="/ppt/media/image6.wmf" ContentType="image/x-wmf"/>
  <Override PartName="/ppt/media/image1.jpeg" ContentType="image/jpeg"/>
  <Override PartName="/ppt/media/image22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24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DBE8-6642-41B5-AF64-0414311AD0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AC9F-124B-4E6F-B48F-8575C57347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2600" y="4362120"/>
            <a:ext cx="50180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7970-B269-4600-9E01-14673A1149C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7E5-13CE-4AC6-A6D9-8979DEF6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A5D-8A9D-4CC3-A650-4A57212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2D1-20BE-4B57-AFAE-984FC7C0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37A-CB06-451D-BB97-D4D5B5B2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E4D-55D1-49DA-8F77-39BC1B28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16F-59AE-4BCF-BFF0-5556C26F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7F3-D17C-497D-8465-0A0D566A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45E-F656-45FD-B549-28A0022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46D-D8EA-42DB-AF2B-56B7B68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2C78-0CEC-4BE4-A5BF-8676572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E87D-3294-44D0-9058-E6D1913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B34-4980-4312-8028-F541693B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C0B-D7AE-4F71-8C59-B219C98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83F-3DB0-4F76-9403-E5F4DBB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9264-2020-4D22-8200-29FE413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B224-E6D4-4A48-A07A-A7FC886E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E9FF-EF34-4795-AF3F-452678B9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4B31-67DE-4F72-8631-327DC444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0EB7-C2E0-4A73-AEBC-CA53F6DF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4265-9422-4CB2-81F4-C0A31A1B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BD24-8A92-48AD-8D89-5EC462DA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A388-759F-4A75-8D62-B8C0D6E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A79-C941-43A6-8E7B-CB5EAB44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FC71-D8EF-44E9-BB3F-74CC953C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EE22-D602-456D-8264-363F6504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9EF6-0131-4B04-94E6-0984446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D949-CB0C-4E9E-B30B-A378348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88EF-64C4-4D15-B1BA-BF40F4A2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CD7A-FDBC-4584-8FDA-4CBDF0EE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3BD5-538B-4D80-8953-34C39343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7D39-0816-4C58-873E-06F7057B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563A-0123-465F-BCFB-C7FD5CB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039E-04AB-4A16-80EA-5761812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778-A0FC-4E8C-8A7C-59D4F971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079C-DACD-47C3-9D19-082F9197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43D5-E920-4680-ADA2-96569CE1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73CE-19CE-4231-B5E8-37BB4ECD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BB58-778A-456F-B42A-31D7D96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BE65-2BDE-42FD-B90C-9EC6B03B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F23C-0989-4616-8910-DC2494C9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C04A-1324-4B16-93EE-33D64050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BB75-62C4-4BED-9470-DBC14786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A4058-134C-4D9A-B3D3-3FCB09A7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CB5-B96A-4637-8FCC-B6A460F9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3FA-FC51-48BA-967E-29882029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059-3837-4F3D-8ABE-8C73809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C66-161D-45E1-94C3-550B626C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6E3-B2F4-4890-8C19-D1C66C5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426-9472-4B9B-984C-B9AEF600C36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8F67-5C80-402B-9EB9-5C815E3204D8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BF7-1D07-4F53-AD71-2DF1AA29FE34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F6B7-E0C1-4C0E-8022-A885369ACDD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979640" y="1125360"/>
            <a:ext cx="66294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3" descr="MCj04344430000[1]"/>
          <p:cNvPicPr/>
          <p:nvPr/>
        </p:nvPicPr>
        <p:blipFill>
          <a:blip r:embed="rId1"/>
          <a:stretch/>
        </p:blipFill>
        <p:spPr>
          <a:xfrm rot="21345000">
            <a:off x="7613280" y="4851360"/>
            <a:ext cx="1477800" cy="1693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Cj04344490000[1]"/>
          <p:cNvPicPr/>
          <p:nvPr/>
        </p:nvPicPr>
        <p:blipFill>
          <a:blip r:embed="rId2"/>
          <a:stretch/>
        </p:blipFill>
        <p:spPr>
          <a:xfrm rot="665400">
            <a:off x="4744800" y="146160"/>
            <a:ext cx="1701720" cy="1969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MCj04361330000[1]"/>
          <p:cNvPicPr/>
          <p:nvPr/>
        </p:nvPicPr>
        <p:blipFill>
          <a:blip r:embed="rId3"/>
          <a:stretch/>
        </p:blipFill>
        <p:spPr>
          <a:xfrm rot="20977200">
            <a:off x="1828440" y="183960"/>
            <a:ext cx="2193840" cy="171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MCj04359750000[1]"/>
          <p:cNvPicPr/>
          <p:nvPr/>
        </p:nvPicPr>
        <p:blipFill>
          <a:blip r:embed="rId4"/>
          <a:stretch/>
        </p:blipFill>
        <p:spPr>
          <a:xfrm rot="415200">
            <a:off x="7049880" y="36360"/>
            <a:ext cx="1760400" cy="189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MCj04359970000[1]"/>
          <p:cNvPicPr/>
          <p:nvPr/>
        </p:nvPicPr>
        <p:blipFill>
          <a:blip r:embed="rId5"/>
          <a:stretch/>
        </p:blipFill>
        <p:spPr>
          <a:xfrm rot="21296400">
            <a:off x="78840" y="4889520"/>
            <a:ext cx="2038680" cy="188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MCj04360150000[1]"/>
          <p:cNvPicPr/>
          <p:nvPr/>
        </p:nvPicPr>
        <p:blipFill>
          <a:blip r:embed="rId6"/>
          <a:stretch/>
        </p:blipFill>
        <p:spPr>
          <a:xfrm rot="750000">
            <a:off x="2932200" y="4987800"/>
            <a:ext cx="1484280" cy="1729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MCj04359790000[1]"/>
          <p:cNvPicPr/>
          <p:nvPr/>
        </p:nvPicPr>
        <p:blipFill>
          <a:blip r:embed="rId7"/>
          <a:stretch/>
        </p:blipFill>
        <p:spPr>
          <a:xfrm rot="723600">
            <a:off x="176040" y="127080"/>
            <a:ext cx="1413000" cy="1841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MCj04359850000[1]"/>
          <p:cNvPicPr/>
          <p:nvPr/>
        </p:nvPicPr>
        <p:blipFill>
          <a:blip r:embed="rId8"/>
          <a:stretch/>
        </p:blipFill>
        <p:spPr>
          <a:xfrm rot="21079200">
            <a:off x="5442120" y="4959000"/>
            <a:ext cx="1541160" cy="17924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1"/>
          <p:cNvSpPr/>
          <p:nvPr/>
        </p:nvSpPr>
        <p:spPr>
          <a:xfrm>
            <a:off x="1187280" y="234936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-познавательная  игра по профориентаци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АФОН ПРОФЕССИЙ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5.Р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R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-аген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связан с политико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 по рекламе и связям с общественность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редник между организациями и людьм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9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данной профессии осуществляет методическое руководство правовой работой на предприятии, участвует в подготовке ответов при отклонении предприятием претензий. Дает справки и консультации работникам, гражданам о текущем законодательстве, а также содействует оформлению документов и актов правового характера. Для выполнения работы необходимо иметь оперативную и долговременную память, внимательность, коммуникабельность. Обязательно высшее специальное образ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95280" y="83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f3ca"/>
                </a:solidFill>
                <a:latin typeface="Tahoma"/>
              </a:rPr>
              <a:t>«Назовите профессию по описанию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-360" y="1052280"/>
            <a:ext cx="86756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созданию имиджа – образа личности. Человеку заботящемуся о своем имидже, важно помнить, что эффект приятного впечатления создают не только модная прическа и дорогая одежда, но и внутреннее содержание личности, которое внешне незаметно, но и хорошо улавливается другими людьми. Он умеет увидеть в человеке положительные качества и создать вокруг него ауру внимания, научить искусству самопрезент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4000" y="1125360"/>
            <a:ext cx="8516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остоверяет сделки, оформляет наследственные права граждан, договоры, свидетельствует копии документов. В своей работе должен  знать правила оформления юридических документов, нормативные и руководящие материалы по правовой деятельности, действующее законодательство. Должен иметь высшее юридическое образ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посреднические услуги при заключении сделок на бирже. Специализируется по определенным видам товаров и услуг. Консультирует клиентов. Анализирует информацию о конъюнктуре рынка, потребительских свойствах товаров, надежности ценных бума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3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бери  пословицу»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ло мастера боится, а иной мастер дела бои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можешь сделать сегодня, не откладывай на завт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здельничать любил — жизнь погуби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ялся за дело — выполняй его уме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ловок в труде — кует счастье себ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инструмент тупой, то работник ты плох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т человек в почете, чьи руки в рабо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зобразить профессию, указанную в карточке при помощи жестов и мимики, без слов. Команды должны угадать, какую профессию им демонстрирую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ая разминка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Угадай профессию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5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ыбери профессию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арь, писатель, строитель, бухгалтер, учитель, экскурсовод, фермер, актер, библиотекарь, водитель, портной, сапожник, спасатель, врач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ние 6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 2 минут составить перечень профессий, представители которых приняли участие в создании данных предметов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яной свитер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из кирпич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конкурс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офессия или должность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347640" y="1125360"/>
            <a:ext cx="53276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я\Desktop\гюго.gif"/>
          <p:cNvPicPr/>
          <p:nvPr/>
        </p:nvPicPr>
        <p:blipFill>
          <a:blip r:embed="rId1"/>
          <a:stretch/>
        </p:blipFill>
        <p:spPr>
          <a:xfrm>
            <a:off x="684360" y="1413000"/>
            <a:ext cx="2303280" cy="3168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" descr=""/>
          <p:cNvPicPr/>
          <p:nvPr/>
        </p:nvPicPr>
        <p:blipFill>
          <a:blip r:embed="rId2"/>
          <a:stretch/>
        </p:blipFill>
        <p:spPr>
          <a:xfrm>
            <a:off x="2535120" y="433440"/>
            <a:ext cx="4024440" cy="79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ecor"/>
          <p:cNvPicPr/>
          <p:nvPr/>
        </p:nvPicPr>
        <p:blipFill>
          <a:blip r:embed="rId3"/>
          <a:stretch/>
        </p:blipFill>
        <p:spPr>
          <a:xfrm>
            <a:off x="4284720" y="3429000"/>
            <a:ext cx="39592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4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Распределит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рофессии, должности и специальности по колонкам таблиц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0920" y="1989000"/>
          <a:ext cx="8532720" cy="57636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32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Профе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Специ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66" name="TextBox 6"/>
          <p:cNvSpPr/>
          <p:nvPr/>
        </p:nvSpPr>
        <p:spPr>
          <a:xfrm>
            <a:off x="324000" y="2637000"/>
            <a:ext cx="88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одитель, учитель физкультуры, инженер, конструкт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главный конструктор, тренер, строитель, терапев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итель,  учитель начальных классов, хирург, заву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ренер по волейболу, директор, помощник юриста, прораб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сполняющий обязанности, врач, стоматолог, начальник участка, водитель автомоби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b53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3"/>
          <p:cNvSpPr/>
          <p:nvPr/>
        </p:nvSpPr>
        <p:spPr>
          <a:xfrm>
            <a:off x="0" y="1125360"/>
            <a:ext cx="8712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Профессия – это род трудовой деятельности, занятий, требующих  определенной  подготовки и  являющихся  источником существования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642960" y="5716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Что такое професс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684360" y="26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Что такое специальнос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0" y="3357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</a:rPr>
              <a:t>Специальность – это вид занятия в рамках одной профессии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428760" y="442908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Что такое должнос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0" y="5516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6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a3"/>
                </a:solidFill>
                <a:latin typeface="Tahoma"/>
              </a:rPr>
              <a:t>Должность – это служебная обязанность, это круг  действий, возложенных на определённого человека  и обязательных для исполн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веряем!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39640" y="1268280"/>
          <a:ext cx="8229600" cy="5137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Проф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Специа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f6fa"/>
                          </a:solidFill>
                          <a:latin typeface="Constantia"/>
                        </a:rPr>
                        <a:t>Долж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Водитель  автомоб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ире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рора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Терапе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хир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Помощник юр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нжен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итель физ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Исполняющий обяза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Констру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трен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Учитель начальных кла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Тренер по волейбо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Зав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Главный констру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тро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стоматол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Начальник учас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8580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</a:rPr>
              <a:t>типы професс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50920" y="69228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4efff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Человек-тех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324480" y="6858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83763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83763"/>
                </a:solidFill>
                <a:latin typeface="Times New Roman"/>
              </a:rPr>
              <a:t>Человек-прир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352680" y="6858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Times New Roman"/>
              </a:rPr>
              <a:t>Человек-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04920" y="3657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6686d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6686d"/>
                </a:solidFill>
                <a:latin typeface="Times New Roman"/>
              </a:rPr>
              <a:t>Человек-знаковая систе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181480" y="335268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76a3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76a3"/>
                </a:solidFill>
                <a:latin typeface="Times New Roman"/>
              </a:rPr>
              <a:t>Человек-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879560" cy="1817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7010280" y="1600200"/>
            <a:ext cx="1755720" cy="1981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4"/>
          <a:stretch/>
        </p:blipFill>
        <p:spPr>
          <a:xfrm>
            <a:off x="1066680" y="4876920"/>
            <a:ext cx="2362320" cy="1734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"/>
          <p:cNvPicPr/>
          <p:nvPr/>
        </p:nvPicPr>
        <p:blipFill>
          <a:blip r:embed="rId5"/>
          <a:stretch/>
        </p:blipFill>
        <p:spPr>
          <a:xfrm>
            <a:off x="6248520" y="4724280"/>
            <a:ext cx="1692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0" y="190440"/>
            <a:ext cx="91440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профессий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Распределите  профессии по типам, заполнив таблиц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Водитель, биолог, оператор ПК, бухгалтер,  дизайнер, социальный работник, журналист, эколог, токарь, физик, учитель, вокалист, слесарь, зоотехник, строитель, кассир, врач, декоратор, судья, геолог, столяр, егерь, воспитатель, визажис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2060640"/>
          <a:ext cx="9144000" cy="1224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0" y="476280"/>
          <a:ext cx="9144000" cy="6121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4f5fa"/>
                          </a:solidFill>
                          <a:latin typeface="Constanti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оциаль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би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оператор 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дизай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эк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бухгалтер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журн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р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лес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зоотех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физ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ока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ге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деко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столя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еге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76a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6a3"/>
                          </a:solidFill>
                          <a:latin typeface="Constantia"/>
                        </a:rPr>
                        <a:t>визаж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5"/>
          <p:cNvSpPr/>
          <p:nvPr/>
        </p:nvSpPr>
        <p:spPr>
          <a:xfrm>
            <a:off x="755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bfefe"/>
                </a:solidFill>
                <a:latin typeface="Tahoma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4617b"/>
                </a:solidFill>
                <a:uFillTx/>
                <a:latin typeface="Calibri"/>
              </a:rPr>
              <a:t>Тестирование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три геометрические фигуры -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угольник, круг, квадрат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человечка, состоящего из 10 элементов. Должны быть использованы все три вида фигур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рисунка не имеет значения. Если нарисованы лишние элементы - их надо зачеркнуть, если их не хватает - дорисовать недостающи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259920"/>
            <a:ext cx="914400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 треугольников - тип руководителя, хорошие преподаватели. Ярко выражено стремление к лидерству, хорошо разбираются в людях, работают с информаци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о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треугольников. Ответственный исполнитель, хорошие организаторские способности. Профессионал, до мелочей продумывающий свою дея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и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треугольника. Разнообразие интересов и талантов. Склонность к индивидуальной рабо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твертый т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 треугольника. Тип ученого. Рационален, объективен, легко переключается с одного вида деятельности на друг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ятый ти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треугольника. Интерес к искусству и человеку. Тонко чувствует все новое и необычн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естой тип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треугольник. Изобретатель, конструктор, художник. Обладает богатым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ображ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1258920" y="733320"/>
            <a:ext cx="788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Рабочий? Строитель? Учитель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Кто нужен России сейчас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А, может быть, врач-исцелитель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Сегодня важнее для нас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Быть может нужней инженеры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Возможно, ученый важней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А, может, нужней офицеры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Чтоб армию сделать сильней?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Отбросьте ненужные споры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О том, кто важней для страны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Ответим: для нашей России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Профессии все нужны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                                                (Ф.С. Махов</a:t>
            </a:r>
            <a:r>
              <a:rPr b="0" i="1" lang="ru-RU" sz="2800" spc="-1" strike="noStrike">
                <a:solidFill>
                  <a:srgbClr val="002060"/>
                </a:solidFill>
                <a:latin typeface="Tahoma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6" descr="j0356712"/>
          <p:cNvPicPr/>
          <p:nvPr/>
        </p:nvPicPr>
        <p:blipFill>
          <a:blip r:embed="rId1"/>
          <a:stretch/>
        </p:blipFill>
        <p:spPr>
          <a:xfrm>
            <a:off x="7308720" y="2708280"/>
            <a:ext cx="1835280" cy="2233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j0356784"/>
          <p:cNvPicPr/>
          <p:nvPr/>
        </p:nvPicPr>
        <p:blipFill>
          <a:blip r:embed="rId2"/>
          <a:stretch/>
        </p:blipFill>
        <p:spPr>
          <a:xfrm>
            <a:off x="0" y="4913280"/>
            <a:ext cx="1547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ймись таким трудом, который приносил бы тебе честь и доход»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34880" y="46944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пехов в выборе профессии!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4" descr="Entertainment-02"/>
          <p:cNvPicPr/>
          <p:nvPr/>
        </p:nvPicPr>
        <p:blipFill>
          <a:blip r:embed="rId1"/>
          <a:stretch/>
        </p:blipFill>
        <p:spPr>
          <a:xfrm>
            <a:off x="4500720" y="3584520"/>
            <a:ext cx="4174920" cy="29401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611280" y="3284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всем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742240" cy="1103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9" name="Овал 3"/>
          <p:cNvGrpSpPr/>
          <p:nvPr/>
        </p:nvGrpSpPr>
        <p:grpSpPr>
          <a:xfrm>
            <a:off x="2395440" y="3638520"/>
            <a:ext cx="2378160" cy="2232000"/>
            <a:chOff x="2395440" y="3638520"/>
            <a:chExt cx="2378160" cy="2232000"/>
          </a:xfrm>
        </p:grpSpPr>
        <p:pic>
          <p:nvPicPr>
            <p:cNvPr id="220" name="Овал 3" descr=""/>
            <p:cNvPicPr/>
            <p:nvPr/>
          </p:nvPicPr>
          <p:blipFill>
            <a:blip r:embed="rId2"/>
            <a:stretch/>
          </p:blipFill>
          <p:spPr>
            <a:xfrm>
              <a:off x="2395440" y="3638520"/>
              <a:ext cx="237816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97200" y="3979800"/>
              <a:ext cx="157788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хоч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" name="Овал 5"/>
          <p:cNvGrpSpPr/>
          <p:nvPr/>
        </p:nvGrpSpPr>
        <p:grpSpPr>
          <a:xfrm>
            <a:off x="4389480" y="3651120"/>
            <a:ext cx="2297160" cy="2200320"/>
            <a:chOff x="4389480" y="3651120"/>
            <a:chExt cx="2297160" cy="2200320"/>
          </a:xfrm>
        </p:grpSpPr>
        <p:pic>
          <p:nvPicPr>
            <p:cNvPr id="223" name="Овал 5" descr=""/>
            <p:cNvPicPr/>
            <p:nvPr/>
          </p:nvPicPr>
          <p:blipFill>
            <a:blip r:embed="rId3"/>
            <a:stretch/>
          </p:blipFill>
          <p:spPr>
            <a:xfrm>
              <a:off x="4389480" y="3651120"/>
              <a:ext cx="22971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5040" y="3990960"/>
              <a:ext cx="152892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надо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" name="Овал 6"/>
          <p:cNvGrpSpPr/>
          <p:nvPr/>
        </p:nvGrpSpPr>
        <p:grpSpPr>
          <a:xfrm>
            <a:off x="3359160" y="1884240"/>
            <a:ext cx="2401920" cy="2370240"/>
            <a:chOff x="3359160" y="1884240"/>
            <a:chExt cx="2401920" cy="2370240"/>
          </a:xfrm>
        </p:grpSpPr>
        <p:pic>
          <p:nvPicPr>
            <p:cNvPr id="226" name="Овал 6" descr=""/>
            <p:cNvPicPr/>
            <p:nvPr/>
          </p:nvPicPr>
          <p:blipFill>
            <a:blip r:embed="rId4"/>
            <a:stretch/>
          </p:blipFill>
          <p:spPr>
            <a:xfrm>
              <a:off x="3359160" y="1884240"/>
              <a:ext cx="240192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760920" y="2247840"/>
              <a:ext cx="15937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могу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Равнобедренный треугольник 8"/>
          <p:cNvGrpSpPr/>
          <p:nvPr/>
        </p:nvGrpSpPr>
        <p:grpSpPr>
          <a:xfrm>
            <a:off x="3724200" y="3681360"/>
            <a:ext cx="1470240" cy="1378080"/>
            <a:chOff x="3724200" y="3681360"/>
            <a:chExt cx="1470240" cy="1378080"/>
          </a:xfrm>
        </p:grpSpPr>
        <p:pic>
          <p:nvPicPr>
            <p:cNvPr id="229" name="Равнобедренный треугольник 8" descr=""/>
            <p:cNvPicPr/>
            <p:nvPr/>
          </p:nvPicPr>
          <p:blipFill>
            <a:blip r:embed="rId5"/>
            <a:stretch/>
          </p:blipFill>
          <p:spPr>
            <a:xfrm>
              <a:off x="3724200" y="3681360"/>
              <a:ext cx="14702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10800000">
              <a:off x="4128840" y="3716280"/>
              <a:ext cx="6620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31" name="Прямая со стрелкой 10"/>
          <p:cNvCxnSpPr/>
          <p:nvPr/>
        </p:nvCxnSpPr>
        <p:spPr>
          <a:xfrm>
            <a:off x="1666440" y="990720"/>
            <a:ext cx="1607400" cy="2118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 spd="slow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matematika_carica_nauk_1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642960" y="242892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Желаем удачи во взаимодействии с родителям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matematika_carica_nauk_1"/>
          <p:cNvPicPr/>
          <p:nvPr/>
        </p:nvPicPr>
        <p:blipFill>
          <a:blip r:embed="rId2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755640" y="15573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ние 1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ЗМИНКА-ЮМОРИНКА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826920" y="321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вить буквы в предложенных словах так, чтобы получились названия професс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2. «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br>
              <a:rPr sz="27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C:\Users\я\Desktop\b15d3a2774993f93a5ba8529ee7.jpg"/>
          <p:cNvPicPr/>
          <p:nvPr/>
        </p:nvPicPr>
        <p:blipFill>
          <a:blip r:embed="rId1"/>
          <a:stretch/>
        </p:blipFill>
        <p:spPr>
          <a:xfrm>
            <a:off x="1557360" y="2286000"/>
            <a:ext cx="6526080" cy="3795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я\Desktop\b15d3a2774993f93a5ba8529ee7.jpg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Ориентир в новых профессиях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1. Логис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занимается логико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 по организации транспортировки продук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257480" indent="-34308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рганизатор конференций и научных саммит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2.Веб-маст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 , кто работает на компьютер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чик про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чик проектов сай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3. Маркетолог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работает на рынке ценных бумаг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 по изучению рын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изучает товарные марки и бренд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4. Фандрайз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т, кто ищет деньги и возможности для организ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анат, которого нанимает «звезда»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пециалист, изучающий пути развития предприят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01:27Z</dcterms:created>
  <dc:creator>Admin</dc:creator>
  <dc:description/>
  <dc:language>en-US</dc:language>
  <cp:lastModifiedBy>Шемякин Н.Г.</cp:lastModifiedBy>
  <dcterms:modified xsi:type="dcterms:W3CDTF">2015-04-18T04:41:12Z</dcterms:modified>
  <cp:revision>94</cp:revision>
  <dc:subject/>
  <dc:title>Слайд 1</dc:title>
</cp:coreProperties>
</file>