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ADDE8-65B9-443E-A7AC-57877ADF8F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7D80B0-0F47-43EF-A0FB-24B097966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F442-7730-4A02-BCB4-AAB74B69C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4FE7-2B78-46F2-B82D-3CD9D5521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3680-A986-48FC-A454-A0AE48F1E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F89F-777D-4DB2-8588-A0BD91DA5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ADFA-7780-4094-B1C0-8B344A59E0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9C855-C4A0-4D79-BCA3-C8B8EC59EA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82265-3C1B-4ED0-ABBA-4DC540EF1F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EC6F-440A-4240-98B5-7FDA2B1EF7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6E56-1D75-491D-8FFA-726ADAD372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45DE-25FD-4F83-9907-CEA63F0864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CD63-469C-4F34-855A-CB5200D31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27A8-CE38-46B2-8025-716533499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01A5-A054-4E2F-AB4C-6F6CF4E53B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94B2-6C5F-473A-90A7-4A337262B2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DCD3-A082-4339-9322-024F1A347F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3360-6554-4DE5-B278-04F3DF2923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3061-7681-441E-AD71-B13D5E809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9CEE-C86D-4A26-B148-20DA4C342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0082-DBEC-40D2-AF1C-805C4C5F7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07C8-3F89-4FBD-9853-BACE85714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EDF6-9B03-4410-A295-195CF484F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DC71-45DE-4482-809E-742925274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FFFC-A389-4A12-972C-3F313A46C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E62C-1024-4B1A-862E-BAA346C57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3960" y="128880"/>
                    <a:ext cx="2700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560" y="62280"/>
                    <a:ext cx="41400" cy="554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49320"/>
                    <a:ext cx="6372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6320" y="99360"/>
                    <a:ext cx="21960" cy="60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0680" y="166320"/>
                    <a:ext cx="36720" cy="399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9080" cy="193824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7520" cy="19987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0480" cy="403560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8120" cy="21830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2600" cy="50468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8280" cy="3070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4920" cy="335124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8440" cy="33512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3520" cy="6174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6320"/>
              <a:ext cx="6856560" cy="223920"/>
            </a:xfrm>
            <a:prstGeom prst="pie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404C14-3C3F-4EE1-91F2-D00E209A49F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116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11160"/>
              <a:ext cx="1201680" cy="68454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0"/>
              <a:ext cx="1293840" cy="6308280"/>
              <a:chOff x="7848720" y="0"/>
              <a:chExt cx="1293840" cy="63082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0"/>
                <a:ext cx="760680" cy="2276280"/>
                <a:chOff x="8381880" y="0"/>
                <a:chExt cx="760680" cy="22762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17040" y="0"/>
                  <a:ext cx="277560" cy="272160"/>
                  <a:chOff x="8717040" y="0"/>
                  <a:chExt cx="277560" cy="27216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17040" y="0"/>
                    <a:ext cx="277560" cy="272160"/>
                    <a:chOff x="8717040" y="0"/>
                    <a:chExt cx="277560" cy="27216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55920" y="-38880"/>
                      <a:ext cx="199440" cy="277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65280" y="90720"/>
                      <a:ext cx="138960" cy="223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36920" y="138600"/>
                    <a:ext cx="2664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68520" y="73080"/>
                    <a:ext cx="41040" cy="55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41600" y="60480"/>
                    <a:ext cx="6336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908920" y="108360"/>
                    <a:ext cx="21960" cy="60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36920" y="199800"/>
                    <a:ext cx="6156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83640" y="176760"/>
                    <a:ext cx="3636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40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40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2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04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0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760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8120"/>
                <a:ext cx="826920" cy="4700160"/>
                <a:chOff x="7848720" y="1608120"/>
                <a:chExt cx="826920" cy="470016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72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96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36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6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34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92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80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34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11840"/>
              <a:ext cx="1189080" cy="193500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61080"/>
              <a:ext cx="1217520" cy="19954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24200"/>
              <a:ext cx="1230480" cy="402912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43480"/>
              <a:ext cx="978120" cy="21794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38120"/>
              <a:ext cx="912600" cy="50389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72880"/>
              <a:ext cx="908280" cy="30657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11160"/>
              <a:ext cx="574920" cy="334476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2600"/>
              <a:ext cx="298440" cy="33465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2600"/>
              <a:ext cx="87480" cy="68454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30880"/>
              <a:ext cx="1163520" cy="6159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31160" y="3321720"/>
              <a:ext cx="6845400" cy="223920"/>
            </a:xfrm>
            <a:prstGeom prst="pie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F9CF8E-26E7-4597-AC83-CBF1C28E229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500560" cy="2786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214960" y="3714840"/>
            <a:ext cx="2486160" cy="2730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85800" y="1370160"/>
            <a:ext cx="6966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079640"/>
            <a:ext cx="684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80"/>
                </a:solidFill>
                <a:latin typeface="Arial"/>
                <a:ea typeface="Microsoft YaHei"/>
              </a:rPr>
              <a:t>РУКОВОДСТВО НАЧИНАЮЩЕМУ ЗАВУ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800360"/>
            <a:ext cx="738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ff00"/>
                </a:solidFill>
                <a:latin typeface="Arial"/>
                <a:ea typeface="Microsoft YaHei"/>
              </a:rPr>
              <a:t>Смысл, назначение и основная цель деятельности завуча состоит в технологизации образовательного процесса и управления 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Microsoft YaHei"/>
              </a:rPr>
              <a:t>Можно утверждать, что завуч – это технолог учебного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539640"/>
            <a:ext cx="57596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9280" y="179280"/>
            <a:ext cx="74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Bookman Old Style"/>
                <a:ea typeface="Microsoft YaHei"/>
              </a:rPr>
              <a:t>Технологическая цепочка 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0360" y="1227240"/>
            <a:ext cx="88200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АГНОСТИКА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анализ деятельности шко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ЛЕПОЛАГАНИ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отдаленные и близкие ц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"/>
              </a:rPr>
              <a:t>ПРОГНОЗИРОВАНИЕ</a:t>
            </a:r>
            <a:br>
              <a:rPr sz="2400"/>
            </a:br>
            <a:r>
              <a:rPr b="1" lang="ru-RU" sz="2400" spc="-1" strike="noStrike">
                <a:solidFill>
                  <a:srgbClr val="7e0021"/>
                </a:solidFill>
                <a:latin typeface="Arial"/>
              </a:rPr>
              <a:t>(предвидение будущих потребностей, тенденций развития, вероятных проблем, возможных последств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Arial"/>
              </a:rPr>
              <a:t>ПРОЕКТИРОВАНИЕ</a:t>
            </a:r>
            <a:br>
              <a:rPr sz="2400"/>
            </a:br>
            <a:r>
              <a:rPr b="1" lang="ru-RU" sz="2400" spc="-1" strike="noStrike">
                <a:solidFill>
                  <a:srgbClr val="00ae00"/>
                </a:solidFill>
                <a:latin typeface="Arial"/>
              </a:rPr>
              <a:t>(создание концепции, программы развит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ОНСТРУИРОВАНИЕ</a:t>
            </a:r>
            <a:br>
              <a:rPr sz="2400"/>
            </a:b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разработка направлений и конкрет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одержания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7160"/>
            <a:ext cx="785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0360" y="1440000"/>
            <a:ext cx="75596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ПЕДАГОГИЧЕСКАЯ КОММУНИКАЦИЯ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(общение, отношения, устранение противоречий, разрешение конфликтов, оценка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ОРГАНИЗАЦИЯ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(концентрация усилий, распределение ролей, мотивация, стимулирование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b0094"/>
                </a:solidFill>
                <a:latin typeface="Times New Roman"/>
                <a:ea typeface="Lucida Sans Unicode"/>
              </a:rPr>
              <a:t>РЕЗУЛЬТАТ</a:t>
            </a:r>
            <a:br>
              <a:rPr sz="2400"/>
            </a:br>
            <a:r>
              <a:rPr b="1" lang="ru-RU" sz="2400" spc="-1" strike="noStrike">
                <a:solidFill>
                  <a:srgbClr val="6b0094"/>
                </a:solidFill>
                <a:latin typeface="Times New Roman"/>
                <a:ea typeface="Lucida Sans Unicode"/>
              </a:rPr>
              <a:t>(сравнимый и прогнозируемым и затра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ДИАГНОСТИКА + КОРРЕКЦИЯ, РЕГУЛИРОВАНИЕ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(контроль, оце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360360"/>
            <a:ext cx="74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Bookman Old Style"/>
                <a:ea typeface="Microsoft YaHei"/>
              </a:rPr>
              <a:t>Технологическая цепочка 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73760" y="2519280"/>
            <a:ext cx="237024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04840"/>
            <a:ext cx="785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6729"/>
                </a:solidFill>
                <a:latin typeface="Bookman Old Style"/>
                <a:ea typeface="Microsoft YaHei"/>
              </a:rPr>
              <a:t>Правила, которых следует придерживаться в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3520" y="1284120"/>
            <a:ext cx="78357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Microsoft YaHei"/>
              </a:rPr>
              <a:t>1) Отсутствие в первой половине рабочего дня разборов различных конфликтных ситуаций, длительных бесед и разговоров “по душам” с подчиненными. Все попытки отвлечь от решения текущих заранее запланированных задач пресекаются вежливо, но решительно. Т.о. все учителя постепенно привыкли к тому, что все беседы и разговоры проводятся в конце рабочего дня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Microsoft YaHei"/>
              </a:rPr>
              <a:t>2) Все вопросы, касающиеся компетенции тех или иных сотрудников не решаются в их отсут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Microsoft YaHei"/>
              </a:rPr>
              <a:t>Кроме того, принятие решений по вопросам, входящих в компетенцию отсутствующих сотрудников может отрицательно сказаться на их самостоятельности, инициативе, задеть самолюб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00720" y="5219640"/>
            <a:ext cx="4643280" cy="15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16005" r="-365" b="0"/>
          <a:stretch/>
        </p:blipFill>
        <p:spPr>
          <a:xfrm>
            <a:off x="357120" y="5072040"/>
            <a:ext cx="2868840" cy="1600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43680" y="4000680"/>
            <a:ext cx="2557440" cy="2557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3160" y="493560"/>
            <a:ext cx="73864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Microsoft YaHei"/>
              </a:rPr>
              <a:t>3) Максимальное использование в повседневной работе компьютера и других средств передачи оперативной информ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  <a:ea typeface="Microsoft YaHei"/>
              </a:rPr>
              <a:t>4) Обязательная фиксация информации о ходе учебно-воспитательного процесса в специальной тетради (фиксация замечаний и предложений педагогов, даже высказанная не в корректной форме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ff00"/>
                </a:solidFill>
                <a:latin typeface="Arial"/>
                <a:ea typeface="Microsoft YaHei"/>
              </a:rPr>
              <a:t>5) Успешность совместной работы – полная согласованность дейст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3040" y="38019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6729"/>
                </a:solidFill>
                <a:latin typeface="Arial"/>
                <a:ea typeface="Microsoft YaHei"/>
              </a:rPr>
              <a:t>Основные направления деятельности завуча по руководству учебным проце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4200" y="1071720"/>
            <a:ext cx="743580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Microsoft YaHei"/>
              </a:rPr>
              <a:t>1) Работа по выполнению закона “Об образовании”, Концепции о непрерывном образовании и реализации нормативных док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2) Работа с педагогическими кад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3) Методическая работа.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  <a:ea typeface="Microsoft YaHei"/>
              </a:rPr>
              <a:t>4) Работа служб сопровождения.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5) Организация дополнительного образования. Работа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  <a:ea typeface="Microsoft YaHei"/>
              </a:rPr>
              <a:t>6) Внеклассная и воспитательная работа. Система внутришколь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60360" y="274680"/>
            <a:ext cx="7477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6729"/>
                </a:solidFill>
                <a:latin typeface="Arial"/>
              </a:rPr>
              <a:t>Завуч должен взять за прави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Не вмешиваться в ход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Проводить односторонний анализ или переносить его на друго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Анализ должен опираться на положительное в работе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вленческая работа в учебном заведении – сложная и многогран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140360" y="3780000"/>
            <a:ext cx="3581280" cy="2768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82440" y="3780000"/>
            <a:ext cx="368136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96840" y="270000"/>
            <a:ext cx="747720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Заповеди завуч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666729"/>
                </a:solidFill>
                <a:latin typeface="Arial"/>
              </a:rPr>
              <a:t>Будь таким руководителем, какому бы хотел подчиняться с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000080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000080"/>
                </a:solidFill>
                <a:latin typeface="Arial"/>
              </a:rPr>
              <a:t>Управляя людьми, обходись по возможности, без приказов, проявляй деликатность, не оказывай явного давления, вызывающего желание противодействов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7e0021"/>
                </a:solidFill>
                <a:latin typeface="Arial"/>
              </a:rPr>
              <a:t>Руководи так, чтобы люди стремились к сотрудничеству и общению с тобой, не чувствовали, что ими управля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0084d1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0084d1"/>
                </a:solidFill>
                <a:latin typeface="Arial"/>
              </a:rPr>
              <a:t>Владей педагогической техникой (умения управлять собой, умения управлять другим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Будь гуманистом. Ставь превыше всего интересы д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Радуйся каждому достижению, любому, даже незначительному, успеху.</a:t>
            </a:r>
            <a:r>
              <a:rPr b="1" lang="ru-RU" sz="22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b80047"/>
                </a:solidFill>
                <a:latin typeface="Arial"/>
              </a:rPr>
              <a:t>Оставайся реалистом и оптимис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0360" y="3419640"/>
            <a:ext cx="2303640" cy="324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559640" y="11160"/>
            <a:ext cx="15778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4:34:13Z</dcterms:created>
  <dc:creator>User</dc:creator>
  <dc:description/>
  <dc:language>en-US</dc:language>
  <cp:lastModifiedBy>4</cp:lastModifiedBy>
  <dcterms:modified xsi:type="dcterms:W3CDTF">2012-01-12T04:00:56Z</dcterms:modified>
  <cp:revision>36</cp:revision>
  <dc:subject/>
  <dc:title> </dc:title>
</cp:coreProperties>
</file>