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EDB82-598D-4186-8E0A-4EF048DF0F4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86EFB3-57C1-4243-9A80-BDA6F6AC9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24E6-6316-4D48-87FC-CC2A03CF8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AE40-7180-4EF9-88C8-25C426FEB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64E8-5505-4263-B502-157EB70C4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5B32-E54A-4B60-8EEA-4B105A8FF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CE99-BD89-4B9D-9487-33B188AC66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42EF-0542-4931-8B08-7646077444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7BED-4C6E-4F91-B428-86E99A4E60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769D-C7CC-4092-8F44-D5762F65B2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516D-E175-4BFF-8F69-6B1198188C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AAF2-ECBF-451D-9AF8-646915F33D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0926-0780-44EC-BD89-0B787162A6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567E-E26E-4286-A36B-978BDD860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0325-3D64-445E-95C4-10B066BC69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0E81-D072-4EDC-93CF-74AF757E96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D500-4F98-41D6-990A-B1C84EDA6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4764-7D8D-4843-8EB9-9563CD3FC5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113F-83A4-4EBE-8B16-BE5ACC2AA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A39E-70E3-408E-AA25-594D3D435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4DEB-CBF7-48A8-B9EA-C9C3D0639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0285-4227-4197-96B5-883CB8F60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F4CB-0AC8-47FA-B154-B10A01675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62AE-1EB7-4733-8CF4-2AF6645CA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321D-7454-42B8-844C-6EC68DBE7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1113-881D-412E-9DB3-A7F02C53F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3960" y="128880"/>
                    <a:ext cx="2700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62280"/>
                    <a:ext cx="41400" cy="554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49320"/>
                    <a:ext cx="6372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6320" y="99360"/>
                    <a:ext cx="21960" cy="60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0680" y="166320"/>
                    <a:ext cx="36720" cy="399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3DD7E-50EB-4F65-9B8F-98A0B40481C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116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11160"/>
              <a:ext cx="1201680" cy="68454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0"/>
              <a:ext cx="1293840" cy="6308280"/>
              <a:chOff x="7848720" y="0"/>
              <a:chExt cx="1293840" cy="63082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0"/>
                <a:ext cx="760680" cy="2276280"/>
                <a:chOff x="8381880" y="0"/>
                <a:chExt cx="760680" cy="22762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17040" y="0"/>
                  <a:ext cx="277560" cy="272160"/>
                  <a:chOff x="8717040" y="0"/>
                  <a:chExt cx="277560" cy="27216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17040" y="0"/>
                    <a:ext cx="277560" cy="272160"/>
                    <a:chOff x="8717040" y="0"/>
                    <a:chExt cx="277560" cy="27216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55920" y="-38880"/>
                      <a:ext cx="199440" cy="277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65280" y="90720"/>
                      <a:ext cx="138960" cy="2235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36920" y="138600"/>
                    <a:ext cx="2664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68520" y="73080"/>
                    <a:ext cx="41040" cy="55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41600" y="60480"/>
                    <a:ext cx="6336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908920" y="108360"/>
                    <a:ext cx="21960" cy="60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36920" y="199800"/>
                    <a:ext cx="6156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83640" y="176760"/>
                    <a:ext cx="3636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40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40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2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04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0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760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8120"/>
                <a:ext cx="826920" cy="4700160"/>
                <a:chOff x="7848720" y="1608120"/>
                <a:chExt cx="826920" cy="470016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72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96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36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06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34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892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80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560"/>
                  <a:ext cx="2934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36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11840"/>
              <a:ext cx="1189080" cy="193500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61080"/>
              <a:ext cx="1217520" cy="19954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24200"/>
              <a:ext cx="1230480" cy="402912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43480"/>
              <a:ext cx="978120" cy="21794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38120"/>
              <a:ext cx="912600" cy="50389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72880"/>
              <a:ext cx="908280" cy="30657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11160"/>
              <a:ext cx="574920" cy="334476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2600"/>
              <a:ext cx="298440" cy="33465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2600"/>
              <a:ext cx="87480" cy="68454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30880"/>
              <a:ext cx="1163520" cy="6159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31160" y="3321720"/>
              <a:ext cx="6845400" cy="22392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58EBBF-6C11-4AA9-AF09-0AB081DA474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14960" y="3714840"/>
            <a:ext cx="2486160" cy="2730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85800" y="1370160"/>
            <a:ext cx="6966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079640"/>
            <a:ext cx="684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Arial"/>
                <a:ea typeface="Microsoft YaHei"/>
              </a:rPr>
              <a:t>РУКОВОДСТВО НАЧИНАЮЩЕМУ ЗАВУ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800360"/>
            <a:ext cx="738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ff00"/>
                </a:solidFill>
                <a:latin typeface="Arial"/>
                <a:ea typeface="Microsoft YaHei"/>
              </a:rPr>
              <a:t>Смысл, назначение и основная цель деятельности завуча состоит в технологизации образовательного процесса и управления 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Microsoft YaHei"/>
              </a:rPr>
              <a:t>Можно утверждать, что завуч – это технолог учебного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539640"/>
            <a:ext cx="57596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9280" y="179280"/>
            <a:ext cx="74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Bookman Old Style"/>
                <a:ea typeface="Microsoft YaHei"/>
              </a:rPr>
              <a:t>Технологическая цепочка 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0360" y="1227240"/>
            <a:ext cx="88200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АГНОСТИКА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анализ деятельности шко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ЛЕПОЛАГАНИ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отдаленные и близкие ц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"/>
              </a:rPr>
              <a:t>ПРОГНОЗИРОВАНИЕ</a:t>
            </a:r>
            <a:br>
              <a:rPr sz="2400"/>
            </a:br>
            <a:r>
              <a:rPr b="1" lang="ru-RU" sz="2400" spc="-1" strike="noStrike">
                <a:solidFill>
                  <a:srgbClr val="7e0021"/>
                </a:solidFill>
                <a:latin typeface="Arial"/>
              </a:rPr>
              <a:t>(предвидение будущих потребностей, тенденций развития, вероятных проблем, возможных последств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Arial"/>
              </a:rPr>
              <a:t>ПРОЕКТИРОВАНИЕ</a:t>
            </a:r>
            <a:br>
              <a:rPr sz="2400"/>
            </a:br>
            <a:r>
              <a:rPr b="1" lang="ru-RU" sz="2400" spc="-1" strike="noStrike">
                <a:solidFill>
                  <a:srgbClr val="00ae00"/>
                </a:solidFill>
                <a:latin typeface="Arial"/>
              </a:rPr>
              <a:t>(создание концепции, программы развит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ОНСТРУИРОВАНИЕ</a:t>
            </a:r>
            <a:br>
              <a:rPr sz="2400"/>
            </a:b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(разработка направлений и конкрет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одержания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7160"/>
            <a:ext cx="785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0360" y="1440000"/>
            <a:ext cx="755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ПЕДАГОГИЧЕСКАЯ КОММУНИКАЦИЯ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(общение, отношения, устранение противоречий, разрешение конфликтов, оценка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ОРГАНИЗАЦИЯ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(концентрация усилий, распределение ролей, мотивация, стимулирование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b0094"/>
                </a:solidFill>
                <a:latin typeface="Times New Roman"/>
                <a:ea typeface="Lucida Sans Unicode"/>
              </a:rPr>
              <a:t>РЕЗУЛЬТАТ</a:t>
            </a:r>
            <a:br>
              <a:rPr sz="2400"/>
            </a:br>
            <a:r>
              <a:rPr b="1" lang="ru-RU" sz="2400" spc="-1" strike="noStrike">
                <a:solidFill>
                  <a:srgbClr val="6b0094"/>
                </a:solidFill>
                <a:latin typeface="Times New Roman"/>
                <a:ea typeface="Lucida Sans Unicode"/>
              </a:rPr>
              <a:t>(сравнимый и прогнозируемым и затра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ДИАГНОСТИКА + КОРРЕКЦИЯ, РЕГУЛИРОВАНИЕ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(контроль, оце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360360"/>
            <a:ext cx="74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729"/>
                </a:solidFill>
                <a:latin typeface="Bookman Old Style"/>
                <a:ea typeface="Microsoft YaHei"/>
              </a:rPr>
              <a:t>Технологическая цепочка 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73760" y="2519280"/>
            <a:ext cx="237024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04840"/>
            <a:ext cx="785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6729"/>
                </a:solidFill>
                <a:latin typeface="Bookman Old Style"/>
                <a:ea typeface="Microsoft YaHei"/>
              </a:rPr>
              <a:t>Правила, которых следует придерживаться в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3520" y="1284120"/>
            <a:ext cx="78357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Microsoft YaHei"/>
              </a:rPr>
              <a:t>1) Отсутствие в первой половине рабочего дня разборов различных конфликтных ситуаций, длительных бесед и разговоров “по душам” с подчиненными. Все попытки отвлечь от решения текущих заранее запланированных задач пресекаются вежливо, но решительно. Т.о. все учителя постепенно привыкли к тому, что все беседы и разговоры проводятся в конце рабочего дня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2) Все вопросы, касающиеся компетенции тех или иных сотрудников не решаются в их отсу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Кроме того, принятие решений по вопросам, входящих в компетенцию отсутствующих сотрудников может отрицательно сказаться на их самостоятельности, инициативе, задеть самолюб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00720" y="5219640"/>
            <a:ext cx="4643280" cy="15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16005" r="-365" b="0"/>
          <a:stretch/>
        </p:blipFill>
        <p:spPr>
          <a:xfrm>
            <a:off x="357120" y="5072040"/>
            <a:ext cx="2868840" cy="160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43680" y="4000680"/>
            <a:ext cx="2557440" cy="2557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3160" y="493560"/>
            <a:ext cx="73864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Microsoft YaHei"/>
              </a:rPr>
              <a:t>3) Максимальное использование в повседневной работе компьютера и других средств передачи оперативной информ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  <a:ea typeface="Microsoft YaHei"/>
              </a:rPr>
              <a:t>4) Обязательная фиксация информации о ходе учебно-воспитательного процесса в специальной тетради (фиксация замечаний и предложений педагогов, даже высказанная не в корректной форме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ff00"/>
                </a:solidFill>
                <a:latin typeface="Arial"/>
                <a:ea typeface="Microsoft YaHei"/>
              </a:rPr>
              <a:t>5) Успешность совместной работы – полная согласованность дейст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3040" y="38019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6729"/>
                </a:solidFill>
                <a:latin typeface="Arial"/>
                <a:ea typeface="Microsoft YaHei"/>
              </a:rPr>
              <a:t>Основные направления деятельности завуча по руководству учебным процес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4200" y="1071720"/>
            <a:ext cx="743580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Microsoft YaHei"/>
              </a:rPr>
              <a:t>1) Работа по выполнению закона “Об образовании”, Концепции о непрерывном образовании и реализации нормативных док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2) Работа с педагогическими кад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3) Методическая работа.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ae00"/>
                </a:solidFill>
                <a:latin typeface="Arial"/>
                <a:ea typeface="Microsoft YaHei"/>
              </a:rPr>
              <a:t>4) Работа служб сопровождения.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Microsoft YaHei"/>
              </a:rPr>
              <a:t>5) Организация дополнительного образования. Работа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  <a:ea typeface="Microsoft YaHei"/>
              </a:rPr>
              <a:t>6) Внеклассная и воспитательная работа. Система внутришколь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0360" y="274680"/>
            <a:ext cx="7477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729"/>
                </a:solidFill>
                <a:latin typeface="Arial"/>
              </a:rPr>
              <a:t>Завуч должен взять за прави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Не вмешиваться в ход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Проводить односторонний анализ или переносить его на друго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Анализ должен опираться на положительное в работе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вленческая работа в учебном заведении – сложная и многогран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140360" y="3780000"/>
            <a:ext cx="3581280" cy="2768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82440" y="3780000"/>
            <a:ext cx="368136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96840" y="270000"/>
            <a:ext cx="74772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Заповеди завуч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666729"/>
                </a:solidFill>
                <a:latin typeface="Arial"/>
              </a:rPr>
              <a:t>Будь таким руководителем, какому бы хотел подчиняться с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000080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Управляя людьми, обходись по возможности, без приказов, проявляй деликатность, не оказывай явного давления, вызывающего желание противодействов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7e0021"/>
                </a:solidFill>
                <a:latin typeface="Arial"/>
              </a:rPr>
              <a:t>Руководи так, чтобы люди стремились к сотрудничеству и общению с тобой, не чувствовали, что ими управля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0084d1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0084d1"/>
                </a:solidFill>
                <a:latin typeface="Arial"/>
              </a:rPr>
              <a:t>Владей педагогической техникой (умения управлять собой, умения управлять другим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Будь гуманистом. Ставь превыше всего интересы д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333333"/>
                </a:solidFill>
                <a:latin typeface="Arial"/>
              </a:rPr>
              <a:t>Радуйся каждому достижению, любому, даже незначительному, успеху.</a:t>
            </a:r>
            <a:r>
              <a:rPr b="1" lang="ru-RU" sz="22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·</a:t>
            </a:r>
            <a:r>
              <a:rPr b="1" lang="ru-RU" sz="2200" spc="-1" strike="noStrike">
                <a:solidFill>
                  <a:srgbClr val="666729"/>
                </a:solidFill>
                <a:latin typeface="Symbol"/>
                <a:ea typeface="Symbol"/>
              </a:rPr>
              <a:t>	</a:t>
            </a:r>
            <a:r>
              <a:rPr b="1" lang="ru-RU" sz="2200" spc="-1" strike="noStrike">
                <a:solidFill>
                  <a:srgbClr val="b80047"/>
                </a:solidFill>
                <a:latin typeface="Arial"/>
              </a:rPr>
              <a:t>Оставайся реалистом и оптимис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0360" y="3419640"/>
            <a:ext cx="2303640" cy="32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59640" y="11160"/>
            <a:ext cx="15778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4:34:13Z</dcterms:created>
  <dc:creator>User</dc:creator>
  <dc:description/>
  <dc:language>en-US</dc:language>
  <cp:lastModifiedBy>4</cp:lastModifiedBy>
  <dcterms:modified xsi:type="dcterms:W3CDTF">2012-01-12T04:00:56Z</dcterms:modified>
  <cp:revision>36</cp:revision>
  <dc:subject/>
  <dc:title> </dc:title>
</cp:coreProperties>
</file>