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C640-AA34-413E-B3F7-9AA4E7D6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226F-F736-4244-8BD2-AF512E9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4F40-C722-4E45-B634-92C299B6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7F7C-1DC1-4722-9822-5BA38EE6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A723-783C-4C86-9C2D-52110EC1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049-8A32-47D2-B240-1D154CA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FBA9-3192-4F25-A803-7FDB248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0C1B-AB93-4BE5-8F21-4CADF20B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4C77-46DF-41F1-AF4A-F734F6C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FF44-48F5-4B51-BF69-619731B9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C508-187B-4598-8BD4-7D193A2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2DEA-A951-4D6C-8CE8-23D412F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26A1-A9FD-44FB-AE80-5378B5C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BB3C-B849-4243-AF43-ECE645F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929D-F295-4C72-BA47-536E1D3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521-9059-4FEC-BD8E-A8BE2714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4ED7-4D03-47AA-AAC5-EBD97206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41ED-902D-47A3-BC5C-8658DE7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680F-D1B6-4947-8631-F6E73FB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2A88-2FC5-4876-8276-EEE4C6C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E785-09C2-4411-8B12-13E00BD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7DC9-F880-4D29-A23B-39A388B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A9F3-67EB-4DB0-91F1-80802BF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DC63-4384-427C-A592-2CA8D45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4AA-AF48-4435-8451-81F2BC9B39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941D-DD66-4506-AEB9-AE2167AA3F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1342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утешествие с Буратино в страну занимательной арифметики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рогие мои друзья-школь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очень рад, что вы знаете сказку “Золотой ключик” так хорошо, из неё я пришёл к вам. Большое вам спасибо! Пишу это письмо и хочу обратиться к вам за помощью. Герои сказки прислали мне свои задания по математике, которые мне нужно решить. А так, как я не пошёл в школу и умею считать только до 5, то прошу вас помочь мне решить эти задачи! Заранее вам благодарен! Желаю успеха! Буратино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333360"/>
          <a:ext cx="8424720" cy="5430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-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4+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+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+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+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4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+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-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+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+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7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+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+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+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-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7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гический квадр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гический квадр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308720" y="-171360"/>
            <a:ext cx="1923840" cy="1330200"/>
            <a:chOff x="7308720" y="-171360"/>
            <a:chExt cx="1923840" cy="1330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308720" y="-17136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670160" y="187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9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2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-230040" y="-36360"/>
            <a:ext cx="3114360" cy="7211880"/>
          </a:xfrm>
          <a:custGeom>
            <a:avLst/>
            <a:gdLst/>
            <a:ahLst/>
            <a:rect l="l" t="t" r="r" b="b"/>
            <a:pathLst>
              <a:path w="1962" h="4543">
                <a:moveTo>
                  <a:pt x="1836" y="4348"/>
                </a:moveTo>
                <a:cubicBezTo>
                  <a:pt x="1813" y="4324"/>
                  <a:pt x="1796" y="4298"/>
                  <a:pt x="1772" y="4274"/>
                </a:cubicBezTo>
                <a:cubicBezTo>
                  <a:pt x="1763" y="4238"/>
                  <a:pt x="1756" y="4214"/>
                  <a:pt x="1736" y="4183"/>
                </a:cubicBezTo>
                <a:cubicBezTo>
                  <a:pt x="1728" y="4126"/>
                  <a:pt x="1717" y="4073"/>
                  <a:pt x="1699" y="4018"/>
                </a:cubicBezTo>
                <a:cubicBezTo>
                  <a:pt x="1709" y="3769"/>
                  <a:pt x="1720" y="3589"/>
                  <a:pt x="1727" y="3324"/>
                </a:cubicBezTo>
                <a:cubicBezTo>
                  <a:pt x="1728" y="3303"/>
                  <a:pt x="1711" y="3063"/>
                  <a:pt x="1754" y="2976"/>
                </a:cubicBezTo>
                <a:cubicBezTo>
                  <a:pt x="1778" y="2927"/>
                  <a:pt x="1785" y="2907"/>
                  <a:pt x="1800" y="2848"/>
                </a:cubicBezTo>
                <a:cubicBezTo>
                  <a:pt x="1803" y="2836"/>
                  <a:pt x="1809" y="2812"/>
                  <a:pt x="1809" y="2812"/>
                </a:cubicBezTo>
                <a:cubicBezTo>
                  <a:pt x="1802" y="2395"/>
                  <a:pt x="1822" y="2307"/>
                  <a:pt x="1745" y="1998"/>
                </a:cubicBezTo>
                <a:cubicBezTo>
                  <a:pt x="1751" y="1772"/>
                  <a:pt x="1704" y="1690"/>
                  <a:pt x="1809" y="1550"/>
                </a:cubicBezTo>
                <a:cubicBezTo>
                  <a:pt x="1812" y="1413"/>
                  <a:pt x="1805" y="1275"/>
                  <a:pt x="1818" y="1138"/>
                </a:cubicBezTo>
                <a:cubicBezTo>
                  <a:pt x="1824" y="1073"/>
                  <a:pt x="1853" y="1075"/>
                  <a:pt x="1882" y="1038"/>
                </a:cubicBezTo>
                <a:cubicBezTo>
                  <a:pt x="1896" y="1021"/>
                  <a:pt x="1907" y="1001"/>
                  <a:pt x="1919" y="983"/>
                </a:cubicBezTo>
                <a:cubicBezTo>
                  <a:pt x="1925" y="974"/>
                  <a:pt x="1937" y="956"/>
                  <a:pt x="1937" y="956"/>
                </a:cubicBezTo>
                <a:cubicBezTo>
                  <a:pt x="1915" y="603"/>
                  <a:pt x="1937" y="1021"/>
                  <a:pt x="1937" y="343"/>
                </a:cubicBezTo>
                <a:cubicBezTo>
                  <a:pt x="1937" y="239"/>
                  <a:pt x="1962" y="130"/>
                  <a:pt x="1928" y="32"/>
                </a:cubicBezTo>
                <a:cubicBezTo>
                  <a:pt x="1917" y="0"/>
                  <a:pt x="1861" y="23"/>
                  <a:pt x="1827" y="23"/>
                </a:cubicBezTo>
                <a:cubicBezTo>
                  <a:pt x="1315" y="17"/>
                  <a:pt x="803" y="17"/>
                  <a:pt x="291" y="14"/>
                </a:cubicBezTo>
                <a:cubicBezTo>
                  <a:pt x="242" y="17"/>
                  <a:pt x="192" y="12"/>
                  <a:pt x="145" y="23"/>
                </a:cubicBezTo>
                <a:cubicBezTo>
                  <a:pt x="136" y="25"/>
                  <a:pt x="136" y="41"/>
                  <a:pt x="136" y="50"/>
                </a:cubicBezTo>
                <a:cubicBezTo>
                  <a:pt x="130" y="388"/>
                  <a:pt x="130" y="727"/>
                  <a:pt x="127" y="1065"/>
                </a:cubicBezTo>
                <a:cubicBezTo>
                  <a:pt x="124" y="1477"/>
                  <a:pt x="121" y="1888"/>
                  <a:pt x="118" y="2300"/>
                </a:cubicBezTo>
                <a:cubicBezTo>
                  <a:pt x="123" y="2849"/>
                  <a:pt x="132" y="3344"/>
                  <a:pt x="118" y="3881"/>
                </a:cubicBezTo>
                <a:cubicBezTo>
                  <a:pt x="124" y="4046"/>
                  <a:pt x="0" y="4282"/>
                  <a:pt x="136" y="4375"/>
                </a:cubicBezTo>
                <a:cubicBezTo>
                  <a:pt x="383" y="4543"/>
                  <a:pt x="734" y="4378"/>
                  <a:pt x="1032" y="4393"/>
                </a:cubicBezTo>
                <a:cubicBezTo>
                  <a:pt x="1270" y="4390"/>
                  <a:pt x="1507" y="4392"/>
                  <a:pt x="1745" y="4384"/>
                </a:cubicBezTo>
                <a:cubicBezTo>
                  <a:pt x="1808" y="4382"/>
                  <a:pt x="1806" y="4378"/>
                  <a:pt x="1836" y="4348"/>
                </a:cubicBezTo>
                <a:close/>
              </a:path>
            </a:pathLst>
          </a:custGeom>
          <a:gradFill rotWithShape="0">
            <a:gsLst>
              <a:gs pos="0">
                <a:srgbClr val="f0ea9c"/>
              </a:gs>
              <a:gs pos="100000">
                <a:srgbClr val="e0d43c"/>
              </a:gs>
            </a:gsLst>
            <a:lin ang="10800000"/>
          </a:gradFill>
          <a:ln w="9360">
            <a:solidFill>
              <a:srgbClr val="e0d4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5008" t="8996" r="9780" b="0"/>
          <a:stretch/>
        </p:blipFill>
        <p:spPr>
          <a:xfrm>
            <a:off x="1763640" y="44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15008" t="8996" r="9780" b="0"/>
          <a:stretch/>
        </p:blipFill>
        <p:spPr>
          <a:xfrm>
            <a:off x="1403280" y="4724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15008" t="8996" r="9780" b="0"/>
          <a:stretch/>
        </p:blipFill>
        <p:spPr>
          <a:xfrm>
            <a:off x="154764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15008" t="8996" r="9780" b="0"/>
          <a:stretch/>
        </p:blipFill>
        <p:spPr>
          <a:xfrm>
            <a:off x="1619280" y="5661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15008" t="8996" r="9780" b="0"/>
          <a:stretch/>
        </p:blipFill>
        <p:spPr>
          <a:xfrm>
            <a:off x="1763640" y="-458640"/>
            <a:ext cx="1440000" cy="122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rcRect l="15008" t="8996" r="9780" b="0"/>
          <a:stretch/>
        </p:blipFill>
        <p:spPr>
          <a:xfrm>
            <a:off x="611280" y="5516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rcRect l="15008" t="8996" r="9780" b="0"/>
          <a:stretch/>
        </p:blipFill>
        <p:spPr>
          <a:xfrm>
            <a:off x="-36360" y="494172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rcRect l="15008" t="8996" r="9780" b="0"/>
          <a:stretch/>
        </p:blipFill>
        <p:spPr>
          <a:xfrm>
            <a:off x="1042920" y="-27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rcRect l="15008" t="8996" r="9780" b="0"/>
          <a:stretch/>
        </p:blipFill>
        <p:spPr>
          <a:xfrm>
            <a:off x="250920" y="3860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rcRect l="15008" t="8996" r="9780" b="0"/>
          <a:stretch/>
        </p:blipFill>
        <p:spPr>
          <a:xfrm>
            <a:off x="0" y="620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rcRect l="9367" t="18670" r="2158" b="14543"/>
          <a:stretch/>
        </p:blipFill>
        <p:spPr>
          <a:xfrm>
            <a:off x="-36360" y="1449360"/>
            <a:ext cx="6840360" cy="31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rcRect l="15008" t="8996" r="9780" b="0"/>
          <a:stretch/>
        </p:blipFill>
        <p:spPr>
          <a:xfrm>
            <a:off x="1692360" y="234936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rcRect l="15008" t="8996" r="9780" b="0"/>
          <a:stretch/>
        </p:blipFill>
        <p:spPr>
          <a:xfrm>
            <a:off x="1619280" y="2781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rcRect l="15008" t="8996" r="9780" b="0"/>
          <a:stretch/>
        </p:blipFill>
        <p:spPr>
          <a:xfrm>
            <a:off x="1547640" y="3284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6"/>
          <a:srcRect l="15008" t="8996" r="9780" b="0"/>
          <a:stretch/>
        </p:blipFill>
        <p:spPr>
          <a:xfrm>
            <a:off x="1403280" y="4076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7"/>
          <a:srcRect l="15008" t="8996" r="9780" b="0"/>
          <a:stretch/>
        </p:blipFill>
        <p:spPr>
          <a:xfrm>
            <a:off x="1763640" y="476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8"/>
          <a:srcRect l="15008" t="8996" r="9780" b="0"/>
          <a:stretch/>
        </p:blipFill>
        <p:spPr>
          <a:xfrm>
            <a:off x="-181080" y="57340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9"/>
          <a:srcRect l="15008" t="8996" r="9780" b="0"/>
          <a:stretch/>
        </p:blipFill>
        <p:spPr>
          <a:xfrm>
            <a:off x="1908000" y="1773360"/>
            <a:ext cx="1440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635280" y="115920"/>
            <a:ext cx="1923840" cy="1330200"/>
            <a:chOff x="3635280" y="115920"/>
            <a:chExt cx="1923840" cy="1330200"/>
          </a:xfrm>
        </p:grpSpPr>
        <p:pic>
          <p:nvPicPr>
            <p:cNvPr id="130" name="" descr=""/>
            <p:cNvPicPr/>
            <p:nvPr/>
          </p:nvPicPr>
          <p:blipFill>
            <a:blip r:embed="rId20"/>
            <a:stretch/>
          </p:blipFill>
          <p:spPr>
            <a:xfrm>
              <a:off x="3635280" y="1159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96720" y="47448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514"/>
                  </a:solidFill>
                  <a:latin typeface="Arial"/>
                </a:rPr>
                <a:t>26-1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588000" y="981000"/>
            <a:ext cx="1729080" cy="1368000"/>
            <a:chOff x="6588000" y="981000"/>
            <a:chExt cx="1729080" cy="1368000"/>
          </a:xfrm>
        </p:grpSpPr>
        <p:pic>
          <p:nvPicPr>
            <p:cNvPr id="133" name="" descr=""/>
            <p:cNvPicPr/>
            <p:nvPr/>
          </p:nvPicPr>
          <p:blipFill>
            <a:blip r:embed="rId21"/>
            <a:stretch/>
          </p:blipFill>
          <p:spPr>
            <a:xfrm>
              <a:off x="6588000" y="981000"/>
              <a:ext cx="17290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912000" y="135000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+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92360" y="5373720"/>
            <a:ext cx="1923840" cy="1330200"/>
            <a:chOff x="3492360" y="5373720"/>
            <a:chExt cx="1923840" cy="1330200"/>
          </a:xfrm>
        </p:grpSpPr>
        <p:pic>
          <p:nvPicPr>
            <p:cNvPr id="136" name="" descr=""/>
            <p:cNvPicPr/>
            <p:nvPr/>
          </p:nvPicPr>
          <p:blipFill>
            <a:blip r:embed="rId22"/>
            <a:stretch/>
          </p:blipFill>
          <p:spPr>
            <a:xfrm>
              <a:off x="3492360" y="53737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53800" y="573228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5-1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19800" y="4365720"/>
            <a:ext cx="1923840" cy="1330200"/>
            <a:chOff x="7219800" y="4365720"/>
            <a:chExt cx="1923840" cy="1330200"/>
          </a:xfrm>
        </p:grpSpPr>
        <p:pic>
          <p:nvPicPr>
            <p:cNvPr id="139" name="" descr=""/>
            <p:cNvPicPr/>
            <p:nvPr/>
          </p:nvPicPr>
          <p:blipFill>
            <a:blip r:embed="rId23"/>
            <a:stretch/>
          </p:blipFill>
          <p:spPr>
            <a:xfrm>
              <a:off x="7219800" y="43657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81240" y="4724280"/>
              <a:ext cx="99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9-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08720" y="2276640"/>
            <a:ext cx="1923840" cy="1330200"/>
            <a:chOff x="5508720" y="2276640"/>
            <a:chExt cx="1923840" cy="1330200"/>
          </a:xfrm>
        </p:grpSpPr>
        <p:pic>
          <p:nvPicPr>
            <p:cNvPr id="142" name="" descr=""/>
            <p:cNvPicPr/>
            <p:nvPr/>
          </p:nvPicPr>
          <p:blipFill>
            <a:blip r:embed="rId24"/>
            <a:stretch/>
          </p:blipFill>
          <p:spPr>
            <a:xfrm>
              <a:off x="5508720" y="2276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870520" y="2635200"/>
              <a:ext cx="8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+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2000" y="1268280"/>
            <a:ext cx="1923840" cy="1330560"/>
            <a:chOff x="4572000" y="1268280"/>
            <a:chExt cx="1923840" cy="1330560"/>
          </a:xfrm>
        </p:grpSpPr>
        <p:pic>
          <p:nvPicPr>
            <p:cNvPr id="145" name="" descr=""/>
            <p:cNvPicPr/>
            <p:nvPr/>
          </p:nvPicPr>
          <p:blipFill>
            <a:blip r:embed="rId25"/>
            <a:stretch/>
          </p:blipFill>
          <p:spPr>
            <a:xfrm>
              <a:off x="4572000" y="1268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933440" y="1627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6-2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164360" y="2997360"/>
            <a:ext cx="1923840" cy="1330200"/>
            <a:chOff x="7164360" y="2997360"/>
            <a:chExt cx="1923840" cy="1330200"/>
          </a:xfrm>
        </p:grpSpPr>
        <p:pic>
          <p:nvPicPr>
            <p:cNvPr id="148" name="" descr=""/>
            <p:cNvPicPr/>
            <p:nvPr/>
          </p:nvPicPr>
          <p:blipFill>
            <a:blip r:embed="rId26"/>
            <a:stretch/>
          </p:blipFill>
          <p:spPr>
            <a:xfrm>
              <a:off x="7164360" y="299736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25800" y="33559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80000" y="4724280"/>
            <a:ext cx="1923840" cy="1330560"/>
            <a:chOff x="5580000" y="4724280"/>
            <a:chExt cx="1923840" cy="1330560"/>
          </a:xfrm>
        </p:grpSpPr>
        <p:pic>
          <p:nvPicPr>
            <p:cNvPr id="151" name="" descr=""/>
            <p:cNvPicPr/>
            <p:nvPr/>
          </p:nvPicPr>
          <p:blipFill>
            <a:blip r:embed="rId27"/>
            <a:stretch/>
          </p:blipFill>
          <p:spPr>
            <a:xfrm>
              <a:off x="5580000" y="4724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1440" y="50832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219800" y="5527800"/>
            <a:ext cx="1923840" cy="1330200"/>
            <a:chOff x="7219800" y="5527800"/>
            <a:chExt cx="1923840" cy="1330200"/>
          </a:xfrm>
        </p:grpSpPr>
        <p:pic>
          <p:nvPicPr>
            <p:cNvPr id="154" name="" descr=""/>
            <p:cNvPicPr/>
            <p:nvPr/>
          </p:nvPicPr>
          <p:blipFill>
            <a:blip r:embed="rId28"/>
            <a:stretch/>
          </p:blipFill>
          <p:spPr>
            <a:xfrm>
              <a:off x="7219800" y="55278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81240" y="58863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1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236000" y="1844640"/>
            <a:ext cx="1923840" cy="1330200"/>
            <a:chOff x="7236000" y="1844640"/>
            <a:chExt cx="1923840" cy="1330200"/>
          </a:xfrm>
        </p:grpSpPr>
        <p:pic>
          <p:nvPicPr>
            <p:cNvPr id="157" name="" descr=""/>
            <p:cNvPicPr/>
            <p:nvPr/>
          </p:nvPicPr>
          <p:blipFill>
            <a:blip r:embed="rId29"/>
            <a:stretch/>
          </p:blipFill>
          <p:spPr>
            <a:xfrm>
              <a:off x="7236000" y="1844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97440" y="22032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0-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08720" y="189000"/>
            <a:ext cx="1923840" cy="1330200"/>
            <a:chOff x="5508720" y="189000"/>
            <a:chExt cx="1923840" cy="1330200"/>
          </a:xfrm>
        </p:grpSpPr>
        <p:pic>
          <p:nvPicPr>
            <p:cNvPr id="160" name="" descr=""/>
            <p:cNvPicPr/>
            <p:nvPr/>
          </p:nvPicPr>
          <p:blipFill>
            <a:blip r:embed="rId30"/>
            <a:stretch/>
          </p:blipFill>
          <p:spPr>
            <a:xfrm>
              <a:off x="5508720" y="1890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870160" y="5475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4-8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80000" y="2276640"/>
            <a:ext cx="1923840" cy="1330200"/>
            <a:chOff x="3780000" y="2276640"/>
            <a:chExt cx="1923840" cy="1330200"/>
          </a:xfrm>
        </p:grpSpPr>
        <p:pic>
          <p:nvPicPr>
            <p:cNvPr id="163" name="" descr=""/>
            <p:cNvPicPr/>
            <p:nvPr/>
          </p:nvPicPr>
          <p:blipFill>
            <a:blip r:embed="rId31"/>
            <a:stretch/>
          </p:blipFill>
          <p:spPr>
            <a:xfrm>
              <a:off x="3780000" y="2276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41800" y="263520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+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651640" y="3500280"/>
            <a:ext cx="1923840" cy="1330560"/>
            <a:chOff x="5651640" y="3500280"/>
            <a:chExt cx="1923840" cy="1330560"/>
          </a:xfrm>
        </p:grpSpPr>
        <p:pic>
          <p:nvPicPr>
            <p:cNvPr id="166" name="" descr=""/>
            <p:cNvPicPr/>
            <p:nvPr/>
          </p:nvPicPr>
          <p:blipFill>
            <a:blip r:embed="rId32"/>
            <a:stretch/>
          </p:blipFill>
          <p:spPr>
            <a:xfrm>
              <a:off x="5651640" y="3500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013080" y="3859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8-2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51280" y="3284640"/>
            <a:ext cx="1923840" cy="1330200"/>
            <a:chOff x="3851280" y="3284640"/>
            <a:chExt cx="1923840" cy="1330200"/>
          </a:xfrm>
        </p:grpSpPr>
        <p:pic>
          <p:nvPicPr>
            <p:cNvPr id="169" name="" descr=""/>
            <p:cNvPicPr/>
            <p:nvPr/>
          </p:nvPicPr>
          <p:blipFill>
            <a:blip r:embed="rId33"/>
            <a:stretch/>
          </p:blipFill>
          <p:spPr>
            <a:xfrm>
              <a:off x="3851280" y="3284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212720" y="3643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1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95640" y="4292640"/>
            <a:ext cx="1923840" cy="1330200"/>
            <a:chOff x="3995640" y="4292640"/>
            <a:chExt cx="1923840" cy="1330200"/>
          </a:xfrm>
        </p:grpSpPr>
        <p:pic>
          <p:nvPicPr>
            <p:cNvPr id="172" name="" descr=""/>
            <p:cNvPicPr/>
            <p:nvPr/>
          </p:nvPicPr>
          <p:blipFill>
            <a:blip r:embed="rId34"/>
            <a:stretch/>
          </p:blipFill>
          <p:spPr>
            <a:xfrm>
              <a:off x="3995640" y="4292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357080" y="4651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4-2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08720" y="5527800"/>
            <a:ext cx="1923840" cy="1330200"/>
            <a:chOff x="5508720" y="5527800"/>
            <a:chExt cx="1923840" cy="1330200"/>
          </a:xfrm>
        </p:grpSpPr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5508720" y="55278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870160" y="58863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4-1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642E-007 L -0.56997 -0.28555 E">
                                      <p:cBhvr>
                                        <p:cTn id="6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254 L -0.45955 0.5193 E">
                                      <p:cBhvr>
                                        <p:cTn id="7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4624E-007 L -0.75886 0.34358 E">
                                      <p:cBhvr>
                                        <p:cTn id="7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9827E-006 L -0.61701 0.08162 E">
                                      <p:cBhvr>
                                        <p:cTn id="8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19653E-006 L -0.74306 -0.03399 E">
                                      <p:cBhvr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67052E-007 L -0.75886 -0.2437 E">
                                      <p:cBhvr>
                                        <p:cTn id="9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02312E-006 L -0.52257 0.0289 E">
                                      <p:cBhvr>
                                        <p:cTn id="9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93642E-007 L -0.35712 -0.27515 E">
                                      <p:cBhvr>
                                        <p:cTn id="10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79769E-006 L -0.6092 0.22843 E">
                                      <p:cBhvr>
                                        <p:cTn id="10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5607E-007 L -0.38073 -0.42197 E">
                                      <p:cBhvr>
                                        <p:cTn id="11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68208E-006 L -0.59358 -0.03538 E">
                                      <p:cBhvr>
                                        <p:cTn id="12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бери бук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13" descr="j0237227"/>
          <p:cNvPicPr/>
          <p:nvPr/>
        </p:nvPicPr>
        <p:blipFill>
          <a:blip r:embed="rId1"/>
          <a:stretch/>
        </p:blipFill>
        <p:spPr>
          <a:xfrm>
            <a:off x="5076720" y="1484280"/>
            <a:ext cx="3079800" cy="30909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5690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7 – 23 = 24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2 -26 = 16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8 – 17 = 2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4 + 28 = 7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78 – 39 = 3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5 +16 = 5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5 + 53 = 6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15" descr="j0232744"/>
          <p:cNvPicPr/>
          <p:nvPr/>
        </p:nvPicPr>
        <p:blipFill>
          <a:blip r:embed="rId2"/>
          <a:stretch/>
        </p:blipFill>
        <p:spPr>
          <a:xfrm>
            <a:off x="1692360" y="1773360"/>
            <a:ext cx="1044360" cy="1020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j0232744"/>
          <p:cNvPicPr/>
          <p:nvPr/>
        </p:nvPicPr>
        <p:blipFill>
          <a:blip r:embed="rId3"/>
          <a:stretch/>
        </p:blipFill>
        <p:spPr>
          <a:xfrm>
            <a:off x="7164360" y="4869000"/>
            <a:ext cx="977760" cy="987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j0232744"/>
          <p:cNvPicPr/>
          <p:nvPr/>
        </p:nvPicPr>
        <p:blipFill>
          <a:blip r:embed="rId4"/>
          <a:stretch/>
        </p:blipFill>
        <p:spPr>
          <a:xfrm>
            <a:off x="1619280" y="5870520"/>
            <a:ext cx="977760" cy="987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j0232744"/>
          <p:cNvPicPr/>
          <p:nvPr/>
        </p:nvPicPr>
        <p:blipFill>
          <a:blip r:embed="rId5"/>
          <a:stretch/>
        </p:blipFill>
        <p:spPr>
          <a:xfrm>
            <a:off x="1692360" y="3789360"/>
            <a:ext cx="977760" cy="987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j0233589"/>
          <p:cNvPicPr/>
          <p:nvPr/>
        </p:nvPicPr>
        <p:blipFill>
          <a:blip r:embed="rId6"/>
          <a:stretch/>
        </p:blipFill>
        <p:spPr>
          <a:xfrm>
            <a:off x="5219640" y="5896080"/>
            <a:ext cx="949320" cy="961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j0233589"/>
          <p:cNvPicPr/>
          <p:nvPr/>
        </p:nvPicPr>
        <p:blipFill>
          <a:blip r:embed="rId7"/>
          <a:stretch/>
        </p:blipFill>
        <p:spPr>
          <a:xfrm>
            <a:off x="2627280" y="4797360"/>
            <a:ext cx="949320" cy="961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j0233589"/>
          <p:cNvPicPr/>
          <p:nvPr/>
        </p:nvPicPr>
        <p:blipFill>
          <a:blip r:embed="rId8"/>
          <a:stretch/>
        </p:blipFill>
        <p:spPr>
          <a:xfrm>
            <a:off x="2484360" y="2708280"/>
            <a:ext cx="10209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45677 -0.05254 E">
                                      <p:cBhvr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2.96296E-006 L 0.29131 -0.19954 E">
                                      <p:cBhvr>
                                        <p:cTn id="13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0.33073 -0.2625 E">
                                      <p:cBhvr>
                                        <p:cTn id="13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44444E-006 C 0.02362 0.09051 0.04723 0.18102 0.09827 0.12222 C 0.14931 0.06342 0.22796 -0.14491 0.30661 -0.35324 E">
                                      <p:cBhvr>
                                        <p:cTn id="140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C -0.00555 0.01181 -0.01094 0.02361 0.00834 0.03496 C 0.02761 0.04653 0.09045 0.09537 0.11615 0.06783 C 0.14184 0.04051 0.12292 -0.08981 0.1625 -0.12939 C 0.20226 -0.16898 0.30382 -0.12152 0.35504 -0.1706 C 0.40608 -0.21967 0.43768 -0.32152 0.46945 -0.42338 E">
                                      <p:cBhvr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0.00047 C -0.08837 -0.07152 -0.15834 -0.14351 -0.13698 -0.17638 C -0.11563 -0.20902 0.09288 -0.1537 0.10989 -0.19606 C 0.12621 -0.23865 0.04566 -0.33449 -0.03559 -0.43055 E">
                                      <p:cBhvr>
                                        <p:cTn id="148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2 -0.52153 E">
                                      <p:cBhvr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1600200"/>
          <a:ext cx="8353440" cy="4525920"/>
        </p:xfrm>
        <a:graphic>
          <a:graphicData uri="http://schemas.openxmlformats.org/drawingml/2006/table">
            <a:tbl>
              <a:tblPr/>
              <a:tblGrid>
                <a:gridCol w="1382760"/>
                <a:gridCol w="1174680"/>
                <a:gridCol w="1176120"/>
                <a:gridCol w="1175040"/>
                <a:gridCol w="1176120"/>
                <a:gridCol w="1174680"/>
                <a:gridCol w="10940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рогие мои друзья-школьник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льшое спасибо за помощь, которую вы мне оказали в решении сложных математических задач. Следующей осенью я тоже пойду в школу, чтобы стать таким умным, как в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наю – кто уроки учит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ючик золотой получи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 ним в мир знаний, мне повер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ы всегда откроешь дверь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Бурати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indefinite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indefinite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1:13:44Z</dcterms:created>
  <dc:creator>Admin</dc:creator>
  <dc:description/>
  <dc:language>en-US</dc:language>
  <cp:lastModifiedBy>Admin</cp:lastModifiedBy>
  <dcterms:modified xsi:type="dcterms:W3CDTF">2015-03-22T18:02:32Z</dcterms:modified>
  <cp:revision>5</cp:revision>
  <dc:subject/>
  <dc:title>Путешествие с Буратино в страну занимательной арифметики.</dc:title>
</cp:coreProperties>
</file>