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544B9-8B4F-41B1-8D44-5AE318F2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6C58E-B0F3-40A2-8035-EA398597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019D9-B62E-4308-BCE8-FC4AE9B2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0CA44-89B5-4E87-B5AA-5C3EBCFF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35F7-02FE-4BAC-BE7A-04736FA8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1A17-B6ED-435C-B592-325C5659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B944-4D3C-480C-A135-E0803ABA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5539-89B8-4E1C-8E67-44E59FF8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E346-FF8C-4298-B4E5-2383E9F9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7403-C77F-486C-8E89-A0CFC195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0362-F4F3-4FED-961F-29BB86DA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40147-BF71-457F-8A56-FBD86A54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D67E-A697-45B5-AE43-FD87D189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D8A2-5E91-43EE-8159-D75BF2D0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741F-232B-4E5B-AB65-6F3F27FD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B059-2661-4B56-8985-D9DF2CC5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5D2E-36F1-42EF-B1F6-E9FEF366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8195-8192-4C15-BE08-7C503DFC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0E867-98E3-4A7C-93F7-64A64F96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8696E-4070-4016-B976-5872541F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9BAFB-A29C-400C-9414-3BECE59A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E6EE1-65D3-4AF6-88D7-5146BACC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5127-2DD6-42C4-A517-4A820307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4CF7B-9F7C-4DD6-83FF-A1083485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C1D8-78B7-431D-870D-BF0F5A50EC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5244-89A4-48E4-BD44-910105B34F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1342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Путешествие с Буратино в страну занимательной арифметики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рогие мои друзья-школьн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 очень рад, что вы знаете сказку “Золотой ключик” так хорошо, из неё я пришёл к вам. Большое вам спасибо! Пишу это письмо и хочу обратиться к вам за помощью. Герои сказки прислали мне свои задания по математике, которые мне нужно решить. А так, как я не пошёл в школу и умею считать только до 5, то прошу вас помочь мне решить эти задачи! Заранее вам благодарен! Желаю успеха! Буратино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95280" y="333360"/>
          <a:ext cx="8424720" cy="54309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р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р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5-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4+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+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+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3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-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6+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4-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3+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0-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-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8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6+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1-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1+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+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7-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+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0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8+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+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-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-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7-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агический квадра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агический квадра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8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8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8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8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8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8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8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8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8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7308720" y="-171360"/>
            <a:ext cx="1923840" cy="1330200"/>
            <a:chOff x="7308720" y="-171360"/>
            <a:chExt cx="1923840" cy="133020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7308720" y="-17136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670160" y="18720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49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-2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-230040" y="-36360"/>
            <a:ext cx="3114360" cy="7211880"/>
          </a:xfrm>
          <a:custGeom>
            <a:avLst/>
            <a:gdLst/>
            <a:ahLst/>
            <a:rect l="l" t="t" r="r" b="b"/>
            <a:pathLst>
              <a:path w="1962" h="4543">
                <a:moveTo>
                  <a:pt x="1836" y="4348"/>
                </a:moveTo>
                <a:cubicBezTo>
                  <a:pt x="1813" y="4324"/>
                  <a:pt x="1796" y="4298"/>
                  <a:pt x="1772" y="4274"/>
                </a:cubicBezTo>
                <a:cubicBezTo>
                  <a:pt x="1763" y="4238"/>
                  <a:pt x="1756" y="4214"/>
                  <a:pt x="1736" y="4183"/>
                </a:cubicBezTo>
                <a:cubicBezTo>
                  <a:pt x="1728" y="4126"/>
                  <a:pt x="1717" y="4073"/>
                  <a:pt x="1699" y="4018"/>
                </a:cubicBezTo>
                <a:cubicBezTo>
                  <a:pt x="1709" y="3769"/>
                  <a:pt x="1720" y="3589"/>
                  <a:pt x="1727" y="3324"/>
                </a:cubicBezTo>
                <a:cubicBezTo>
                  <a:pt x="1728" y="3303"/>
                  <a:pt x="1711" y="3063"/>
                  <a:pt x="1754" y="2976"/>
                </a:cubicBezTo>
                <a:cubicBezTo>
                  <a:pt x="1778" y="2927"/>
                  <a:pt x="1785" y="2907"/>
                  <a:pt x="1800" y="2848"/>
                </a:cubicBezTo>
                <a:cubicBezTo>
                  <a:pt x="1803" y="2836"/>
                  <a:pt x="1809" y="2812"/>
                  <a:pt x="1809" y="2812"/>
                </a:cubicBezTo>
                <a:cubicBezTo>
                  <a:pt x="1802" y="2395"/>
                  <a:pt x="1822" y="2307"/>
                  <a:pt x="1745" y="1998"/>
                </a:cubicBezTo>
                <a:cubicBezTo>
                  <a:pt x="1751" y="1772"/>
                  <a:pt x="1704" y="1690"/>
                  <a:pt x="1809" y="1550"/>
                </a:cubicBezTo>
                <a:cubicBezTo>
                  <a:pt x="1812" y="1413"/>
                  <a:pt x="1805" y="1275"/>
                  <a:pt x="1818" y="1138"/>
                </a:cubicBezTo>
                <a:cubicBezTo>
                  <a:pt x="1824" y="1073"/>
                  <a:pt x="1853" y="1075"/>
                  <a:pt x="1882" y="1038"/>
                </a:cubicBezTo>
                <a:cubicBezTo>
                  <a:pt x="1896" y="1021"/>
                  <a:pt x="1907" y="1001"/>
                  <a:pt x="1919" y="983"/>
                </a:cubicBezTo>
                <a:cubicBezTo>
                  <a:pt x="1925" y="974"/>
                  <a:pt x="1937" y="956"/>
                  <a:pt x="1937" y="956"/>
                </a:cubicBezTo>
                <a:cubicBezTo>
                  <a:pt x="1915" y="603"/>
                  <a:pt x="1937" y="1021"/>
                  <a:pt x="1937" y="343"/>
                </a:cubicBezTo>
                <a:cubicBezTo>
                  <a:pt x="1937" y="239"/>
                  <a:pt x="1962" y="130"/>
                  <a:pt x="1928" y="32"/>
                </a:cubicBezTo>
                <a:cubicBezTo>
                  <a:pt x="1917" y="0"/>
                  <a:pt x="1861" y="23"/>
                  <a:pt x="1827" y="23"/>
                </a:cubicBezTo>
                <a:cubicBezTo>
                  <a:pt x="1315" y="17"/>
                  <a:pt x="803" y="17"/>
                  <a:pt x="291" y="14"/>
                </a:cubicBezTo>
                <a:cubicBezTo>
                  <a:pt x="242" y="17"/>
                  <a:pt x="192" y="12"/>
                  <a:pt x="145" y="23"/>
                </a:cubicBezTo>
                <a:cubicBezTo>
                  <a:pt x="136" y="25"/>
                  <a:pt x="136" y="41"/>
                  <a:pt x="136" y="50"/>
                </a:cubicBezTo>
                <a:cubicBezTo>
                  <a:pt x="130" y="388"/>
                  <a:pt x="130" y="727"/>
                  <a:pt x="127" y="1065"/>
                </a:cubicBezTo>
                <a:cubicBezTo>
                  <a:pt x="124" y="1477"/>
                  <a:pt x="121" y="1888"/>
                  <a:pt x="118" y="2300"/>
                </a:cubicBezTo>
                <a:cubicBezTo>
                  <a:pt x="123" y="2849"/>
                  <a:pt x="132" y="3344"/>
                  <a:pt x="118" y="3881"/>
                </a:cubicBezTo>
                <a:cubicBezTo>
                  <a:pt x="124" y="4046"/>
                  <a:pt x="0" y="4282"/>
                  <a:pt x="136" y="4375"/>
                </a:cubicBezTo>
                <a:cubicBezTo>
                  <a:pt x="383" y="4543"/>
                  <a:pt x="734" y="4378"/>
                  <a:pt x="1032" y="4393"/>
                </a:cubicBezTo>
                <a:cubicBezTo>
                  <a:pt x="1270" y="4390"/>
                  <a:pt x="1507" y="4392"/>
                  <a:pt x="1745" y="4384"/>
                </a:cubicBezTo>
                <a:cubicBezTo>
                  <a:pt x="1808" y="4382"/>
                  <a:pt x="1806" y="4378"/>
                  <a:pt x="1836" y="4348"/>
                </a:cubicBezTo>
                <a:close/>
              </a:path>
            </a:pathLst>
          </a:custGeom>
          <a:gradFill rotWithShape="0">
            <a:gsLst>
              <a:gs pos="0">
                <a:srgbClr val="f0ea9c"/>
              </a:gs>
              <a:gs pos="100000">
                <a:srgbClr val="e0d43c"/>
              </a:gs>
            </a:gsLst>
            <a:lin ang="10800000"/>
          </a:gradFill>
          <a:ln w="9360">
            <a:solidFill>
              <a:srgbClr val="e0d4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15008" t="8996" r="9780" b="0"/>
          <a:stretch/>
        </p:blipFill>
        <p:spPr>
          <a:xfrm>
            <a:off x="1763640" y="4428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rcRect l="15008" t="8996" r="9780" b="0"/>
          <a:stretch/>
        </p:blipFill>
        <p:spPr>
          <a:xfrm>
            <a:off x="1403280" y="472428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rcRect l="15008" t="8996" r="9780" b="0"/>
          <a:stretch/>
        </p:blipFill>
        <p:spPr>
          <a:xfrm>
            <a:off x="1547640" y="522936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rcRect l="15008" t="8996" r="9780" b="0"/>
          <a:stretch/>
        </p:blipFill>
        <p:spPr>
          <a:xfrm>
            <a:off x="1619280" y="566100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rcRect l="15008" t="8996" r="9780" b="0"/>
          <a:stretch/>
        </p:blipFill>
        <p:spPr>
          <a:xfrm>
            <a:off x="1763640" y="-458640"/>
            <a:ext cx="1440000" cy="1223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rcRect l="15008" t="8996" r="9780" b="0"/>
          <a:stretch/>
        </p:blipFill>
        <p:spPr>
          <a:xfrm>
            <a:off x="611280" y="551664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rcRect l="15008" t="8996" r="9780" b="0"/>
          <a:stretch/>
        </p:blipFill>
        <p:spPr>
          <a:xfrm>
            <a:off x="-36360" y="494172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rcRect l="15008" t="8996" r="9780" b="0"/>
          <a:stretch/>
        </p:blipFill>
        <p:spPr>
          <a:xfrm>
            <a:off x="1042920" y="-2700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rcRect l="15008" t="8996" r="9780" b="0"/>
          <a:stretch/>
        </p:blipFill>
        <p:spPr>
          <a:xfrm>
            <a:off x="250920" y="386064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rcRect l="15008" t="8996" r="9780" b="0"/>
          <a:stretch/>
        </p:blipFill>
        <p:spPr>
          <a:xfrm>
            <a:off x="0" y="62064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rcRect l="9367" t="18670" r="2158" b="14543"/>
          <a:stretch/>
        </p:blipFill>
        <p:spPr>
          <a:xfrm>
            <a:off x="-36360" y="1449360"/>
            <a:ext cx="6840360" cy="3132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rcRect l="15008" t="8996" r="9780" b="0"/>
          <a:stretch/>
        </p:blipFill>
        <p:spPr>
          <a:xfrm>
            <a:off x="1692360" y="234936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4"/>
          <a:srcRect l="15008" t="8996" r="9780" b="0"/>
          <a:stretch/>
        </p:blipFill>
        <p:spPr>
          <a:xfrm>
            <a:off x="1619280" y="278136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5"/>
          <a:srcRect l="15008" t="8996" r="9780" b="0"/>
          <a:stretch/>
        </p:blipFill>
        <p:spPr>
          <a:xfrm>
            <a:off x="1547640" y="328464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6"/>
          <a:srcRect l="15008" t="8996" r="9780" b="0"/>
          <a:stretch/>
        </p:blipFill>
        <p:spPr>
          <a:xfrm>
            <a:off x="1403280" y="407664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7"/>
          <a:srcRect l="15008" t="8996" r="9780" b="0"/>
          <a:stretch/>
        </p:blipFill>
        <p:spPr>
          <a:xfrm>
            <a:off x="1763640" y="47628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8"/>
          <a:srcRect l="15008" t="8996" r="9780" b="0"/>
          <a:stretch/>
        </p:blipFill>
        <p:spPr>
          <a:xfrm>
            <a:off x="-181080" y="573408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9"/>
          <a:srcRect l="15008" t="8996" r="9780" b="0"/>
          <a:stretch/>
        </p:blipFill>
        <p:spPr>
          <a:xfrm>
            <a:off x="1908000" y="1773360"/>
            <a:ext cx="1440000" cy="12240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3635280" y="115920"/>
            <a:ext cx="1923840" cy="1330200"/>
            <a:chOff x="3635280" y="115920"/>
            <a:chExt cx="1923840" cy="1330200"/>
          </a:xfrm>
        </p:grpSpPr>
        <p:pic>
          <p:nvPicPr>
            <p:cNvPr id="130" name="" descr=""/>
            <p:cNvPicPr/>
            <p:nvPr/>
          </p:nvPicPr>
          <p:blipFill>
            <a:blip r:embed="rId20"/>
            <a:stretch/>
          </p:blipFill>
          <p:spPr>
            <a:xfrm>
              <a:off x="3635280" y="11592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996720" y="47448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514"/>
                  </a:solidFill>
                  <a:latin typeface="Arial"/>
                </a:rPr>
                <a:t>26-1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588000" y="981000"/>
            <a:ext cx="1729080" cy="1368000"/>
            <a:chOff x="6588000" y="981000"/>
            <a:chExt cx="1729080" cy="1368000"/>
          </a:xfrm>
        </p:grpSpPr>
        <p:pic>
          <p:nvPicPr>
            <p:cNvPr id="133" name="" descr=""/>
            <p:cNvPicPr/>
            <p:nvPr/>
          </p:nvPicPr>
          <p:blipFill>
            <a:blip r:embed="rId21"/>
            <a:stretch/>
          </p:blipFill>
          <p:spPr>
            <a:xfrm>
              <a:off x="6588000" y="981000"/>
              <a:ext cx="172908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6912000" y="1350000"/>
              <a:ext cx="86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+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492360" y="5373720"/>
            <a:ext cx="1923840" cy="1330200"/>
            <a:chOff x="3492360" y="5373720"/>
            <a:chExt cx="1923840" cy="1330200"/>
          </a:xfrm>
        </p:grpSpPr>
        <p:pic>
          <p:nvPicPr>
            <p:cNvPr id="136" name="" descr=""/>
            <p:cNvPicPr/>
            <p:nvPr/>
          </p:nvPicPr>
          <p:blipFill>
            <a:blip r:embed="rId22"/>
            <a:stretch/>
          </p:blipFill>
          <p:spPr>
            <a:xfrm>
              <a:off x="3492360" y="537372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853800" y="573228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5-1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219800" y="4365720"/>
            <a:ext cx="1923840" cy="1330200"/>
            <a:chOff x="7219800" y="4365720"/>
            <a:chExt cx="1923840" cy="1330200"/>
          </a:xfrm>
        </p:grpSpPr>
        <p:pic>
          <p:nvPicPr>
            <p:cNvPr id="139" name="" descr=""/>
            <p:cNvPicPr/>
            <p:nvPr/>
          </p:nvPicPr>
          <p:blipFill>
            <a:blip r:embed="rId23"/>
            <a:stretch/>
          </p:blipFill>
          <p:spPr>
            <a:xfrm>
              <a:off x="7219800" y="436572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581240" y="4724280"/>
              <a:ext cx="99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9-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508720" y="2276640"/>
            <a:ext cx="1923840" cy="1330200"/>
            <a:chOff x="5508720" y="2276640"/>
            <a:chExt cx="1923840" cy="1330200"/>
          </a:xfrm>
        </p:grpSpPr>
        <p:pic>
          <p:nvPicPr>
            <p:cNvPr id="142" name="" descr=""/>
            <p:cNvPicPr/>
            <p:nvPr/>
          </p:nvPicPr>
          <p:blipFill>
            <a:blip r:embed="rId24"/>
            <a:stretch/>
          </p:blipFill>
          <p:spPr>
            <a:xfrm>
              <a:off x="5508720" y="227664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870520" y="2635200"/>
              <a:ext cx="86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+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2000" y="1268280"/>
            <a:ext cx="1923840" cy="1330560"/>
            <a:chOff x="4572000" y="1268280"/>
            <a:chExt cx="1923840" cy="1330560"/>
          </a:xfrm>
        </p:grpSpPr>
        <p:pic>
          <p:nvPicPr>
            <p:cNvPr id="145" name="" descr=""/>
            <p:cNvPicPr/>
            <p:nvPr/>
          </p:nvPicPr>
          <p:blipFill>
            <a:blip r:embed="rId25"/>
            <a:stretch/>
          </p:blipFill>
          <p:spPr>
            <a:xfrm>
              <a:off x="4572000" y="1268280"/>
              <a:ext cx="192384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933440" y="162720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6-2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164360" y="2997360"/>
            <a:ext cx="1923840" cy="1330200"/>
            <a:chOff x="7164360" y="2997360"/>
            <a:chExt cx="1923840" cy="1330200"/>
          </a:xfrm>
        </p:grpSpPr>
        <p:pic>
          <p:nvPicPr>
            <p:cNvPr id="148" name="" descr=""/>
            <p:cNvPicPr/>
            <p:nvPr/>
          </p:nvPicPr>
          <p:blipFill>
            <a:blip r:embed="rId26"/>
            <a:stretch/>
          </p:blipFill>
          <p:spPr>
            <a:xfrm>
              <a:off x="7164360" y="299736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525800" y="3355920"/>
              <a:ext cx="99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-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580000" y="4724280"/>
            <a:ext cx="1923840" cy="1330560"/>
            <a:chOff x="5580000" y="4724280"/>
            <a:chExt cx="1923840" cy="1330560"/>
          </a:xfrm>
        </p:grpSpPr>
        <p:pic>
          <p:nvPicPr>
            <p:cNvPr id="151" name="" descr=""/>
            <p:cNvPicPr/>
            <p:nvPr/>
          </p:nvPicPr>
          <p:blipFill>
            <a:blip r:embed="rId27"/>
            <a:stretch/>
          </p:blipFill>
          <p:spPr>
            <a:xfrm>
              <a:off x="5580000" y="4724280"/>
              <a:ext cx="192384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941440" y="5083200"/>
              <a:ext cx="99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-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219800" y="5527800"/>
            <a:ext cx="1923840" cy="1330200"/>
            <a:chOff x="7219800" y="5527800"/>
            <a:chExt cx="1923840" cy="1330200"/>
          </a:xfrm>
        </p:grpSpPr>
        <p:pic>
          <p:nvPicPr>
            <p:cNvPr id="154" name="" descr=""/>
            <p:cNvPicPr/>
            <p:nvPr/>
          </p:nvPicPr>
          <p:blipFill>
            <a:blip r:embed="rId28"/>
            <a:stretch/>
          </p:blipFill>
          <p:spPr>
            <a:xfrm>
              <a:off x="7219800" y="552780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581240" y="588636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-18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236000" y="1844640"/>
            <a:ext cx="1923840" cy="1330200"/>
            <a:chOff x="7236000" y="1844640"/>
            <a:chExt cx="1923840" cy="1330200"/>
          </a:xfrm>
        </p:grpSpPr>
        <p:pic>
          <p:nvPicPr>
            <p:cNvPr id="157" name="" descr=""/>
            <p:cNvPicPr/>
            <p:nvPr/>
          </p:nvPicPr>
          <p:blipFill>
            <a:blip r:embed="rId29"/>
            <a:stretch/>
          </p:blipFill>
          <p:spPr>
            <a:xfrm>
              <a:off x="7236000" y="184464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597440" y="2203200"/>
              <a:ext cx="99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0-8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508720" y="189000"/>
            <a:ext cx="1923840" cy="1330200"/>
            <a:chOff x="5508720" y="189000"/>
            <a:chExt cx="1923840" cy="1330200"/>
          </a:xfrm>
        </p:grpSpPr>
        <p:pic>
          <p:nvPicPr>
            <p:cNvPr id="160" name="" descr=""/>
            <p:cNvPicPr/>
            <p:nvPr/>
          </p:nvPicPr>
          <p:blipFill>
            <a:blip r:embed="rId30"/>
            <a:stretch/>
          </p:blipFill>
          <p:spPr>
            <a:xfrm>
              <a:off x="5508720" y="18900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870160" y="54756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94-8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780000" y="2276640"/>
            <a:ext cx="1923840" cy="1330200"/>
            <a:chOff x="3780000" y="2276640"/>
            <a:chExt cx="1923840" cy="1330200"/>
          </a:xfrm>
        </p:grpSpPr>
        <p:pic>
          <p:nvPicPr>
            <p:cNvPr id="163" name="" descr=""/>
            <p:cNvPicPr/>
            <p:nvPr/>
          </p:nvPicPr>
          <p:blipFill>
            <a:blip r:embed="rId31"/>
            <a:stretch/>
          </p:blipFill>
          <p:spPr>
            <a:xfrm>
              <a:off x="3780000" y="227664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141800" y="2635200"/>
              <a:ext cx="109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0+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651640" y="3500280"/>
            <a:ext cx="1923840" cy="1330560"/>
            <a:chOff x="5651640" y="3500280"/>
            <a:chExt cx="1923840" cy="1330560"/>
          </a:xfrm>
        </p:grpSpPr>
        <p:pic>
          <p:nvPicPr>
            <p:cNvPr id="166" name="" descr=""/>
            <p:cNvPicPr/>
            <p:nvPr/>
          </p:nvPicPr>
          <p:blipFill>
            <a:blip r:embed="rId32"/>
            <a:stretch/>
          </p:blipFill>
          <p:spPr>
            <a:xfrm>
              <a:off x="5651640" y="3500280"/>
              <a:ext cx="192384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013080" y="385920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8-2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851280" y="3284640"/>
            <a:ext cx="1923840" cy="1330200"/>
            <a:chOff x="3851280" y="3284640"/>
            <a:chExt cx="1923840" cy="1330200"/>
          </a:xfrm>
        </p:grpSpPr>
        <p:pic>
          <p:nvPicPr>
            <p:cNvPr id="169" name="" descr=""/>
            <p:cNvPicPr/>
            <p:nvPr/>
          </p:nvPicPr>
          <p:blipFill>
            <a:blip r:embed="rId33"/>
            <a:stretch/>
          </p:blipFill>
          <p:spPr>
            <a:xfrm>
              <a:off x="3851280" y="328464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212720" y="364320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7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-1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995640" y="4292640"/>
            <a:ext cx="1923840" cy="1330200"/>
            <a:chOff x="3995640" y="4292640"/>
            <a:chExt cx="1923840" cy="1330200"/>
          </a:xfrm>
        </p:grpSpPr>
        <p:pic>
          <p:nvPicPr>
            <p:cNvPr id="172" name="" descr=""/>
            <p:cNvPicPr/>
            <p:nvPr/>
          </p:nvPicPr>
          <p:blipFill>
            <a:blip r:embed="rId34"/>
            <a:stretch/>
          </p:blipFill>
          <p:spPr>
            <a:xfrm>
              <a:off x="3995640" y="429264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357080" y="465120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4-2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508720" y="5527800"/>
            <a:ext cx="1923840" cy="1330200"/>
            <a:chOff x="5508720" y="5527800"/>
            <a:chExt cx="1923840" cy="1330200"/>
          </a:xfrm>
        </p:grpSpPr>
        <p:pic>
          <p:nvPicPr>
            <p:cNvPr id="175" name="" descr=""/>
            <p:cNvPicPr/>
            <p:nvPr/>
          </p:nvPicPr>
          <p:blipFill>
            <a:blip r:embed="rId35"/>
            <a:stretch/>
          </p:blipFill>
          <p:spPr>
            <a:xfrm>
              <a:off x="5508720" y="5527800"/>
              <a:ext cx="1923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870160" y="588636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4-1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6.93642E-007 L -0.56997 -0.28555 E">
                                      <p:cBhvr>
                                        <p:cTn id="67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0254 L -0.45955 0.5193 E">
                                      <p:cBhvr>
                                        <p:cTn id="7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04624E-007 L -0.75886 0.34358 E">
                                      <p:cBhvr>
                                        <p:cTn id="77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9827E-006 L -0.61701 0.08162 E">
                                      <p:cBhvr>
                                        <p:cTn id="8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19653E-006 L -0.74306 -0.03399 E">
                                      <p:cBhvr>
                                        <p:cTn id="8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8.67052E-007 L -0.75886 -0.2437 E">
                                      <p:cBhvr>
                                        <p:cTn id="9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02312E-006 L -0.52257 0.0289 E">
                                      <p:cBhvr>
                                        <p:cTn id="97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6.93642E-007 L -0.35712 -0.27515 E">
                                      <p:cBhvr>
                                        <p:cTn id="10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79769E-006 L -0.6092 0.22843 E">
                                      <p:cBhvr>
                                        <p:cTn id="107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15607E-007 L -0.38073 -0.42197 E">
                                      <p:cBhvr>
                                        <p:cTn id="11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68208E-006 L -0.59358 -0.03538 E">
                                      <p:cBhvr>
                                        <p:cTn id="122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обери буке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8" name="Picture 13" descr="j0237227"/>
          <p:cNvPicPr/>
          <p:nvPr/>
        </p:nvPicPr>
        <p:blipFill>
          <a:blip r:embed="rId1"/>
          <a:stretch/>
        </p:blipFill>
        <p:spPr>
          <a:xfrm>
            <a:off x="5076720" y="1484280"/>
            <a:ext cx="3079800" cy="30909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56908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7 – 23 = 24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2 -26 = 16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8 – 17 = 21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4 + 28 = 72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78 – 39 = 3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5 +16 = 51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5 + 53 = 6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15" descr="j0232744"/>
          <p:cNvPicPr/>
          <p:nvPr/>
        </p:nvPicPr>
        <p:blipFill>
          <a:blip r:embed="rId2"/>
          <a:stretch/>
        </p:blipFill>
        <p:spPr>
          <a:xfrm>
            <a:off x="1692360" y="1773360"/>
            <a:ext cx="1044360" cy="1020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j0232744"/>
          <p:cNvPicPr/>
          <p:nvPr/>
        </p:nvPicPr>
        <p:blipFill>
          <a:blip r:embed="rId3"/>
          <a:stretch/>
        </p:blipFill>
        <p:spPr>
          <a:xfrm>
            <a:off x="7164360" y="4869000"/>
            <a:ext cx="977760" cy="987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j0232744"/>
          <p:cNvPicPr/>
          <p:nvPr/>
        </p:nvPicPr>
        <p:blipFill>
          <a:blip r:embed="rId4"/>
          <a:stretch/>
        </p:blipFill>
        <p:spPr>
          <a:xfrm>
            <a:off x="1619280" y="5870520"/>
            <a:ext cx="977760" cy="987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8" descr="j0232744"/>
          <p:cNvPicPr/>
          <p:nvPr/>
        </p:nvPicPr>
        <p:blipFill>
          <a:blip r:embed="rId5"/>
          <a:stretch/>
        </p:blipFill>
        <p:spPr>
          <a:xfrm>
            <a:off x="1692360" y="3789360"/>
            <a:ext cx="977760" cy="987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9" descr="j0233589"/>
          <p:cNvPicPr/>
          <p:nvPr/>
        </p:nvPicPr>
        <p:blipFill>
          <a:blip r:embed="rId6"/>
          <a:stretch/>
        </p:blipFill>
        <p:spPr>
          <a:xfrm>
            <a:off x="5219640" y="5896080"/>
            <a:ext cx="949320" cy="961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0" descr="j0233589"/>
          <p:cNvPicPr/>
          <p:nvPr/>
        </p:nvPicPr>
        <p:blipFill>
          <a:blip r:embed="rId7"/>
          <a:stretch/>
        </p:blipFill>
        <p:spPr>
          <a:xfrm>
            <a:off x="2627280" y="4797360"/>
            <a:ext cx="949320" cy="961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1" descr="j0233589"/>
          <p:cNvPicPr/>
          <p:nvPr/>
        </p:nvPicPr>
        <p:blipFill>
          <a:blip r:embed="rId8"/>
          <a:stretch/>
        </p:blipFill>
        <p:spPr>
          <a:xfrm>
            <a:off x="2484360" y="2708280"/>
            <a:ext cx="1020960" cy="10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7.40741E-007 L 0.45677 -0.05254 E">
                                      <p:cBhvr>
                                        <p:cTn id="128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2.96296E-006 L 0.29131 -0.19954 E">
                                      <p:cBhvr>
                                        <p:cTn id="132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037E-007 L 0.33073 -0.2625 E">
                                      <p:cBhvr>
                                        <p:cTn id="136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4.44444E-006 C 0.02362 0.09051 0.04723 0.18102 0.09827 0.12222 C 0.14931 0.06342 0.22796 -0.14491 0.30661 -0.35324 E">
                                      <p:cBhvr>
                                        <p:cTn id="140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C -0.00555 0.01181 -0.01094 0.02361 0.00834 0.03496 C 0.02761 0.04653 0.09045 0.09537 0.11615 0.06783 C 0.14184 0.04051 0.12292 -0.08981 0.1625 -0.12939 C 0.20226 -0.16898 0.30382 -0.12152 0.35504 -0.1706 C 0.40608 -0.21967 0.43768 -0.32152 0.46945 -0.42338 E">
                                      <p:cBhvr>
                                        <p:cTn id="144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41 0.00047 C -0.08837 -0.07152 -0.15834 -0.14351 -0.13698 -0.17638 C -0.11563 -0.20902 0.09288 -0.1537 0.10989 -0.19606 C 0.12621 -0.23865 0.04566 -0.33449 -0.03559 -0.43055 E">
                                      <p:cBhvr>
                                        <p:cTn id="148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5185E-006 L 0.2 -0.52153 E">
                                      <p:cBhvr>
                                        <p:cTn id="152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1600200"/>
          <a:ext cx="8353440" cy="4525920"/>
        </p:xfrm>
        <a:graphic>
          <a:graphicData uri="http://schemas.openxmlformats.org/drawingml/2006/table">
            <a:tbl>
              <a:tblPr/>
              <a:tblGrid>
                <a:gridCol w="1382760"/>
                <a:gridCol w="1174680"/>
                <a:gridCol w="1176120"/>
                <a:gridCol w="1175040"/>
                <a:gridCol w="1176120"/>
                <a:gridCol w="1174680"/>
                <a:gridCol w="109404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од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ы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у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7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70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орогие мои друзья-школьники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ольшое спасибо за помощь, которую вы мне оказали в решении сложных математических задач. Следующей осенью я тоже пойду в школу, чтобы стать таким умным, как в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наю – кто уроки учит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лючик золотой получи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 ним в мир знаний, мне поверь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ы всегда откроешь дверь!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Бурати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indefinite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indefinite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indefinite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indefinite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7" dur="indefinite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indefinite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1:13:44Z</dcterms:created>
  <dc:creator>Admin</dc:creator>
  <dc:description/>
  <dc:language>en-US</dc:language>
  <cp:lastModifiedBy>Admin</cp:lastModifiedBy>
  <dcterms:modified xsi:type="dcterms:W3CDTF">2015-03-22T18:02:32Z</dcterms:modified>
  <cp:revision>5</cp:revision>
  <dc:subject/>
  <dc:title>Путешествие с Буратино в страну занимательной арифметики.</dc:title>
</cp:coreProperties>
</file>