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9DA8-FC72-4D71-8F03-A05099A7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5228-38FC-48C3-BEBB-FF89D29F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C13A-B2CC-4B2F-B2BF-5326D7C2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6AB5-7AE8-49F4-A585-1BC9C118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A1B9-89DD-44B6-A750-FBD4778F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256B-E43D-466C-A569-8A68E529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5B91-B081-4E53-8D76-C73849ED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9560-4A77-4239-BBFD-C6E9A8C7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E198-7607-4150-AE29-23259B0A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910F-0488-4C6F-AABF-9F363CCE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C809-B185-4051-AE41-F0A106F1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93C5-C07E-4AB1-9BC4-E6C42238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215E-AFAC-4461-A459-FD532EEB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1D54-FFA0-481D-8AD3-02E72779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199C-1EA2-4651-893F-A5A1D4A8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6D39-4BB0-4F29-8D9C-3ADC2234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A8B5-0991-492B-A6FE-A9C2CD192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6841-1B05-461B-8B53-29103D84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FF52-E7DA-4E0A-94F4-A0FAC1BF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E2F0-37C0-4236-B3B8-D144A996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DB0-45D6-4801-B26E-6E2A3D6F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229C-9B84-46D6-B00D-11F1EE40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193B-510E-4FEA-B29F-CD025B16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08C0-1336-44D2-B890-27AA9CCD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EF49-6384-4C16-A822-04269A02304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F930-0845-41A4-8C91-36E5D5F347C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0_9ae8_5769997f_XL"/>
          <p:cNvPicPr/>
          <p:nvPr/>
        </p:nvPicPr>
        <p:blipFill>
          <a:blip r:embed="rId1"/>
          <a:stretch/>
        </p:blipFill>
        <p:spPr>
          <a:xfrm>
            <a:off x="214200" y="142920"/>
            <a:ext cx="8748720" cy="6410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7"/>
          <p:cNvSpPr/>
          <p:nvPr/>
        </p:nvSpPr>
        <p:spPr>
          <a:xfrm>
            <a:off x="611280" y="1100160"/>
            <a:ext cx="8137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000"/>
                </a:solidFill>
                <a:latin typeface="Verdana"/>
              </a:rPr>
              <a:t>МАСТЕР-КЛАС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Verdana"/>
              </a:rPr>
              <a:t>«ШКОЛА БУДУЩЕГО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Шалва Александрович АМОНАШВИЛ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3168720" cy="46087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6"/>
          <p:cNvSpPr/>
          <p:nvPr/>
        </p:nvSpPr>
        <p:spPr>
          <a:xfrm>
            <a:off x="4140360" y="2276640"/>
            <a:ext cx="46083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«Школа жизни»- ШКОЛА ПЕДАГОГИКИ СОТРУДНИЧЕСТВА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иктор Шаталов,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офья Николаевна Лысенков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Picture 4" descr="video-lysenkova"/>
          <p:cNvPicPr/>
          <p:nvPr/>
        </p:nvPicPr>
        <p:blipFill>
          <a:blip r:embed="rId1"/>
          <a:stretch/>
        </p:blipFill>
        <p:spPr>
          <a:xfrm>
            <a:off x="395280" y="3789360"/>
            <a:ext cx="3600360" cy="2519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video-shatalov(1)"/>
          <p:cNvPicPr/>
          <p:nvPr/>
        </p:nvPicPr>
        <p:blipFill>
          <a:blip r:embed="rId2"/>
          <a:stretch/>
        </p:blipFill>
        <p:spPr>
          <a:xfrm>
            <a:off x="6300720" y="1700280"/>
            <a:ext cx="2448000" cy="1800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p1"/>
          <p:cNvPicPr/>
          <p:nvPr/>
        </p:nvPicPr>
        <p:blipFill>
          <a:blip r:embed="rId3"/>
          <a:stretch/>
        </p:blipFill>
        <p:spPr>
          <a:xfrm>
            <a:off x="4572000" y="3573360"/>
            <a:ext cx="4176720" cy="31165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7"/>
          <p:cNvSpPr/>
          <p:nvPr/>
        </p:nvSpPr>
        <p:spPr>
          <a:xfrm>
            <a:off x="-25236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684360" y="1767600"/>
            <a:ext cx="56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работали методику перспективного обучения учащихся начальных классов с использованием опорных схем при комментированном управлении учебным процессом. Использовали алгоритмизацию учебного материала в виде опорных сигналов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овременное образов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Verdana"/>
              </a:rPr>
              <a:t>«Школа России»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ориентирован на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личностно-развивающее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образование младших школьников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Verdana"/>
              </a:rPr>
              <a:t>«Школа 2000-2100»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бъединяет основные современные подходы к процессу образования (развивающий, вариативный, гуманистическ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личностно-ориентированный и др.)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Verdana"/>
              </a:rPr>
              <a:t>«Начальная школа ХХ</a:t>
            </a:r>
            <a:r>
              <a:rPr b="1" lang="en-US" sz="1800" spc="-1" strike="noStrike">
                <a:solidFill>
                  <a:srgbClr val="ffcc66"/>
                </a:solidFill>
                <a:latin typeface="Verdana"/>
              </a:rPr>
              <a:t>I</a:t>
            </a:r>
            <a:r>
              <a:rPr b="1" lang="ru-RU" sz="1800" spc="-1" strike="noStrike">
                <a:solidFill>
                  <a:srgbClr val="ffcc66"/>
                </a:solidFill>
                <a:latin typeface="Verdana"/>
              </a:rPr>
              <a:t> века»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аправлена на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реализацию одного из возможных путей модернизации начального образования, раскрытие новых подходов к целям, содержания и методики обучения младших школьников в массовой начальной школе.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Verdana"/>
              </a:rPr>
              <a:t>«Гармония»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аправлен на разработку таких способов организации учебной деятельности младших школьников, которые обеспечивают комфортные условия для развития ребенка в процессе усвоения знаний, умений и навыков, соответствующих учебным программам и требованиям начального образовательного стандарта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612880" y="1268280"/>
            <a:ext cx="37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ОБРАЗОВАТЕЛЬНЫЕ ПРОЕКТЫ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volos_veroniki"/>
          <p:cNvPicPr/>
          <p:nvPr/>
        </p:nvPicPr>
        <p:blipFill>
          <a:blip r:embed="rId1"/>
          <a:stretch/>
        </p:blipFill>
        <p:spPr>
          <a:xfrm>
            <a:off x="395280" y="333360"/>
            <a:ext cx="8259840" cy="61912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5400" spc="-1" strike="noStrike">
                <a:solidFill>
                  <a:srgbClr val="66ccff"/>
                </a:solidFill>
                <a:latin typeface="Arial"/>
              </a:rPr>
              <a:t>2-я станция</a:t>
            </a:r>
            <a:br>
              <a:rPr sz="5400"/>
            </a:br>
            <a:r>
              <a:rPr b="0" lang="en-US" sz="5400" spc="-1" strike="noStrike">
                <a:solidFill>
                  <a:srgbClr val="66ccff"/>
                </a:solidFill>
                <a:latin typeface="Arial"/>
              </a:rPr>
              <a:t>«Размышление»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ое представление об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чителе будущег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читель будущего будет такой же, как и сегодня, и десять, и пятьдесят лет, он…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читель будущего будет отличаться от сегодняшнего учителя, он…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ченике будущег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ченик  будущего будет такой же, как и сегодня, и десять, и пятьдесят лет, он…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ченик будущего будет отличаться от сегодняшнего ученика, он…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4" descr="5314c975a364002cc40a44b09712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457200" y="981000"/>
            <a:ext cx="82296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3-я станция</a:t>
            </a:r>
            <a:br>
              <a:rPr sz="5400"/>
            </a:b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«ШКОЛА 2210»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b76"/>
                </a:solidFill>
                <a:latin typeface="Verdana"/>
              </a:rPr>
              <a:t>В проекте необходимо раскрыть  следующие вопросы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Должно ли измениться образование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Какой учитель должен прийти в новую школу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Какими должны быть ученики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Должна ли измениться роль родителей в новой школе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Как изменятся в будущем школьные оценки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Что можно сказать об интерьере школы будущего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ужна ли форма? Какая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Какие предметы необходимы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Какие бы вы исключили из расписания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Какие бы ввели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Какие методы обучения и воспитания  будут использовать педагоги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659640" y="62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44218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Verdana"/>
              </a:rPr>
              <a:t>Школа — это мастерская, где формируется мысль подрастающего поколения, надо крепко держать ее в руках, если не хочешь выпустить из рук будущее</a:t>
            </a: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Барбюс 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СПАСИБО ВСЕМ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1877"/>
          <p:cNvPicPr/>
          <p:nvPr/>
        </p:nvPicPr>
        <p:blipFill>
          <a:blip r:embed="rId1"/>
          <a:stretch/>
        </p:blipFill>
        <p:spPr>
          <a:xfrm>
            <a:off x="0" y="92160"/>
            <a:ext cx="9144000" cy="67658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242100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«ШКОЛА БУДУЩЕГО-МЕЧТА ИЛИ РЕАЛЬНОСТЬ?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497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uv9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3374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-я станция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«ИСТОРИЧЕСКАЯ»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Ян Амос Коменск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4" name="Picture 4" descr="news-kom26-03"/>
          <p:cNvPicPr/>
          <p:nvPr/>
        </p:nvPicPr>
        <p:blipFill>
          <a:blip r:embed="rId1"/>
          <a:stretch/>
        </p:blipFill>
        <p:spPr>
          <a:xfrm>
            <a:off x="826920" y="1484280"/>
            <a:ext cx="3124440" cy="48006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"/>
          <p:cNvSpPr/>
          <p:nvPr/>
        </p:nvSpPr>
        <p:spPr>
          <a:xfrm>
            <a:off x="4932360" y="1660680"/>
            <a:ext cx="381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 его именем связано становление научной педагогики. В его трудах представлен проект  системы всеобщего образования, поставлены вопросы об общегосударственной школе, о плановости школьного дела, о классно-урочной системе обучения и т.д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оганн Генрих Песталоцц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7" name="Picture 4" descr="pestalozzi"/>
          <p:cNvPicPr/>
          <p:nvPr/>
        </p:nvPicPr>
        <p:blipFill>
          <a:blip r:embed="rId1"/>
          <a:stretch/>
        </p:blipFill>
        <p:spPr>
          <a:xfrm>
            <a:off x="539640" y="1484280"/>
            <a:ext cx="3265560" cy="4896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4932360" y="205632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оздатель детских приютов, его цель - сделать детство «школой радости и творчества»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Л.Н.Толстой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3313440" cy="43210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"/>
          <p:cNvSpPr/>
          <p:nvPr/>
        </p:nvSpPr>
        <p:spPr>
          <a:xfrm>
            <a:off x="4716360" y="2240280"/>
            <a:ext cx="4103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Яснополянская школа – начальная школа, открытая для крестьянских детей Л. Н. Толстым осенью 1859 года в его имении Ясная Поляна близ Тулы. Важнейшей задачей своей школы Толстой считал воспитание творческой личност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.Д.Ушинск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Picture 4" descr="ushinskiy"/>
          <p:cNvPicPr/>
          <p:nvPr/>
        </p:nvPicPr>
        <p:blipFill>
          <a:blip r:embed="rId1"/>
          <a:stretch/>
        </p:blipFill>
        <p:spPr>
          <a:xfrm>
            <a:off x="468360" y="1197000"/>
            <a:ext cx="3889440" cy="5400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4932360" y="205632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 духе идеи народности ставил и разрешал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.Д. Ушинский  вопрос о школе, о её роли и её задачах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А.С.Макаренк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6" name="Picture 4" descr="foto"/>
          <p:cNvPicPr/>
          <p:nvPr/>
        </p:nvPicPr>
        <p:blipFill>
          <a:blip r:embed="rId1"/>
          <a:stretch/>
        </p:blipFill>
        <p:spPr>
          <a:xfrm>
            <a:off x="1187280" y="1916280"/>
            <a:ext cx="3240360" cy="36734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5"/>
          <p:cNvSpPr/>
          <p:nvPr/>
        </p:nvSpPr>
        <p:spPr>
          <a:xfrm>
            <a:off x="4932360" y="261252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Ядро учения А.С.Макаренко - теория воспитательного коллектив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.А.Сухомлинск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rcRect l="6301" t="5037" r="6370" b="3655"/>
          <a:stretch/>
        </p:blipFill>
        <p:spPr>
          <a:xfrm>
            <a:off x="324000" y="1413000"/>
            <a:ext cx="3527280" cy="45370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4427640" y="1773360"/>
            <a:ext cx="3960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Гуманный характер воспитания и обучения, бережное отношение к личности – таков мотив педагогического учения В.А.Сухомлинского, создателя «Школа радости»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8:19:10Z</dcterms:created>
  <dc:creator>Admin</dc:creator>
  <dc:description/>
  <dc:language>en-US</dc:language>
  <cp:lastModifiedBy>Пользователь</cp:lastModifiedBy>
  <dcterms:modified xsi:type="dcterms:W3CDTF">2014-12-16T06:59:51Z</dcterms:modified>
  <cp:revision>21</cp:revision>
  <dc:subject/>
  <dc:title>Слайд 1</dc:title>
</cp:coreProperties>
</file>