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927-62C2-4603-B2A5-2438B7AF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A47-4A18-4E6E-B892-24A001E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C2B-E4A6-4D86-96DE-F54C31DB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845-4526-46EC-BE84-8D40936A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D23-909C-4457-8426-912E9F03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5A3-4E57-4D9C-AFBA-B0DA207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2D9D-EC10-42CC-B244-5C2610C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116C-3AFB-429C-A6CE-FA7B6DB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1C28-A424-417E-9CB3-F5728EE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A0EC-D25E-4C17-89E7-8E30265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164-A946-4F8D-8402-1075AA4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747-4E55-40B6-8A6B-92591D9E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31BE-8BCC-473C-BE41-83C1455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8E2F-84EC-4706-BAEE-EE4487B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E01-F218-47CD-9DE3-35CDA0A8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D7B7-4B75-4882-9A64-E7F8DAE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891-DFE1-4271-90AC-6FFAE63D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FBA-40A6-4019-939C-DEE72053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9E4-8FD9-4678-9B46-EFD185B1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382-5EFF-4232-A7D3-B2F0B35C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F6B-E6B7-4703-915B-DA98B50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E5F-B748-4B05-ACEB-2E5E88B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AA5-44D8-4189-8A24-1A43543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F32-DC1D-4CCB-9C27-9DCC1C0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C78-803C-40D4-8E40-FA63915C19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ffff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DF2-F6AA-4DBE-B3BB-1BB7DC2385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_9ae8_5769997f_XL"/>
          <p:cNvPicPr/>
          <p:nvPr/>
        </p:nvPicPr>
        <p:blipFill>
          <a:blip r:embed="rId1"/>
          <a:stretch/>
        </p:blipFill>
        <p:spPr>
          <a:xfrm>
            <a:off x="214200" y="142920"/>
            <a:ext cx="8748720" cy="6410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611280" y="1100160"/>
            <a:ext cx="8137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Verdana"/>
              </a:rPr>
              <a:t>МАСТЕР-КЛАС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Verdana"/>
              </a:rPr>
              <a:t>«ШКОЛА БУДУЩЕГО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Шалва Александрович АМОНАШВИ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168720" cy="460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4140360" y="2276640"/>
            <a:ext cx="4608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Школа жизни»- ШКОЛА ПЕДАГОГИКИ СОТРУДНИЧЕСТВА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иктор Шаталов,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фья Николаевна Лысенко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4" descr="video-lysenkova"/>
          <p:cNvPicPr/>
          <p:nvPr/>
        </p:nvPicPr>
        <p:blipFill>
          <a:blip r:embed="rId1"/>
          <a:stretch/>
        </p:blipFill>
        <p:spPr>
          <a:xfrm>
            <a:off x="395280" y="378936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video-shatalov(1)"/>
          <p:cNvPicPr/>
          <p:nvPr/>
        </p:nvPicPr>
        <p:blipFill>
          <a:blip r:embed="rId2"/>
          <a:stretch/>
        </p:blipFill>
        <p:spPr>
          <a:xfrm>
            <a:off x="6300720" y="1700280"/>
            <a:ext cx="2448000" cy="180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1"/>
          <p:cNvPicPr/>
          <p:nvPr/>
        </p:nvPicPr>
        <p:blipFill>
          <a:blip r:embed="rId3"/>
          <a:stretch/>
        </p:blipFill>
        <p:spPr>
          <a:xfrm>
            <a:off x="4572000" y="3573360"/>
            <a:ext cx="4176720" cy="31165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-25236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84360" y="176760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зработали методику перспективного обучения учащихся начальных классов с использованием опорных схем при комментированном управлении учебным процессом. Использовали алгоритмизацию учебного материала в виде опорных сигнал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временное образ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Школа России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ориентирован на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ичностно-развивающе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образование младших школьнико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Школа 2000-2100»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яет основные современные подходы к процессу образования (развивающий, вариативный, гуманистическ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личностно-ориентированный и др.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Начальная школа ХХ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 века»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правлена на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еализацию одного из возможных путей модернизации начального образования, раскрытие новых подходов к целям, содержания и методики обучения младших школьников в массовой начальной школе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Гармония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правлен на разработку таких способов организации учебной деятельности младших школьников, которые обеспечивают комфортные условия для развития ребенка в процессе усвоения знаний, умений и навыков, соответствующих учебным программам и требованиям начального образовательного стандарт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612880" y="126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БРАЗОВАТЕЛЬНЫЕ ПРОЕКТ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volos_veroniki"/>
          <p:cNvPicPr/>
          <p:nvPr/>
        </p:nvPicPr>
        <p:blipFill>
          <a:blip r:embed="rId1"/>
          <a:stretch/>
        </p:blipFill>
        <p:spPr>
          <a:xfrm>
            <a:off x="395280" y="333360"/>
            <a:ext cx="8259840" cy="61912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66ccff"/>
                </a:solidFill>
                <a:latin typeface="Arial"/>
              </a:rPr>
              <a:t>2-я станция</a:t>
            </a:r>
            <a:br>
              <a:rPr sz="5400"/>
            </a:br>
            <a:r>
              <a:rPr b="0" lang="en-US" sz="5400" spc="-1" strike="noStrike">
                <a:solidFill>
                  <a:srgbClr val="66ccff"/>
                </a:solidFill>
                <a:latin typeface="Arial"/>
              </a:rPr>
              <a:t>«Размышление»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е представление об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ителе будуще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будущего будет такой же, как и сегодня, и десять, и пятьдесят лет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итель будущего будет отличаться от сегодняшнего учителя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нике будуще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  будущего будет такой же, как и сегодня, и десять, и пятьдесят лет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 будущего будет отличаться от сегодняшнего ученика, он…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5314c975a364002cc40a44b09712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57200" y="981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3-я станция</a:t>
            </a:r>
            <a:br>
              <a:rPr sz="5400"/>
            </a:b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ШКОЛА 2210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В проекте необходимо раскрыть  следующие вопрос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олжно ли измениться образование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ой учитель должен прийти в новую школу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ми должны быть ученик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олжна ли измениться роль родителей в новой школе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 изменятся в будущем школьные оценк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то можно сказать об интерьере школы будущего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ужна ли форма? Кака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предметы необходимы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бы вы исключили из расписа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бы ввели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кие методы обучения и воспитания  будут использовать педагоги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421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Verdana"/>
              </a:rPr>
              <a:t>Школа — это мастерская, где формируется мысль подрастающего поколения, надо крепко держать ее в руках, если не хочешь выпустить из рук будущее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арбюс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СПАСИБО ВСЕМ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877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«ШКОЛА БУДУЩЕГО-МЕЧТА ИЛИ РЕАЛЬНОСТЬ?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97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uv9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-я станция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ИСТОРИЧЕСКАЯ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н Амос Коме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news-kom26-03"/>
          <p:cNvPicPr/>
          <p:nvPr/>
        </p:nvPicPr>
        <p:blipFill>
          <a:blip r:embed="rId1"/>
          <a:stretch/>
        </p:blipFill>
        <p:spPr>
          <a:xfrm>
            <a:off x="826920" y="1484280"/>
            <a:ext cx="31244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932360" y="166068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его именем связано становление научной педагогики. В его трудах представлен проект  системы всеобщего образования, поставлены вопросы об общегосударственной школе, о плановости школьного дела, о классно-урочной системе обучения и т.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оганн Генрих Песталоц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4" descr="pestalozzi"/>
          <p:cNvPicPr/>
          <p:nvPr/>
        </p:nvPicPr>
        <p:blipFill>
          <a:blip r:embed="rId1"/>
          <a:stretch/>
        </p:blipFill>
        <p:spPr>
          <a:xfrm>
            <a:off x="539640" y="1484280"/>
            <a:ext cx="3265560" cy="4896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932360" y="20563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здатель детских приютов, его цель - сделать детство «школой радости и творчества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.Н.Толсто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321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716360" y="224028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Яснополянская школа – начальная школа, открытая для крестьянских детей Л. Н. Толстым осенью 1859 года в его имении Ясная Поляна близ Тулы. Важнейшей задачей своей школы Толстой считал воспитание творческой лично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.Д.Уши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ushinskiy"/>
          <p:cNvPicPr/>
          <p:nvPr/>
        </p:nvPicPr>
        <p:blipFill>
          <a:blip r:embed="rId1"/>
          <a:stretch/>
        </p:blipFill>
        <p:spPr>
          <a:xfrm>
            <a:off x="468360" y="1197000"/>
            <a:ext cx="388944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932360" y="205632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духе идеи народности ставил и разреша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.Д. Ушинский  вопрос о школе, о её роли и её задача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.С.Макарен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4" descr="foto"/>
          <p:cNvPicPr/>
          <p:nvPr/>
        </p:nvPicPr>
        <p:blipFill>
          <a:blip r:embed="rId1"/>
          <a:stretch/>
        </p:blipFill>
        <p:spPr>
          <a:xfrm>
            <a:off x="1187280" y="1916280"/>
            <a:ext cx="3240360" cy="3673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4932360" y="26125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дро учения А.С.Макаренко - теория воспитательного коллектив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.А.Сухомлин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6301" t="5037" r="6370" b="3655"/>
          <a:stretch/>
        </p:blipFill>
        <p:spPr>
          <a:xfrm>
            <a:off x="324000" y="1413000"/>
            <a:ext cx="3527280" cy="4537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427640" y="1773360"/>
            <a:ext cx="3960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Гуманный характер воспитания и обучения, бережное отношение к личности – таков мотив педагогического учения В.А.Сухомлинского, создателя «Школа радости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19:10Z</dcterms:created>
  <dc:creator>Admin</dc:creator>
  <dc:description/>
  <dc:language>en-US</dc:language>
  <cp:lastModifiedBy>Пользователь</cp:lastModifiedBy>
  <dcterms:modified xsi:type="dcterms:W3CDTF">2014-12-16T06:59:51Z</dcterms:modified>
  <cp:revision>21</cp:revision>
  <dc:subject/>
  <dc:title>Слайд 1</dc:title>
</cp:coreProperties>
</file>