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CA6A-B59E-4A32-BF56-51BFFB15E6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47E1-6B54-400D-92D4-45BDA1FAD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A536-A9D6-4435-ABFD-6F448304F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97C0-5A13-468D-AB2B-EB31C7D5E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85B4-3549-4487-98C6-1B6F34486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EC65-8565-47B1-B8AD-143C66067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EB09-3AF1-4978-A58E-8D73D2CB1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C343-9F88-4EF6-817D-8742D986B4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CD7F-B7D5-4DD2-B555-7900766CA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B90E-39DC-4F49-85E3-EDB697504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0D91-10FD-4B0D-8D0D-FFCC44C24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301-D048-4025-ADFB-514442B57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BD36-41A6-4671-AD9E-9EFB2BEDD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3C93-D078-47CD-A660-49445A025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8BB8-204F-4E78-9EA4-3A91EEEF9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67EA-A36B-46FE-975D-38C6E23C1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4B6E-7E1F-4994-8306-86EA4C517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80B6-3ED1-4472-A940-2E5D26055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A12F-6EBB-46B4-B4B6-5624796CC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595B-A91D-4AAB-8EEA-2E89ACC1C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7F73-E55C-4A4A-AE66-29EAB714E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915A-6AB3-47C5-A2E0-8E49135E7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39F-B467-45B9-A574-A6389413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322-07F4-4316-8636-E90AEAD8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096-59B8-429D-A0DF-CD737DB5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8F3-0779-4B9D-93E2-F6AF5630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735-B370-48EF-9AAB-CB64042F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CED-D794-49A9-A238-590D0FF0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9BA-831E-4460-97C6-B07F41C7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94A7F-6D74-4088-AE21-7BB09434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3F6-6A87-490A-9510-9EC1EB23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E046B0-1E2E-4DCC-98F8-666A8BB6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7C771-B545-41D9-AE3E-CE9E2B1A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E71FF-5614-4EEA-9AA3-8ADEBA6E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ACA71-1E2C-4303-BA1C-040B7838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7616B7-4993-4B87-833A-37857423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0C818-3980-45F0-896B-98756C97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C4AEC5-2582-493A-91A8-3476C9A2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34B94-34DB-48FE-99EE-3289D60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C9E15-7009-407B-A8C3-DE0AD682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B7B97-0082-48D0-ACBC-41AF7C06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F36-D7ED-4B89-A0E1-1AAA90C1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20DEA-F9CB-4A06-86F0-5FD5E0F7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97562-B74A-4652-B156-4B565EE4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880A9-9939-4FAF-B44D-27E6761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B8F79-71D7-4AE3-9210-23FCE201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BDB5B-5718-4E9D-9C6A-884612A3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E339A3-E52B-4A0B-B17E-C97E2D41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5EC3D-8ABE-4E76-9CEA-514A4A28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4D12D-C9FB-4F43-8605-2C50E143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4A341-FCCB-4C5E-BBB7-445AAEE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A8794-E31F-4301-BC80-93A84AE4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ACD-F490-4DCC-87DF-C69E18C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5C0FC-EADC-448D-865B-BD126696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579B6-67BF-494D-856B-4FF510D0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8FCFF-1FF5-4C40-97D4-5B5E219C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31D-0035-4B71-9B2F-C0D944AF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B74-ECCB-4FD0-97F2-E6B4C4FB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ABB9-687B-43D3-9CD9-D8860029CA8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Юдакова Наталия Серге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D7A-7A39-481C-810B-3994A91CD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0924-7933-4309-BF8A-5CD0DD76A12F}" type="datetime">
              <a:rPr b="1" lang="ru-RU" sz="1200" spc="-1" strike="noStrike">
                <a:solidFill>
                  <a:srgbClr val="ffffff"/>
                </a:solidFill>
                <a:latin typeface="Arbat-Bol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98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201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204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007B-740E-4D47-A6EA-9FCEEE009F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Юдакова Наталия Серге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419D-B375-4531-AB8B-D8CBCD1E8C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8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249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252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255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3B92-FB4A-4EBD-B8B9-96906DC3C1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Юдакова Наталия Серге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7A9D-6EF3-497E-ABC5-586EDA92C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42960" y="164304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Среда водных растворов электролитов</a:t>
            </a:r>
            <a:endParaRPr b="0" lang="en-US" sz="5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bat-Bold"/>
              </a:rPr>
              <a:t>Девиз урока: «В химии все возможно» (Шарль Адольф Вюрц)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640" y="121392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-Bold"/>
              </a:rPr>
              <a:t>К какому классу относятся вещества с формулами: хлорид натрия, сульфат калия, нитрат бария?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86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 baseline="30000">
                <a:solidFill>
                  <a:srgbClr val="ffffff"/>
                </a:solidFill>
                <a:latin typeface="Arbat-Bold"/>
              </a:rPr>
              <a:t>Схема</a:t>
            </a:r>
            <a:r>
              <a:rPr b="1" lang="ru-RU" sz="4800" spc="-1" strike="noStrike">
                <a:solidFill>
                  <a:srgbClr val="ffffff"/>
                </a:solidFill>
                <a:latin typeface="Arbat-Bold"/>
              </a:rPr>
              <a:t> </a:t>
            </a:r>
            <a:br>
              <a:rPr sz="4800"/>
            </a:br>
            <a:r>
              <a:rPr b="1" lang="ru-RU" sz="4800" spc="-1" strike="noStrike" baseline="30000">
                <a:solidFill>
                  <a:srgbClr val="ffffff"/>
                </a:solidFill>
                <a:latin typeface="Arbat-Bold"/>
              </a:rPr>
              <a:t> Классификация сред водных растворов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25" name="Прямоугольник 2"/>
          <p:cNvSpPr/>
          <p:nvPr/>
        </p:nvSpPr>
        <p:spPr>
          <a:xfrm>
            <a:off x="2214720" y="1857240"/>
            <a:ext cx="41432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реда водных раств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Прямая со стрелкой 5"/>
          <p:cNvCxnSpPr>
            <a:endCxn id="327" idx="0"/>
          </p:cNvCxnSpPr>
          <p:nvPr/>
        </p:nvCxnSpPr>
        <p:spPr>
          <a:xfrm>
            <a:off x="6357600" y="2428920"/>
            <a:ext cx="857880" cy="1000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28" name="Прямая со стрелкой 7"/>
          <p:cNvCxnSpPr>
            <a:endCxn id="329" idx="0"/>
          </p:cNvCxnSpPr>
          <p:nvPr/>
        </p:nvCxnSpPr>
        <p:spPr>
          <a:xfrm flipH="1">
            <a:off x="1821960" y="2428920"/>
            <a:ext cx="393120" cy="1000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30" name="Прямая со стрелкой 9"/>
          <p:cNvCxnSpPr/>
          <p:nvPr/>
        </p:nvCxnSpPr>
        <p:spPr>
          <a:xfrm flipH="1">
            <a:off x="4357080" y="2428560"/>
            <a:ext cx="1080" cy="1143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9" name="Прямоугольник 22"/>
          <p:cNvSpPr/>
          <p:nvPr/>
        </p:nvSpPr>
        <p:spPr>
          <a:xfrm>
            <a:off x="857160" y="3429000"/>
            <a:ext cx="192888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ис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3"/>
          <p:cNvSpPr/>
          <p:nvPr/>
        </p:nvSpPr>
        <p:spPr>
          <a:xfrm>
            <a:off x="3286080" y="3571920"/>
            <a:ext cx="2143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щело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4"/>
          <p:cNvSpPr/>
          <p:nvPr/>
        </p:nvSpPr>
        <p:spPr>
          <a:xfrm>
            <a:off x="6072120" y="3429000"/>
            <a:ext cx="228600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ей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85520" y="357120"/>
            <a:ext cx="781668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bat-Bold"/>
              </a:rPr>
              <a:t>Индикатор</a:t>
            </a:r>
            <a:r>
              <a:rPr b="1" lang="ru-RU" sz="4000" spc="-1" strike="noStrike">
                <a:solidFill>
                  <a:srgbClr val="ffffff"/>
                </a:solidFill>
                <a:latin typeface="Arbat-Bold"/>
              </a:rPr>
              <a:t> – это вещество, изменяющее свой цвет в зависимости от среды раствора.</a:t>
            </a:r>
            <a:br>
              <a:rPr sz="4000"/>
            </a:b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 Три основных индикатора: </a:t>
            </a:r>
            <a:r>
              <a:rPr b="0" i="1" lang="ru-RU" sz="4400" spc="-1" strike="noStrike">
                <a:solidFill>
                  <a:srgbClr val="ffffff"/>
                </a:solidFill>
                <a:latin typeface="Arbat-Bold"/>
              </a:rPr>
              <a:t>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bat-Bold"/>
              </a:rPr>
              <a:t>фиолетовый лакмус, метиловый оранжевый и фенолфталеин.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2" descr=""/>
          <p:cNvPicPr/>
          <p:nvPr/>
        </p:nvPicPr>
        <p:blipFill>
          <a:blip r:embed="rId1"/>
          <a:stretch/>
        </p:blipFill>
        <p:spPr>
          <a:xfrm>
            <a:off x="4211640" y="2421000"/>
            <a:ext cx="4157640" cy="36162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0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-Bold"/>
              </a:rPr>
              <a:t>Осторожно: кислоты и щёлочи – едкие вещества. Разрушают ткани, раздражают кожу, слизистые оболочки.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40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35" name="Picture 14" descr="10010010"/>
          <p:cNvPicPr/>
          <p:nvPr/>
        </p:nvPicPr>
        <p:blipFill>
          <a:blip r:embed="rId2"/>
          <a:stretch/>
        </p:blipFill>
        <p:spPr>
          <a:xfrm>
            <a:off x="633240" y="1920960"/>
            <a:ext cx="321336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bat-Bold"/>
              </a:rPr>
              <a:t>Первая помощь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Arbat-Bold"/>
              </a:rPr>
              <a:t>при порезах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братиться к лаборанту или учителю (остановить кровотечение; кожу вокруг раны обработать йодной настойкой или раствором бриллиантовой зелени; закрыть стерильной салфеткой, перебинтовать)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Arbat-Bold"/>
              </a:rPr>
              <a:t>при попадании кислоты на кожу рук: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смыть большим количеством воды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бработать 5% раствором питьевой соды.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Arbat-Bold"/>
              </a:rPr>
              <a:t>при попадании щёлочи на кожу рук: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смыть большим количеством воды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бработать 5% растворо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борной кислоты.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При необходимост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братиться в медпункт. 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38" name="Picture 7" descr="f0e1d07b6fb2"/>
          <p:cNvPicPr/>
          <p:nvPr/>
        </p:nvPicPr>
        <p:blipFill>
          <a:blip r:embed="rId7"/>
          <a:stretch/>
        </p:blipFill>
        <p:spPr>
          <a:xfrm>
            <a:off x="4791240" y="4340160"/>
            <a:ext cx="370044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http://www.mir-akvariumov.ru/img/saved/4/info__474_image013.gif"/>
          <p:cNvPicPr/>
          <p:nvPr/>
        </p:nvPicPr>
        <p:blipFill>
          <a:blip r:embed="rId1"/>
          <a:srcRect l="0" t="0" r="0" b="12318"/>
          <a:stretch/>
        </p:blipFill>
        <p:spPr>
          <a:xfrm>
            <a:off x="1042920" y="981000"/>
            <a:ext cx="684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86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bat-Bold"/>
              </a:rPr>
              <a:t>Водородный показатель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bat-Bol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– величина, характеризующая содержанием катионов водорода в растворе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14240" y="2356920"/>
            <a:ext cx="771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рН – это отрицательный десятичный логарифм концентрации ионов водорода в растворе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Если концентрация катионов водорода в растворе 10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bat-Bold"/>
              </a:rPr>
              <a:t>-6</a:t>
            </a: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 моль/л, то значение рН равно 6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86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Выводы: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14240" y="1928520"/>
            <a:ext cx="771552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При рН &gt; 7 среда раствор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щелочная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При рН = 7 среда раствор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нейтральная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При рН &lt; 7 среда раствор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кислая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 u="sng" baseline="30000">
              <a:solidFill>
                <a:srgbClr val="ffffff"/>
              </a:solidFill>
              <a:uFillTx/>
              <a:latin typeface="Arbat-Bold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652320" y="692280"/>
            <a:ext cx="7777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244800"/>
            <a:ext cx="7531200" cy="64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1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е конспект урок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рочитайте § 42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ыполните № 1, 2, 3 стр. 153.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Дополнительное задание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ельская работа. Задание: исследовать растворы лимонного сока, пищевой соды, питьевой воды, используя «рецепт» приготовления индикаторной бумаги (Рабочая карта по химии, стр. 10.). Результаты эксперимента оформить в таблиц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Карта Чеховского района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946080" y="1125360"/>
            <a:ext cx="7247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bat-Bold"/>
              </a:rPr>
              <a:t>Продолжите фразы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99640" y="1599840"/>
            <a:ext cx="72723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Сегодня на уроке я…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Самым интересным на уроке было….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Если бы я был учителем, то…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49" name="Picture 5" descr="http://im5-tub-ru.yandex.net/i?id=369780277-10-72&amp;n=5"/>
          <p:cNvPicPr/>
          <p:nvPr/>
        </p:nvPicPr>
        <p:blipFill>
          <a:blip r:embed="rId4"/>
          <a:stretch/>
        </p:blipFill>
        <p:spPr>
          <a:xfrm>
            <a:off x="3924360" y="3929040"/>
            <a:ext cx="1719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280" y="928800"/>
            <a:ext cx="7674120" cy="32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Для того чтобы совершенствовать ум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Надо более размышлять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Нежели заучивать.</a:t>
            </a:r>
            <a:br>
              <a:rPr sz="36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   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Рене Декарт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c000"/>
                </a:solidFill>
                <a:uFillTx/>
                <a:latin typeface="Arbat-Bold"/>
              </a:rPr>
              <a:t>Инструктаж по технике безопасности: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64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-Bold"/>
              </a:rPr>
              <a:t>Запрещается использовать посуду, имеющую трещины и отбитые края.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11" name="Picture 9" descr="2915386_large1"/>
          <p:cNvPicPr/>
          <p:nvPr/>
        </p:nvPicPr>
        <p:blipFill>
          <a:blip r:embed="rId1"/>
          <a:stretch/>
        </p:blipFill>
        <p:spPr>
          <a:xfrm>
            <a:off x="1974960" y="2414520"/>
            <a:ext cx="56260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640" y="499680"/>
            <a:ext cx="781704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bat-Bold"/>
              </a:rPr>
              <a:t>Индикатор</a:t>
            </a:r>
            <a:r>
              <a:rPr b="1" lang="ru-RU" sz="4000" spc="-1" strike="noStrike">
                <a:solidFill>
                  <a:srgbClr val="ffffff"/>
                </a:solidFill>
                <a:latin typeface="Arbat-Bold"/>
              </a:rPr>
              <a:t> – это вещество, изменяющее свой цвет в зависимости от среды раствор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13" name="Picture 7" descr="Рисунок12"/>
          <p:cNvPicPr/>
          <p:nvPr/>
        </p:nvPicPr>
        <p:blipFill>
          <a:blip r:embed="rId1"/>
          <a:stretch/>
        </p:blipFill>
        <p:spPr>
          <a:xfrm>
            <a:off x="5148360" y="4365720"/>
            <a:ext cx="2306520" cy="1693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Рисунок8"/>
          <p:cNvPicPr/>
          <p:nvPr/>
        </p:nvPicPr>
        <p:blipFill>
          <a:blip r:embed="rId2"/>
          <a:stretch/>
        </p:blipFill>
        <p:spPr>
          <a:xfrm>
            <a:off x="2484360" y="4221000"/>
            <a:ext cx="12859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5520" y="1857240"/>
            <a:ext cx="79009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bat-Bold"/>
              </a:rPr>
              <a:t>Среда водных растворов электролитов</a:t>
            </a:r>
            <a:endParaRPr b="0" lang="en-US" sz="60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86800" cy="487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-Bold"/>
              </a:rPr>
              <a:t>К какому классу относятся вещества с формулами: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HCl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,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HNO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3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,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H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SO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4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,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H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3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PO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4 </a:t>
            </a:r>
            <a:r>
              <a:rPr b="0" lang="ru-RU" sz="5400" spc="-1" strike="noStrike">
                <a:solidFill>
                  <a:srgbClr val="ffffff"/>
                </a:solidFill>
                <a:latin typeface="Arbat-Bold"/>
              </a:rPr>
              <a:t>? </a:t>
            </a:r>
            <a:br>
              <a:rPr sz="4800"/>
            </a:br>
            <a:r>
              <a:rPr b="1" lang="ru-RU" sz="4800" spc="-1" strike="noStrike" baseline="30000">
                <a:solidFill>
                  <a:srgbClr val="ffffff"/>
                </a:solidFill>
                <a:latin typeface="Arbat-Bold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bat-Bold"/>
              </a:rPr>
              <a:t> 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5640" y="1571400"/>
            <a:ext cx="7786800" cy="42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 baseline="30000">
                <a:solidFill>
                  <a:srgbClr val="ffffff"/>
                </a:solidFill>
                <a:latin typeface="Arbat-Bold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bat-Bold"/>
              </a:rPr>
              <a:t> 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19" name="GCH_2Ab08_01Na.avi" descr=""/>
          <p:cNvPicPr/>
          <p:nvPr/>
        </p:nvPicPr>
        <p:blipFill>
          <a:blip r:embed="rId1"/>
          <a:stretch/>
        </p:blipFill>
        <p:spPr>
          <a:xfrm>
            <a:off x="1116000" y="561960"/>
            <a:ext cx="675972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868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-Bold"/>
              </a:rPr>
              <a:t>К какому классу относятся вещества с формулами: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NaOH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; 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KOH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; 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Ca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(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OH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)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2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 ? </a:t>
            </a: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3880" y="611640"/>
            <a:ext cx="75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22" name="GCH_2Ac14_01Na.avi" descr=""/>
          <p:cNvPicPr/>
          <p:nvPr/>
        </p:nvPicPr>
        <p:blipFill>
          <a:blip r:embed="rId1"/>
          <a:stretch/>
        </p:blipFill>
        <p:spPr>
          <a:xfrm>
            <a:off x="1187280" y="542880"/>
            <a:ext cx="678528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Irenus</dc:creator>
  <dc:description/>
  <dc:language>en-US</dc:language>
  <cp:lastModifiedBy>Zver</cp:lastModifiedBy>
  <dcterms:modified xsi:type="dcterms:W3CDTF">2015-03-16T17:31:57Z</dcterms:modified>
  <cp:revision>159</cp:revision>
  <dc:subject/>
  <dc:title>Классная доска</dc:title>
</cp:coreProperties>
</file>