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1749-172C-4746-B93F-CEAB5ECFF0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6C64-E6D4-4675-B650-4CFF9E248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CFA-6864-450F-A5F3-8C73076AE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BF35-A6C5-46D6-A687-9CC75EADB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DE5E-B05E-411F-865F-57DD07939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E58-EBBD-4E48-8E40-46D00B0E8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C25-CFB5-44C5-AC53-331179AEC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36A-56F8-4B82-B4A0-38EA31C86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6EFE-6B6C-49BA-A8AD-E59DD78C6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B60-A847-4C88-ADF6-CA2E7F82C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D56-00DA-4833-8B75-6221C1A78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1E0-8ABD-43A7-9925-905DECB3F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E48-68FC-4345-B798-E7D6D66AD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E79E-05E8-49FE-A1F5-38631C8BA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49B3-57AD-4967-A815-4D004884A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74B-620E-42C9-A959-C21C0BD42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B5C-B243-47DF-9ECE-0DEE8379F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CB7-F12A-4506-B196-375D04902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A9CE-FB11-4309-886B-557D1BE1E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441E-E252-40AC-BAC1-0529EC6E0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C1F-D533-4B8E-BEF8-16999E589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A6A-E04E-4C89-B3AF-1F3B21846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57F-FB2B-4ACE-A5AB-4F2506C2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BF0-CF7F-4B17-A70D-A0A7F275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4DB-4AA9-4856-8379-71BE8B7E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5C9-74AC-46D2-B980-4BA94961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456-F504-427A-8AE6-74249AF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675-A05E-4F8D-9B3F-A62148A1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D2A-6617-4CA7-B683-0A734ADD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FFA52-808F-4660-99D7-FE30F9A0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C78-C01C-4B89-95FD-11D2B84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DDDC7-A696-434F-B3DC-6E63187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CB23C-B016-443C-8FC4-F73E315A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38E7B-D086-4B84-835F-AF3D09C0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5C8E9-E1B9-4A5B-B590-DC21848D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F7DCF-976D-40B1-A811-23FD49A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71104-8789-471C-A253-C611FD7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8CE3D-F2CA-4756-AD06-E43C927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47321-A3ED-4AC5-B239-A9B012CD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35126-C484-4E40-A2D0-066BE22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3A694-72ED-4212-8BE9-A40FCEA3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A10-F06F-48DA-870E-D110DA3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7534D-E535-436B-9466-28E2A663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9BE9E-EE6F-4E08-AB03-CE35CB8D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F5D8D-2097-499F-A027-0B40A8C2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7756F-FD46-4EEA-B305-56E845F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EAD78-411A-43E8-BB77-DF3F18B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89D03-A3FF-4473-B533-04E7CE7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40A27-A6E5-4FC8-814E-DFF89A58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2A7A5-7157-4A09-BC98-037D8F2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EC528-0E4A-4A91-AF2E-BFD79E1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20B44-24DA-4267-A592-C9026029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25E-2626-4182-BB2D-7644D91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8871A-4CFA-45EB-B0A7-D2240B5F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2117E-8CCA-4F7E-9C74-C18E2966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E557A-AAB8-4896-87B4-7F038B71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650-5BBB-4F6B-A538-B7CF94A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390-C78E-497E-B2D0-B5B58ED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23B8-2215-480A-A661-ECA96D52BB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A34B-DFDE-4EE4-A9D5-A70DE6D98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13C-7689-4452-9C8A-C3D6DB4EA965}" type="datetime">
              <a:rPr b="1" lang="ru-RU" sz="1200" spc="-1" strike="noStrike">
                <a:solidFill>
                  <a:srgbClr val="ffffff"/>
                </a:solidFill>
                <a:latin typeface="Arbat-Bol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98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201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204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64D-71F5-4397-B033-2C938697116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0903-920C-4EA5-9242-EC42775AB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8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249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252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255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14D-B357-494E-BCC3-F010D0E1D2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Юдакова Наталия Серг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88DC-975E-4786-BE59-25A255977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2960" y="164304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Среда водных растворов электролитов</a:t>
            </a: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bat-Bold"/>
              </a:rPr>
              <a:t>Девиз урока: «В химии все возможно» (Шарль Адольф Вюрц)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640" y="121392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хлорид натрия, сульфат калия, нитрат бария?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Схема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</a:t>
            </a: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Классификация сред водных растворов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25" name="Прямоугольник 2"/>
          <p:cNvSpPr/>
          <p:nvPr/>
        </p:nvSpPr>
        <p:spPr>
          <a:xfrm>
            <a:off x="2214720" y="1857240"/>
            <a:ext cx="41432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реда водных раст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5"/>
          <p:cNvCxnSpPr>
            <a:endCxn id="327" idx="0"/>
          </p:cNvCxnSpPr>
          <p:nvPr/>
        </p:nvCxnSpPr>
        <p:spPr>
          <a:xfrm>
            <a:off x="6357600" y="2428920"/>
            <a:ext cx="85788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8" name="Прямая со стрелкой 7"/>
          <p:cNvCxnSpPr>
            <a:endCxn id="329" idx="0"/>
          </p:cNvCxnSpPr>
          <p:nvPr/>
        </p:nvCxnSpPr>
        <p:spPr>
          <a:xfrm flipH="1">
            <a:off x="1821960" y="2428920"/>
            <a:ext cx="393120" cy="1000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0" name="Прямая со стрелкой 9"/>
          <p:cNvCxnSpPr/>
          <p:nvPr/>
        </p:nvCxnSpPr>
        <p:spPr>
          <a:xfrm flipH="1">
            <a:off x="4357080" y="2428560"/>
            <a:ext cx="1080" cy="1143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9" name="Прямоугольник 22"/>
          <p:cNvSpPr/>
          <p:nvPr/>
        </p:nvSpPr>
        <p:spPr>
          <a:xfrm>
            <a:off x="857160" y="3429000"/>
            <a:ext cx="192888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ис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3"/>
          <p:cNvSpPr/>
          <p:nvPr/>
        </p:nvSpPr>
        <p:spPr>
          <a:xfrm>
            <a:off x="3286080" y="3571920"/>
            <a:ext cx="2143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ело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4"/>
          <p:cNvSpPr/>
          <p:nvPr/>
        </p:nvSpPr>
        <p:spPr>
          <a:xfrm>
            <a:off x="6072120" y="3429000"/>
            <a:ext cx="228600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81668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bat-Bold"/>
              </a:rPr>
              <a:t>Индикатор</a:t>
            </a: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 – это вещество, изменяющее свой цвет в зависимости от среды раствора.</a:t>
            </a: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 Три основных индикатора: </a:t>
            </a:r>
            <a:r>
              <a:rPr b="0" i="1" lang="ru-RU" sz="44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bat-Bold"/>
              </a:rPr>
              <a:t>фиолетовый лакмус, метиловый оранжевый и фенолфталеин.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2" descr=""/>
          <p:cNvPicPr/>
          <p:nvPr/>
        </p:nvPicPr>
        <p:blipFill>
          <a:blip r:embed="rId1"/>
          <a:stretch/>
        </p:blipFill>
        <p:spPr>
          <a:xfrm>
            <a:off x="4211640" y="2421000"/>
            <a:ext cx="4157640" cy="3616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0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Осторожно: кислоты и щёлочи – едкие вещества. Разрушают ткани, раздражают кожу, слизистые оболочки.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40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35" name="Picture 14" descr="10010010"/>
          <p:cNvPicPr/>
          <p:nvPr/>
        </p:nvPicPr>
        <p:blipFill>
          <a:blip r:embed="rId2"/>
          <a:stretch/>
        </p:blipFill>
        <p:spPr>
          <a:xfrm>
            <a:off x="633240" y="1920960"/>
            <a:ext cx="32133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Первая помощь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резах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титься к лаборанту или учителю (остановить кровотечение; кожу вокруг раны обработать йодной настойкой или раствором бриллиантовой зелени; закрыть стерильной салфеткой, перебинтовать)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падании кислоты на кожу рук: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смыть большим количеством воды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ботать 5% раствором питьевой соды.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bat-Bold"/>
              </a:rPr>
              <a:t>при попадании щёлочи на кожу рук: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смыть большим количеством воды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ботать 5% растворо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борной кислоты.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При необходим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братиться в медпункт. 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38" name="Picture 7" descr="f0e1d07b6fb2"/>
          <p:cNvPicPr/>
          <p:nvPr/>
        </p:nvPicPr>
        <p:blipFill>
          <a:blip r:embed="rId7"/>
          <a:stretch/>
        </p:blipFill>
        <p:spPr>
          <a:xfrm>
            <a:off x="4791240" y="4340160"/>
            <a:ext cx="370044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http://www.mir-akvariumov.ru/img/saved/4/info__474_image013.gif"/>
          <p:cNvPicPr/>
          <p:nvPr/>
        </p:nvPicPr>
        <p:blipFill>
          <a:blip r:embed="rId1"/>
          <a:srcRect l="0" t="0" r="0" b="12318"/>
          <a:stretch/>
        </p:blipFill>
        <p:spPr>
          <a:xfrm>
            <a:off x="1042920" y="981000"/>
            <a:ext cx="684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86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bat-Bold"/>
              </a:rPr>
              <a:t>Водородный показатель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bat-Bol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– величина, характеризующая содержанием катионов водорода в растворе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4240" y="2356920"/>
            <a:ext cx="771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рН – это отрицательный десятичный логарифм концентрации ионов водорода в растворе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Если концентрация катионов водорода в растворе 10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bat-Bold"/>
              </a:rPr>
              <a:t>-6</a:t>
            </a:r>
            <a:r>
              <a:rPr b="0" lang="ru-RU" sz="3600" spc="-1" strike="noStrike">
                <a:solidFill>
                  <a:srgbClr val="ffffff"/>
                </a:solidFill>
                <a:latin typeface="Arbat-Bold"/>
              </a:rPr>
              <a:t> моль/л, то значение рН равно 6.</a:t>
            </a:r>
            <a:endParaRPr b="0" lang="en-US" sz="36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86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Выводы: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14240" y="1928520"/>
            <a:ext cx="77155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&gt;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щелочн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=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нейтральн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При рН &lt; 7 среда раствор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кислая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 u="sng" baseline="30000">
              <a:solidFill>
                <a:srgbClr val="ffffff"/>
              </a:solidFill>
              <a:uFillTx/>
              <a:latin typeface="Arbat-Bold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652320" y="692280"/>
            <a:ext cx="777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244800"/>
            <a:ext cx="7531200" cy="64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1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е конспект уро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рочитайте § 42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полните № 1, 2, 3 стр. 153.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Дополнительное задание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ая работа. Задание: исследовать растворы лимонного сока, пищевой соды, питьевой воды, используя «рецепт» приготовления индикаторной бумаги (Рабочая карта по химии, стр. 10.). Результаты эксперимента оформить в таблиц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Карта Чеховского района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946080" y="1125360"/>
            <a:ext cx="7247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Продолжите фразы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99640" y="1599840"/>
            <a:ext cx="72723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Сегодня на уроке я…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Самым интересным на уроке было….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Если бы я был учителем, то…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49" name="Picture 5" descr="http://im5-tub-ru.yandex.net/i?id=369780277-10-72&amp;n=5"/>
          <p:cNvPicPr/>
          <p:nvPr/>
        </p:nvPicPr>
        <p:blipFill>
          <a:blip r:embed="rId4"/>
          <a:stretch/>
        </p:blipFill>
        <p:spPr>
          <a:xfrm>
            <a:off x="3924360" y="3929040"/>
            <a:ext cx="1719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280" y="928800"/>
            <a:ext cx="7674120" cy="32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того чтобы совершенствовать ум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Надо более размышлять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Нежели заучивать.</a:t>
            </a:r>
            <a:br>
              <a:rPr sz="36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Рене Декарт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c000"/>
                </a:solidFill>
                <a:uFillTx/>
                <a:latin typeface="Arbat-Bold"/>
              </a:rPr>
              <a:t>Инструктаж по технике безопасности: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64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Запрещается использовать посуду, имеющую трещины и отбитые края.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1" name="Picture 9" descr="2915386_large1"/>
          <p:cNvPicPr/>
          <p:nvPr/>
        </p:nvPicPr>
        <p:blipFill>
          <a:blip r:embed="rId1"/>
          <a:stretch/>
        </p:blipFill>
        <p:spPr>
          <a:xfrm>
            <a:off x="1974960" y="2414520"/>
            <a:ext cx="56260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81704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bat-Bold"/>
              </a:rPr>
              <a:t>Индикатор</a:t>
            </a:r>
            <a:r>
              <a:rPr b="1" lang="ru-RU" sz="4000" spc="-1" strike="noStrike">
                <a:solidFill>
                  <a:srgbClr val="ffffff"/>
                </a:solidFill>
                <a:latin typeface="Arbat-Bold"/>
              </a:rPr>
              <a:t> – это вещество, изменяющее свой цвет в зависимости от среды раствор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3" name="Picture 7" descr="Рисунок12"/>
          <p:cNvPicPr/>
          <p:nvPr/>
        </p:nvPicPr>
        <p:blipFill>
          <a:blip r:embed="rId1"/>
          <a:stretch/>
        </p:blipFill>
        <p:spPr>
          <a:xfrm>
            <a:off x="5148360" y="4365720"/>
            <a:ext cx="2306520" cy="1693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Рисунок8"/>
          <p:cNvPicPr/>
          <p:nvPr/>
        </p:nvPicPr>
        <p:blipFill>
          <a:blip r:embed="rId2"/>
          <a:stretch/>
        </p:blipFill>
        <p:spPr>
          <a:xfrm>
            <a:off x="2484360" y="4221000"/>
            <a:ext cx="12859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5520" y="1857240"/>
            <a:ext cx="79009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bat-Bold"/>
              </a:rPr>
              <a:t>Среда водных растворов электролитов</a:t>
            </a:r>
            <a:endParaRPr b="0" lang="en-US" sz="6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86800" cy="487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Cl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N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3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S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,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H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3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PO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4 </a:t>
            </a: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? </a:t>
            </a: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571400"/>
            <a:ext cx="778680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 baseline="30000">
                <a:solidFill>
                  <a:srgbClr val="ffffff"/>
                </a:solidFill>
                <a:latin typeface="Arbat-Bold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bat-Bold"/>
              </a:rPr>
              <a:t> 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9" name="GCH_2Ab08_01Na.avi" descr=""/>
          <p:cNvPicPr/>
          <p:nvPr/>
        </p:nvPicPr>
        <p:blipFill>
          <a:blip r:embed="rId1"/>
          <a:stretch/>
        </p:blipFill>
        <p:spPr>
          <a:xfrm>
            <a:off x="1116000" y="561960"/>
            <a:ext cx="67597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868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-Bold"/>
              </a:rPr>
              <a:t>К какому классу относятся вещества с формулами: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Na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; 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K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;  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Ca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(</a:t>
            </a:r>
            <a:r>
              <a:rPr b="1" lang="en-US" sz="5400" spc="-1" strike="noStrike">
                <a:solidFill>
                  <a:srgbClr val="ffffff"/>
                </a:solidFill>
                <a:latin typeface="Arbat-Bold"/>
              </a:rPr>
              <a:t>OH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)</a:t>
            </a:r>
            <a:r>
              <a:rPr b="1" lang="ru-RU" sz="5400" spc="-1" strike="noStrike" baseline="-25000">
                <a:solidFill>
                  <a:srgbClr val="ffffff"/>
                </a:solidFill>
                <a:latin typeface="Arbat-Bold"/>
              </a:rPr>
              <a:t>2</a:t>
            </a:r>
            <a:r>
              <a:rPr b="1" lang="ru-RU" sz="5400" spc="-1" strike="noStrike">
                <a:solidFill>
                  <a:srgbClr val="ffffff"/>
                </a:solidFill>
                <a:latin typeface="Arbat-Bold"/>
              </a:rPr>
              <a:t> ? 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3880" y="611640"/>
            <a:ext cx="75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22" name="GCH_2Ac14_01Na.avi" descr=""/>
          <p:cNvPicPr/>
          <p:nvPr/>
        </p:nvPicPr>
        <p:blipFill>
          <a:blip r:embed="rId1"/>
          <a:stretch/>
        </p:blipFill>
        <p:spPr>
          <a:xfrm>
            <a:off x="1187280" y="542880"/>
            <a:ext cx="67852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Zver</cp:lastModifiedBy>
  <dcterms:modified xsi:type="dcterms:W3CDTF">2015-03-16T17:31:57Z</dcterms:modified>
  <cp:revision>159</cp:revision>
  <dc:subject/>
  <dc:title>Классная доска</dc:title>
</cp:coreProperties>
</file>