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5AC0-F19C-47BC-8C10-BD49D7E9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B36B-832B-459C-9C52-B6B5FD11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4A1A-82B9-4625-8A4F-5E0DF7F2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C533-6103-4CCB-A550-739B9DEF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5124-5E36-4AB6-A53B-22EDD990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3517-1B0C-4343-8090-85D58BD7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B5D8-703B-4364-A050-1119809A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E91C-7F2E-4933-B748-ABEB519C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3E4-657A-4626-8F7F-C89E27B4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7242-09B0-4A46-B9A6-28439098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A41C-EBBA-4A1C-AEC7-6D7C6888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0955-A23F-4CDD-906D-D2D8757C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CBD5-B6C4-4BDC-A17E-F32C67A684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16426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002060"/>
                </a:solidFill>
                <a:latin typeface="Monotype Corsiva"/>
              </a:rPr>
              <a:t>«</a:t>
            </a: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По страницам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детских журналов»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(тест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2411280" y="3645000"/>
            <a:ext cx="494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Литературное чтение, 3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74883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8. Отметь, почему у мальчиков в рассказе Ю.Ермолаева не получилось стать воспитателями.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55640" y="2708280"/>
            <a:ext cx="756144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) не пытались разобраться в ситу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) не дружили с малыш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) не знали детей из своего дво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) не слушались родител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9.Отметь произведение Ю.Ермолае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«Воспитател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«Как получаются легенд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«Вредные совет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«Весёлые стих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40096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0.Найди слово, которым нужно закончить четверостишие.</a:t>
            </a:r>
            <a:br>
              <a:rPr sz="2800"/>
            </a:b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За рояль уселся кит,</a:t>
            </a:r>
            <a:br>
              <a:rPr sz="2800"/>
            </a:b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Звери ждут, а он молчит.</a:t>
            </a:r>
            <a:br>
              <a:rPr sz="2800"/>
            </a:b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Помолчал немного, </a:t>
            </a:r>
            <a:br>
              <a:rPr sz="2800"/>
            </a:b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Поклонился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3429000"/>
            <a:ext cx="80438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низ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важ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стр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тих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7640" y="981000"/>
            <a:ext cx="5832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Используемые источник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476000" y="1773360"/>
            <a:ext cx="633564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лиманова Л. Ф., Горецкий В. Г., Голованова М. В. Родная речь. Учебник для 3 класса начальной школы. В двух частях. Часть 2. М.: Просвещение, 200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Шубина Г.В. Контрольно-измерительные материалы. Литературное чтение: 3 класс. М.: Экзамен,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утявина С. В. Поурочные разработки по литературному чтению. 3 класс. М.: ВАКО,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042920" y="1125360"/>
            <a:ext cx="727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Monotype Corsiva"/>
              </a:rPr>
              <a:t>Ребя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ам нужно внимательно прочитать вопрос и выбрать правильный ответ (или ответы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Monotype Corsiva"/>
              </a:rPr>
              <a:t>Желаю удач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Когда был основан журнал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Мурзилка»?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42920" y="2349000"/>
            <a:ext cx="727416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) в 1920 г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) в 1924 г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) в 1956 г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) в 1980 г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Отметь, чему учит потерявшегос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бёнка совет Г.Б. Ост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побывать в дальних стран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знать свой адре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говорить неправ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чаще теря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836640"/>
            <a:ext cx="70581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.Чего Ирочка не говорила в ответ на бабушкины просьбы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42920" y="2205000"/>
            <a:ext cx="72741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) «Отстань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) «Сейчас помогу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) «Мне некогда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) «Вот ещё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280" y="980640"/>
            <a:ext cx="7056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 Чему не учила Ирочк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воего попугая?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42920" y="2276280"/>
            <a:ext cx="7274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) мяука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) лая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) квака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) говорить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Здравствуйте, ребята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6000" y="836640"/>
            <a:ext cx="66960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.Кто написал рассказ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Как получаются легенды»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42560" y="2421000"/>
            <a:ext cx="74898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) Ю. И. Ермолае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) В. Ю. Драгунс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) Г. Б. Осте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) Роман Се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6408720" cy="21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.Кто из перечисленных животных не упоминаетс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«Весёлых стихах»?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99640" y="2997000"/>
            <a:ext cx="741708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) слон и ки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) курица и голуб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) козёл и осё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) тигр и медвед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20072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.Узнай произведение по ключевым словам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Лавровый переулок, бабушка, дедушка, дети, девочка, ветер.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26920" y="2421000"/>
            <a:ext cx="749016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) Г.Б. Осте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Как получаются легенды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) Г. Б. Остер «Вредные советы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) Ю. И. Ермолае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Воспитател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) Ю. И. Ермолаев «Проговорился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14:01Z</dcterms:created>
  <dc:creator>Компас</dc:creator>
  <dc:description/>
  <dc:language>en-US</dc:language>
  <cp:lastModifiedBy>USER</cp:lastModifiedBy>
  <dcterms:modified xsi:type="dcterms:W3CDTF">2015-05-12T10:29:06Z</dcterms:modified>
  <cp:revision>7</cp:revision>
  <dc:subject/>
  <dc:title>«По страницам  детских журналов»</dc:title>
</cp:coreProperties>
</file>