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09E-CAD7-4F39-B27A-888DF66D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7CE-2B08-4979-BAAD-66C3FC6B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575-0AED-4457-9916-7554B5D9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ECC-7D26-45D6-A3AA-55BFFBC8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4AC-AC9B-4A1A-A7FA-1A2BC989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5B8-33AD-435D-B6FC-56BB309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E73-9082-4FD4-87A4-D464A3F7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CCD-2CB6-41AD-9773-B18FEDCF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4BC-9C0E-4034-AC80-CCE574C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44F-0283-41A8-96D3-2DE52E2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780-59E2-496F-8097-8DE570D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949-4682-4D6D-BB6E-2F69D5F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6590-707F-4D49-8E50-F2E2E570C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2060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По страницам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детских журналов»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(тест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411280" y="3645000"/>
            <a:ext cx="494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итературное чтение, 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488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 Отметь, почему у мальчиков в рассказе Ю.Ермолаева не получилось стать воспитателями.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640" y="2708280"/>
            <a:ext cx="7561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не пытались разобраться в ситу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не дружили с малыш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е знали детей из своего дв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не слушались родите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9.Отметь произведение Ю.Ермола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«Воспитател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«Как получаются леген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«Вредные сове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«Весёлые стих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.Найди слово, которым нужно закончить четверостишие.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За рояль уселся кит,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Звери ждут, а он молчит.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Помолчал немного,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Поклонился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429000"/>
            <a:ext cx="80438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низ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аж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тр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ти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5832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Используемые источни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76000" y="1773360"/>
            <a:ext cx="633564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лиманова Л. Ф., Горецкий В. Г., Голованова М. В. Родная речь. Учебник для 3 класса начальной школы. В двух частях. Часть 2. М.: Просвещение, 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Шубина Г.В. Контрольно-измерительные материалы. Литературное чтение: 3 класс. М.: Экзамен,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утявина С. В. Поурочные разработки по литературному чтению. 3 класс. М.: ВАКО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42920" y="11253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ам нужно внимательно прочитать вопрос и выбрать правильный ответ (или ответы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Желаю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Когда был основан журнал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Мурзилка»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2349000"/>
            <a:ext cx="7274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1920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1924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в 1956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в 1980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Отметь, чему учит потерявшего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бёнка совет Г.Б. Ост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обывать в дальних стра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знать свой адр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говорить неправ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чаще теря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836640"/>
            <a:ext cx="70581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Чего Ирочка не говорила в ответ на бабушкины просьб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42920" y="2205000"/>
            <a:ext cx="7274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«Отстань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«Сейчас помогу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«Мне некогда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«Вот ещё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Чему не учила Ироч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его попугая?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2920" y="2276280"/>
            <a:ext cx="7274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мяук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ла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квак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говорить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Здравствуйте, ребята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836640"/>
            <a:ext cx="6696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Кто написал рассказ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Как получаются легенды»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42560" y="2421000"/>
            <a:ext cx="7489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Ю. И. Ермола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. Ю. Драгу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Г. Б. Ост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Роман Се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40872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Кто из перечисленных животных не упоминаетс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«Весёлых стихах»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99640" y="2997000"/>
            <a:ext cx="74170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лон и к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курица и голу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козёл и осё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тигр и 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200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Узнай произведение по ключевым словам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авровый переулок, бабушка, дедушка, дети, девочка, ветер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920" y="2421000"/>
            <a:ext cx="7490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Г.Б. Ост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Как получаются легенд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Г. Б. Остер «Вредные совет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Ю. И. Ермолае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Воспитател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) Ю. И. Ермолаев «Проговорилс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14:01Z</dcterms:created>
  <dc:creator>Компас</dc:creator>
  <dc:description/>
  <dc:language>en-US</dc:language>
  <cp:lastModifiedBy>USER</cp:lastModifiedBy>
  <dcterms:modified xsi:type="dcterms:W3CDTF">2015-05-12T10:29:06Z</dcterms:modified>
  <cp:revision>7</cp:revision>
  <dc:subject/>
  <dc:title>«По страницам  детских журналов»</dc:title>
</cp:coreProperties>
</file>