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40677-9C05-4D04-BE8C-3453E26049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B539F-3B1B-4B08-9FAD-5246D7C9B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8044F-57F2-4969-9AC1-873114EED3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260A6-5F4C-4AD1-98D5-E20B774C04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224715-ED5B-4F58-921E-13884CE7CB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89E9CF-851D-4B02-B4D3-AEFAE1536B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4E143F-8F9E-489A-9741-B5175997C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01748D-9FAC-4131-B5C9-B458B01A51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941EFD8-2C27-418F-AC74-713191AEA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E7D774C-F3DB-456C-912B-EC186B600C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9A3227-6AD2-4862-BCCB-3B4EFA090D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FF814-A1B3-470E-AF9D-039ECE1F7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011F65-57CD-4CBD-B1CB-594D21E11F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DADECC-06F6-4C7D-8AFB-B8C8041C8C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5998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F60ABA0-BDC1-4FF9-B566-16927E78FF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1260468-1A06-4D26-9097-74DB4B9079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8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6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8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D5CBF5-BAD6-4CF0-9861-FD317061B5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A6B5-63AB-46A9-BCDE-6325A4685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97C45-BBBA-4876-86CA-60A8B153C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7A81B-62DC-4F8D-B19A-C3D55A633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CD83F6-3BCD-4080-909C-683ACC2503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612A9-F995-4020-B1BA-E2CED1047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A6852-F7E5-44CD-9E49-E5A3AFC0E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7CDE7-46CF-4CFD-8358-7F1933041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1"/>
          </p:nvPr>
        </p:nvSpPr>
        <p:spPr>
          <a:xfrm>
            <a:off x="6553080" y="6245280"/>
            <a:ext cx="2129040" cy="47160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2454A8-474F-42F2-BCBF-1D17799AB7F4}"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3"/>
          <p:cNvSpPr>
            <a:spLocks noGrp="1"/>
          </p:cNvSpPr>
          <p:nvPr>
            <p:ph type="body"/>
          </p:nvPr>
        </p:nvSpPr>
        <p:spPr>
          <a:xfrm>
            <a:off x="456840" y="1604520"/>
            <a:ext cx="8224920" cy="4521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3"/>
          <p:cNvSpPr>
            <a:spLocks noGrp="1"/>
          </p:cNvSpPr>
          <p:nvPr>
            <p:ph type="sldNum" idx="2"/>
          </p:nvPr>
        </p:nvSpPr>
        <p:spPr>
          <a:xfrm>
            <a:off x="6553080" y="6245280"/>
            <a:ext cx="2129040" cy="471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D1A6522-A31F-4099-A912-1BCA60B6B459}"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0920" y="4966920"/>
            <a:ext cx="5832360" cy="647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000000"/>
                </a:solidFill>
                <a:latin typeface="Segoe Print"/>
              </a:rPr>
              <a:t>РАЗВИВАЕМ МЫШЛЕНИЕ И ВНИМАНИЕ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35280" y="345960"/>
            <a:ext cx="775008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Живое-неживое»</a:t>
            </a:r>
            <a:endParaRPr b="0" lang="en-US" sz="2800" spc="-1" strike="noStrike">
              <a:solidFill>
                <a:srgbClr val="000000"/>
              </a:solidFill>
              <a:latin typeface="Arial"/>
            </a:endParaRPr>
          </a:p>
        </p:txBody>
      </p:sp>
      <p:sp>
        <p:nvSpPr>
          <p:cNvPr id="10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457200" y="865080"/>
            <a:ext cx="8229600" cy="4678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 </a:t>
            </a:r>
            <a:endParaRPr b="0" lang="en-US" sz="10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накомим ребенка с понятиями "одушевленный" и "неодушевленный".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начала объясняем, что все живые предметы мы называем "КТО", а неживые "ЧТО". Приводим несколько примеров.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тем играем в вопросы и ответы. Можно использовать книжки с сюжетными картинками.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растет? Кто раст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летает? Что лета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плавает? Что плава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самый большой? Что самое большое?</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 т.д.</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8000" y="287280"/>
            <a:ext cx="7823160" cy="517680"/>
          </a:xfrm>
          <a:prstGeom prst="rect">
            <a:avLst/>
          </a:prstGeom>
          <a:noFill/>
          <a:ln w="0">
            <a:noFill/>
          </a:ln>
        </p:spPr>
        <p:txBody>
          <a:bodyPr lIns="90000" rIns="90000" tIns="45000" bIns="45000" anchor="t">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то это» </a:t>
            </a:r>
            <a:br>
              <a:rPr sz="2800"/>
            </a:br>
            <a:r>
              <a:rPr b="1" lang="es-ES" sz="2800" spc="-1" strike="noStrike">
                <a:solidFill>
                  <a:srgbClr val="000000"/>
                </a:solidFill>
                <a:latin typeface="Segoe Print"/>
              </a:rPr>
              <a:t>(знакомимся с профессиями)</a:t>
            </a:r>
            <a:endParaRPr b="0" lang="en-US" sz="28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216000" y="1440000"/>
            <a:ext cx="8640720" cy="51210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игры хорошо иметь карточки с изображением людей разных профессий и инструментов.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1 вариант: Задаем вопросы: кто лечит больных? Кто учит детей в школе? Кто готовит обед? Кто работает на тракторе? Кто разносит письма и газеты? Кто шьет платье?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2 вариант: Вопросы: что делает дворник? Что делает доктор? Что делает электромонтер? Что делает учитель? Что делает шофер? Что делает маляр? Что делает парикмахер?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вариант: Придумываем загадки. Например: этот человек работает на улице, у него есть метла, лопата.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4 вариант: "Кому что нужно?" Что нужно почтальону? Что нужно парикмахеру? И наоборот: кому нужны ножницы? Кому нужна иголка?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Отгадай»</a:t>
            </a:r>
            <a:endParaRPr b="0" lang="en-US" sz="2800" spc="-1" strike="noStrike">
              <a:solidFill>
                <a:srgbClr val="000000"/>
              </a:solidFill>
              <a:latin typeface="Arial"/>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152280" y="1114560"/>
            <a:ext cx="8632800" cy="47019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Условия игры те же, что и в предыдущей. Но задача здесь сложнее. Нужно не только найти правильные определения предметов, но и правильно согласовать по родам прилагательные и существительные, а так же знать такие понятия как мебель, овощи, фрукты, насекомые, домашние и дикие животные и т.п.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икое животное, живет в лесу, большое, лохматое, любит мед.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икое животное, хитрая, рыжая, с пушистым хвостом.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секомое, с разноцветными крыльями, похожа на цветок.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ранспорт, большой, тяжелый, с крыльями и хвостом.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Овощ, красного цвета, круглый, его кладут в салат и в борщ.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ладкая, маленькая, в красивой бумажке.</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Я – луна, ты - звезда»</a:t>
            </a:r>
            <a:endParaRPr b="0" lang="en-US" sz="2800" spc="-1" strike="noStrike">
              <a:solidFill>
                <a:srgbClr val="000000"/>
              </a:solidFill>
              <a:latin typeface="Arial"/>
            </a:endParaRPr>
          </a:p>
        </p:txBody>
      </p:sp>
      <p:sp>
        <p:nvSpPr>
          <p:cNvPr id="11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16000" y="982800"/>
            <a:ext cx="8712000" cy="4057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на развитие логического мышления, быстроты реакции.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ариант для игры вдвоём: Один говорит, например: "Я - гроза!". Другой должен быстро ответить что-либо подходящее, к примеру: "А я -дождь". Первый продолжает тему: "Я - большая туча!". Ему можно быстро ответить: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 - осень". И так далее...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ариант для игры группой: В игре должно быть не меньше шести человек.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се, кроме одного садятся на стулья в кружок. В середине стоят три стула, на одном из них сидит кто-то из детей. Он говорит, например:" Я - пожарная команда!". Кто-нибудь из детей, кому первому придет в голову что-нибудь подходящее, садится рядом на свободный стул и говорит: "Я - шланг". Другой спешит на второй стул и говорит: "А я - пожарник". Ребёнок - "пожарная команда должен выбрать одного из двух, например: "Я беру шланг". Он обнимает "шланг" и они садятся на стулья к другим детям. Оставшийся один ребёнок должен придумать что-нибудь новое, например: "Я - швейная машина!" и игра продолжается...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34920" y="41904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Бывает не бывает»</a:t>
            </a:r>
            <a:endParaRPr b="0" lang="en-US" sz="2800" spc="-1" strike="noStrike">
              <a:solidFill>
                <a:srgbClr val="000000"/>
              </a:solidFill>
              <a:latin typeface="Arial"/>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216000" y="1365120"/>
            <a:ext cx="8640720" cy="294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зываете какую-нибудь ситуацию и бросаете ребенку мяч. Ребенок должен поймать мяч в том случае, если названная ситуация бывает, а если - нет, то мяч надо отби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итуации можно предлагать разны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апа ушел на работ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езд летит по неб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ошка хочет есть;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чтальон принес письмо;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блоко солено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ом пошел гуля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туфли стеклянные и т.д.</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Небылицы»</a:t>
            </a:r>
            <a:endParaRPr b="0" lang="en-US" sz="2800" spc="-1" strike="noStrike">
              <a:solidFill>
                <a:srgbClr val="000000"/>
              </a:solidFill>
              <a:latin typeface="Arial"/>
            </a:endParaRPr>
          </a:p>
        </p:txBody>
      </p:sp>
      <p:sp>
        <p:nvSpPr>
          <p:cNvPr id="12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144360" y="1209600"/>
            <a:ext cx="8423280" cy="3668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рассказывает о чем-то, включая в свой рассказ несколько небылиц. Ребенок должен заметить и объяснить, почему так не бывает.</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мер: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 вот что хочу вам рассказать. Вот вчера - иду я по дороге, солнышко светит, темно, листочки синие под ногами шуршат. И вдруг из-за угла как выскочит собака, как зарычит на меня: "Ку-ка-ре-ку!" - и рога уже наставила. Я испугался и убежал. А ты бы испугался?</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ду я вчера по лесу. Кругом машины ездят, светофоры мигают. Вдруг вижу - гриб. На веточке растет. Среди листочков зеленых спрятался. Я подпрыгнул и сорвал его.</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шел я на речку. Смотрю - сидит на берегу рыба, ногу на ногу закинула и сосиску жует. Я подошел, а она прыг в воду - и уплыла.</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Наоборот»</a:t>
            </a:r>
            <a:endParaRPr b="0" lang="en-US" sz="2800" spc="-1" strike="noStrike">
              <a:solidFill>
                <a:srgbClr val="000000"/>
              </a:solidFill>
              <a:latin typeface="Arial"/>
            </a:endParaRPr>
          </a:p>
        </p:txBody>
      </p:sp>
      <p:sp>
        <p:nvSpPr>
          <p:cNvPr id="12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216000" y="797040"/>
            <a:ext cx="8640720" cy="46339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едложите ребенку игру "Я буду говорить слово, а ты тоже говори, только наоборот, например, большой - малень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Можно использовать следующие пары слов: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селый - груст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быстрый - медлен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устой - пол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умный — глупый,</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трудолюбивый - ленив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ильный - слаб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яжелый - лег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русливый - храбр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белый - чер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вердый - мяг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шершавый - гладкий и т.д.</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Что будет если»</a:t>
            </a:r>
            <a:endParaRPr b="0" lang="en-US" sz="2800" spc="-1" strike="noStrike">
              <a:solidFill>
                <a:srgbClr val="000000"/>
              </a:solidFill>
              <a:latin typeface="Arial"/>
            </a:endParaRPr>
          </a:p>
        </p:txBody>
      </p:sp>
      <p:sp>
        <p:nvSpPr>
          <p:cNvPr id="12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287280" y="863640"/>
            <a:ext cx="8535960" cy="357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задает вопрос - ребенок отвечае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встану ногами в луж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в ванну с водой упадет мячик? Палка? Полотенце? Котенок? Камень?"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сьесть много мороженого?»</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не полить цветы?»</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не вымою посуд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дерну кота за хвос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летом пойдет снег?» и т. д.</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Затем меняйтесь ролями.</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31640" y="28728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Раз коленка, два коленка»</a:t>
            </a:r>
            <a:endParaRPr b="0" lang="en-US" sz="2800" spc="-1" strike="noStrike">
              <a:solidFill>
                <a:srgbClr val="000000"/>
              </a:solidFill>
              <a:latin typeface="Arial"/>
            </a:endParaRPr>
          </a:p>
        </p:txBody>
      </p:sp>
      <p:sp>
        <p:nvSpPr>
          <p:cNvPr id="13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576360" y="1252440"/>
            <a:ext cx="8110440" cy="442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се садятся на стулья в тесный круг.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тем каждый должен положить руку на правое колено соседу слева. Положили? Так, а теперь начиная с ведущего, по часовой стрелке по всем коленкам по очереди должен пройти лёгкий хлопок рукой. Сначала — правая рука ведущего, затем левая рука его соседа справа, затем правая рука соседа слева, затем левая рука ведущего и т. д.</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ервый круг проводится для того, чтобы ребята поняли, как надо действовать. После этого начинается игра. Тот, кто ошибся в процессе игры, убирает руку, которая либо задержалась со своим хлопком, либо произвела его раньш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игрок убрал обе руки, он выходит из круга, а игра продолжает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усложнения задачи ведущий всё быстрее и быстрее даёт счет, под который должен быть произведён хлопок. Выигрывают три игрока, оставшиеся последними.</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Что будет если»</a:t>
            </a:r>
            <a:endParaRPr b="0" lang="en-US" sz="2800" spc="-1" strike="noStrike">
              <a:solidFill>
                <a:srgbClr val="000000"/>
              </a:solidFill>
              <a:latin typeface="Arial"/>
            </a:endParaRPr>
          </a:p>
        </p:txBody>
      </p:sp>
      <p:sp>
        <p:nvSpPr>
          <p:cNvPr id="13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87280" y="863640"/>
            <a:ext cx="8535960" cy="357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задает вопрос - ребенок отвечае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встану ногами в луж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в ванну с водой упадет мячик? Палка? Полотенце? Котенок? Камень?"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сьесть много мороженого?»</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не полить цветы?»</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не вымою посуд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дерну кота за хвос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летом пойдет снег?» и т. д.</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Затем меняйтесь ролями.</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Segoe Print"/>
              </a:rPr>
              <a:t>«Будь внимателен»</a:t>
            </a:r>
            <a:endParaRPr b="0" lang="en-US" sz="2800" spc="-1" strike="noStrike">
              <a:solidFill>
                <a:srgbClr val="000000"/>
              </a:solidFill>
              <a:latin typeface="Arial"/>
            </a:endParaRPr>
          </a:p>
        </p:txBody>
      </p:sp>
      <p:sp>
        <p:nvSpPr>
          <p:cNvPr id="8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431640" y="817560"/>
            <a:ext cx="7848720" cy="47052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Цель игры. Стимулировать внимание; обучение быстрому и точному реагированию на звуковые сигналы.</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оцедура игры. Дети стоят группой свободно. Каждый ребенок находится на расстоянии от другого примерно 0,5 м. Звучит маршевая музыка (н-р "Марш" С. Прокофьева). Дети маршируют под музыку свободно, у кого как получаетс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ходе марширования руководитель игры произвольно, с разными интонациями и вперемешку дает команды. Дети реализуют движение в соответствии с командой.</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йчики!" Дети прыгают, имитируя движение зайца</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Лошадки!" Дети ударяют ногой об пол, как будто лошадь бьет копытом.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аки!" Дети пятятся, как раки спиной.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тицы!" Дети бегают, раскинув руки (имитация полета птицы.)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ист!" Стоят на одной ноге.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Лягушка!" Присесть и скакать в присядк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обачки!" Дети сгибают руки (имитация движения, когда "собака служит") и лают.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урочки!" Дети ходят,"ищут зерна" на полу и произносят "ко-ко-ко".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оровки!" Дети встают на руки и ноги (4 ноги у коровы) и произносят "му-у-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редмет-действие»</a:t>
            </a:r>
            <a:endParaRPr b="0" lang="en-US" sz="2800" spc="-1" strike="noStrike">
              <a:solidFill>
                <a:srgbClr val="000000"/>
              </a:solidFill>
              <a:latin typeface="Arial"/>
            </a:endParaRPr>
          </a:p>
        </p:txBody>
      </p:sp>
      <p:sp>
        <p:nvSpPr>
          <p:cNvPr id="13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216000" y="750960"/>
            <a:ext cx="8712000" cy="43606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азвитие мышления и речи</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говорит: «я буду говорить слово , обозначающее какой -нибудь предмет, а вы должны быстро придумать, что можно сделать с помощью этого предмета. Например, ножницы -резать, калькулятор -считать, лопата -копа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лова: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грабли (собирать опавшие листья),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илка (куша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молоток (забивать гвозди),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ашка (п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астрюля (варить),</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иголка (ш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оги (ход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уки (брать),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глаза (смотреть), нос (дышать), уши (слышать), ручка (писать), фломастер, краски (рисовать),лейка (поливать), отвёртка (закручивать шурупы), дрель (сверлить в стене дыру), сумка (носить вещи), пила (пилить), порошок (стирать), мыло (мыть), утюг (гладить), коса (косить траву), спички (разводить огонь), сковорода (жарить), клей (клеить),  забор (огораживать территорию), книга (читать),  градусник (измерять температуру), часы (узнавать время), телефон (звонить).</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8360" y="561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уда поместится кошка?»</a:t>
            </a:r>
            <a:endParaRPr b="0" lang="en-US" sz="2800" spc="-1" strike="noStrike">
              <a:solidFill>
                <a:srgbClr val="000000"/>
              </a:solidFill>
              <a:latin typeface="Arial"/>
            </a:endParaRPr>
          </a:p>
        </p:txBody>
      </p:sp>
      <p:sp>
        <p:nvSpPr>
          <p:cNvPr id="14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1000" y="1635120"/>
            <a:ext cx="9063000" cy="2639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просите малыша изобразить знакомое ему животное (кошку, собаку, козу и т.п.).</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едложите придумать места, куда оно могло бы поместить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пример: «Кошка поместится к нам в квартир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от в эту коробку она поместит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 сумк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 карман?» – пусть малыш сам придумывает места, куда можно пристроить кошку.</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способствует развитию воображения, речи, памяти, навыков сопоставления.</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24000" y="4090680"/>
            <a:ext cx="7823160" cy="51732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резентацию подготовила </a:t>
            </a:r>
            <a:br>
              <a:rPr sz="2800"/>
            </a:br>
            <a:r>
              <a:rPr b="1" lang="es-ES" sz="2800" spc="-1" strike="noStrike">
                <a:solidFill>
                  <a:srgbClr val="000000"/>
                </a:solidFill>
                <a:latin typeface="Segoe Print"/>
              </a:rPr>
              <a:t>педагог-психолог Риянова О.И.</a:t>
            </a:r>
            <a:endParaRPr b="0" lang="en-US" sz="2800" spc="-1" strike="noStrike">
              <a:solidFill>
                <a:srgbClr val="000000"/>
              </a:solidFill>
              <a:latin typeface="Arial"/>
            </a:endParaRPr>
          </a:p>
        </p:txBody>
      </p:sp>
      <p:sp>
        <p:nvSpPr>
          <p:cNvPr id="14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Слушай хлопки»</a:t>
            </a:r>
            <a:endParaRPr b="0" lang="en-US" sz="2800" spc="-1" strike="noStrike">
              <a:solidFill>
                <a:srgbClr val="000000"/>
              </a:solidFill>
              <a:latin typeface="Arial"/>
            </a:endParaRPr>
          </a:p>
        </p:txBody>
      </p:sp>
      <p:sp>
        <p:nvSpPr>
          <p:cNvPr id="8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431640" y="792000"/>
            <a:ext cx="8479080" cy="47023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Цель игры. Развитие активного внимани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оцедура игры. Дети двигаются свободно в группе или ходят по кругу. Когда ведущий хлопает в ладоши определенное количество раз, дети принимают соответствующую позу(на 10-20 сек.)</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хлопок. Поза "аиста" (ребенок стоит на одной ноге, поджав другую)</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хлопок. Поза "лягушки" (присесть, пятки вместе носки врозь и колени в стороны, руки - между ногами на пол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хлопок. Дети возобновляют движение (ходьб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мечани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1. До начала игры рекомендуется "выучить" каждую позу и прорепетировать: хлопки-поза.</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2. Желательно, чтобы дети двигались в играх свободно, без нормирования. Для этого проводить игровые занятия следует в большой комнате на ковре, паласе. Расстояние между детьми должно быть примерно 0,5 м.</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помещение небольшое, предложите детям двигаться по кругу.</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Каждая предполагаемая игра "прокручивается" несколько раз с разными заданиями, участниками. Общая продолжительность игры -25 минут.</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акое что бывает»</a:t>
            </a:r>
            <a:endParaRPr b="0" lang="en-US" sz="2800" spc="-1" strike="noStrike">
              <a:solidFill>
                <a:srgbClr val="000000"/>
              </a:solidFill>
              <a:latin typeface="Arial"/>
            </a:endParaRPr>
          </a:p>
        </p:txBody>
      </p:sp>
      <p:sp>
        <p:nvSpPr>
          <p:cNvPr id="9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285840" y="1079640"/>
            <a:ext cx="8642160" cy="39337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я в эту игру, дети научатся сравнивать, обобщать свойства предметов и, наконец, понимать значение таких понятий как высота, ширина, длина; классифицировать предметы по форме, размеру, цвету. Сначала вопросы задает взрослый, а ребенок отвечает. Потом нужно дать возможность ребенку проявить себя.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меры: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высоким? (дерево, столб, человек, дом). Здесь уместно спросить, что выше - дерево или дом; человек или столб.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длинным? (коротки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широким (узки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круглым (квадратны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игру можно включать самые разные понятия: что бывает пушистым, мягким, твердым, острым, холодным, белым, черным и т.д.</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8920" y="3603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Жили были»</a:t>
            </a:r>
            <a:endParaRPr b="0" lang="en-US" sz="2800" spc="-1" strike="noStrike">
              <a:solidFill>
                <a:srgbClr val="000000"/>
              </a:solidFill>
              <a:latin typeface="Arial"/>
            </a:endParaRPr>
          </a:p>
        </p:txBody>
      </p:sp>
      <p:sp>
        <p:nvSpPr>
          <p:cNvPr id="9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a:off x="222120" y="766800"/>
            <a:ext cx="8561520" cy="53974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 </a:t>
            </a: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на развитие мышления, смекалки, закрепление знаний об окружающем мире. Играть можно вдвоем с ребенком или компанией, задавая вопросы по очереди.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деток поменьше вопросы простые, для более старших посложнее - со "степенью трудности" определитесь сами.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задает вопрос "Жил-был цыпленок, что с ним потом стало?" - "Он стал петушк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а-была тучка, что с ней потом стало?" - "Из нее дождик пролился"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был ручеек, что с ним стало?" - "Зимой замерз", "Засох в жару".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о-было семечко, что с ним потом стало?" - "Из него цветок вырос"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был кусочек глины, что с ним потом стало?" - "Из него сделали кирпич (вазу...).</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Угадай игрушку»</a:t>
            </a:r>
            <a:endParaRPr b="0" lang="en-US" sz="2800" spc="-1" strike="noStrike">
              <a:solidFill>
                <a:srgbClr val="000000"/>
              </a:solidFill>
              <a:latin typeface="Arial"/>
            </a:endParaRPr>
          </a:p>
        </p:txBody>
      </p:sp>
      <p:sp>
        <p:nvSpPr>
          <p:cNvPr id="9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431640" y="1019160"/>
            <a:ext cx="8229600" cy="3184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ыбирается один водящий, который выходит на 2-3 минуты из комнаты. В его отсутствие из детей выбирается тот, кто будет загадывать "загадку". Этот ребенок должен жестами и мимикой показать, какую игрушку он задумал. Например, задумана игрушка "зайка". Ребенок прыгает, "грызет морковку" и т. д. Водящий должен отгадать игрушку, выбрать ее, взять в руки и громко назвать. Остальные дети хором говорят "Правильно!" или "Неправильно!".</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ответ правильный, выбирается другой водящий и другой ребенок, который будет загадывать "загадку". Если ответ неправильный, показать "загадку" предлагается другому ребенку, и так до тех пор, пока не будет получен правильный ответ.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76000" y="36180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то кем (чем) будет»</a:t>
            </a:r>
            <a:endParaRPr b="0" lang="en-US" sz="2800" spc="-1" strike="noStrike">
              <a:solidFill>
                <a:srgbClr val="000000"/>
              </a:solidFill>
              <a:latin typeface="Arial"/>
            </a:endParaRPr>
          </a:p>
        </p:txBody>
      </p:sp>
      <p:sp>
        <p:nvSpPr>
          <p:cNvPr id="9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576360" y="879480"/>
            <a:ext cx="8986680" cy="58165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хороша тем, что можно играть и компанией и вдвоем с ребенком где угодно. Задавайте друг другу вопросы, следите, чтобы малыш, отвечая на вопрос, грамотно склонял имена существительные.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ем будет яйцо? (может быть птенцом, крокодилом, черепахой, змее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цыпленок - петух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альчик - мужчино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теленок - коровой или бык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бумага - книгой</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снег -водо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вода - льдо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семечко - цветко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ука - блинчиками</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 т. д.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360360"/>
            <a:ext cx="7823520" cy="517680"/>
          </a:xfrm>
          <a:prstGeom prst="rect">
            <a:avLst/>
          </a:prstGeom>
          <a:noFill/>
          <a:ln w="0">
            <a:noFill/>
          </a:ln>
        </p:spPr>
        <p:txBody>
          <a:bodyPr lIns="90000" rIns="90000" tIns="45000" bIns="45000" anchor="t">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арные картинки” (развитие мыслительных операций анализа и синтеза)</a:t>
            </a:r>
            <a:endParaRPr b="0" lang="en-US" sz="2800" spc="-1" strike="noStrike">
              <a:solidFill>
                <a:srgbClr val="000000"/>
              </a:solidFill>
              <a:latin typeface="Arial"/>
            </a:endParaRPr>
          </a:p>
        </p:txBody>
      </p:sp>
      <p:sp>
        <p:nvSpPr>
          <p:cNvPr id="10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503280" y="1677960"/>
            <a:ext cx="8183520" cy="32180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спользуются картинки из двух наборов детского лото. Группа детей делится пополам. Каждый ребенок получает по четыре картинки. Дети из первой группы по очереди описывают предмет, нарисованный на одной из имеющихся у них картинок, не показывая их. Тот ребенок, у которого, по его мнению, есть эта картинка, показывает ее. Если ответ правильный, обе картинки откладываются в сторону (в общую коробку, например). Если ответ неправильный, первый ребенок повторяет свое описание, сделав его более подробным и детализированны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сле того как все дети из первой группы описали по одной картинке, роли меняются. Теперь дети из второй группы также по очереди описывают свои картинки, а дети из первой группы отгадывают их.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Третий лишний»</a:t>
            </a:r>
            <a:endParaRPr b="0" lang="en-US" sz="2800" spc="-1" strike="noStrike">
              <a:solidFill>
                <a:srgbClr val="000000"/>
              </a:solidFill>
              <a:latin typeface="Arial"/>
            </a:endParaRPr>
          </a:p>
        </p:txBody>
      </p:sp>
      <p:sp>
        <p:nvSpPr>
          <p:cNvPr id="10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144360" y="720720"/>
            <a:ext cx="8712360" cy="60706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этой игре дети учатся классифицировать предметы по признакам, заданным в условиях.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етям 3-5 лет условия более простые.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пример:</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говорит три слова - сова, ворона, лиса. Ребенок должен быстро в уме проанализировать эти три слова и определить, что все три слова относятся к живой природе, однако, сова и ворона - птицы, а лиса - нет. Следовательно, лиса здесь лишняя.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ще примеры для младших дошкольников: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локо, сок, хлеб - все три слова означают съедобное. Но молоко и сок - пьют, а хлеб кушают.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ашина, лошадь, трамвай;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шапка, платок, сапоги;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роза, береза, ёлка.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детей 5-7 лет задания усложняются: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дождь, снег, река;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врач, турист, шофер;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тень, солнце, планета;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роз, вьюга, январь;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камень, глина, стекло;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дверь, ковер, окно;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ре, река, бассейн.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Printed>2015-05-12T08:07:38Z</cp:lastPrinted>
  <cp:revision>0</cp:revision>
  <dc:subject/>
  <dc:title/>
</cp:coreProperties>
</file>