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F2E6-8E80-412A-A8FF-9D68F53AAAD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6014-E5D2-4726-AEA6-188BF8D00DC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C2A7-7080-4567-8E42-E65DF0680B6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7996-56B6-41CE-92D5-9641278C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15A1-D562-4E9C-A1C6-BE2CCBCC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C97C-2F94-421B-8230-47F94BA5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E952-B8EA-4829-8687-35FBC718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9A0F-2DA4-492E-996C-41F6F377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528D-B658-46B4-AA0B-1B3EF58D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60DE-6A58-49DE-A599-5E7657C9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5ED5-C019-4B2E-A5B2-288D2ABB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3FFE-5D36-4794-BAD6-FDE9C01F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9B34-DBD7-4685-8357-AC30C39D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843F-E52C-4D40-A9CB-B71EB94D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7CCE-9F6A-4140-9E69-0C97EEB7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934E-73D4-4A44-B4A4-334BF940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5A01-3B3D-4C14-BB59-88EB4691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11B2-AA45-40D3-8EF5-DF938ADF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E535-3066-4535-99C3-26CC0800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27F3-D7D9-4027-98FE-EA70FEB4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3B53-4CBA-4CD0-8652-3F5C0330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A3B3-095C-43FD-B110-324734F2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F566-E504-4F58-A3CA-4502D981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ADC8-CDF9-4624-8F5E-E9EFA2AF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518B-1358-46A1-BF6E-D0BDB49C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E79C-66D8-4E34-A443-7BFF38DD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B74B-5BCB-4BCE-AFB9-0B388C13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F16D-3401-468C-A9B6-9280C5368CE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FAB9-EE89-4DD1-A6C5-EE51F30AC01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25.xml"/><Relationship Id="rId11" Type="http://schemas.openxmlformats.org/officeDocument/2006/relationships/slide" Target="slide13.xml"/><Relationship Id="rId12" Type="http://schemas.openxmlformats.org/officeDocument/2006/relationships/slide" Target="slide12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6.xml"/><Relationship Id="rId22" Type="http://schemas.openxmlformats.org/officeDocument/2006/relationships/slide" Target="slide22.xml"/><Relationship Id="rId23" Type="http://schemas.openxmlformats.org/officeDocument/2006/relationships/slide" Target="slide23.xml"/><Relationship Id="rId24" Type="http://schemas.openxmlformats.org/officeDocument/2006/relationships/slide" Target="slide24.xml"/><Relationship Id="rId2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&amp;p=55&amp;bf=1&amp;text=&#1074;&#1077;&#1083;&#1080;&#1082;&#1072;&#1103;%20&#1086;&#1090;&#1077;&#1095;&#1077;&#1089;&#1090;&#1074;&#1077;&#1085;&#1085;&#1072;&#1103;%20&#1074;&#1086;&#1081;&#1085;&#1072;%20&#1087;&#1072;&#1088;&#1072;&#1076;%20&#1087;&#1086;&#1073;&#1077;&#1076;&#1099;&amp;rpt=simage" TargetMode="External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7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772400" cy="2378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70 лет Победы в Великой Отечественной войне</a:t>
            </a:r>
            <a:r>
              <a:rPr b="1" lang="ru-RU" sz="7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7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7" name="Рисунок 4" descr="0efd72b72a74e0e99dcfb95088791ce1.jpg"/>
          <p:cNvPicPr/>
          <p:nvPr/>
        </p:nvPicPr>
        <p:blipFill>
          <a:blip r:embed="rId1"/>
          <a:stretch/>
        </p:blipFill>
        <p:spPr>
          <a:xfrm>
            <a:off x="250920" y="2421000"/>
            <a:ext cx="5897520" cy="38466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6"/>
          <p:cNvSpPr/>
          <p:nvPr/>
        </p:nvSpPr>
        <p:spPr>
          <a:xfrm>
            <a:off x="6300720" y="5589720"/>
            <a:ext cx="25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БОУ «ЧООШ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енералова О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63280" y="3929040"/>
            <a:ext cx="705636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ahoma"/>
              </a:rPr>
              <a:t>Так называли город, жители которого проявили храбрость, мужество и отвагу во время войны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За какие заслуги некоторые города после войны получили звание город-герой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0" y="-1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0" y="9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0" y="36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0" y="439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0" y="560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20"/>
          <p:cNvSpPr/>
          <p:nvPr/>
        </p:nvSpPr>
        <p:spPr>
          <a:xfrm>
            <a:off x="0" y="642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8" descr="C:\Users\п\Pictures\ClipArts\Самолёты\814096.JPG"/>
          <p:cNvPicPr/>
          <p:nvPr/>
        </p:nvPicPr>
        <p:blipFill>
          <a:blip r:embed="rId1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42840" y="5373360"/>
            <a:ext cx="512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.К. Жуков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640" y="549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ин из крупнейших советских военачальников. Четырежды герой Советского Союза. Маршал Советского Союза. В 1939 году командовал Советскими войсками на реке Халхин- Гол. С 23 июня 1941 года член ставки Верховного главнокомандова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5" descr=" "/>
          <p:cNvPicPr/>
          <p:nvPr/>
        </p:nvPicPr>
        <p:blipFill>
          <a:blip r:embed="rId1"/>
          <a:stretch/>
        </p:blipFill>
        <p:spPr>
          <a:xfrm>
            <a:off x="285840" y="4286160"/>
            <a:ext cx="2214360" cy="2428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C:\Users\п\Pictures\ClipArts\Самолёты\814096.JPG"/>
          <p:cNvPicPr/>
          <p:nvPr/>
        </p:nvPicPr>
        <p:blipFill>
          <a:blip r:embed="rId2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29040" y="4005360"/>
            <a:ext cx="4911840" cy="20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ahoma"/>
              </a:rPr>
              <a:t>Левитан                                               Юрий Борисович                                                  (1914 – 1983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000" y="692280"/>
            <a:ext cx="81565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лос этого человека звучал из каждого радиоприёмника в течение всей вой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тлер объявил его своим личным враг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7" descr="Портрет"/>
          <p:cNvPicPr/>
          <p:nvPr/>
        </p:nvPicPr>
        <p:blipFill>
          <a:blip r:embed="rId1"/>
          <a:stretch/>
        </p:blipFill>
        <p:spPr>
          <a:xfrm>
            <a:off x="250920" y="3789360"/>
            <a:ext cx="3676680" cy="2851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C:\Users\п\Pictures\ClipArts\Самолёты\814096.JPG"/>
          <p:cNvPicPr/>
          <p:nvPr/>
        </p:nvPicPr>
        <p:blipFill>
          <a:blip r:embed="rId2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7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70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560" y="2571480"/>
            <a:ext cx="871524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                                      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Ольга  Федоровна 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                                                                Берггольц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                                                                (1910-1975)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0040" y="57132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втор формулы памяти о войне :  «Никто не забыт, и ничто не забыто»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7" descr="Берггольц"/>
          <p:cNvPicPr/>
          <p:nvPr/>
        </p:nvPicPr>
        <p:blipFill>
          <a:blip r:embed="rId1"/>
          <a:stretch/>
        </p:blipFill>
        <p:spPr>
          <a:xfrm>
            <a:off x="214200" y="2714760"/>
            <a:ext cx="2714760" cy="3840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C:\Users\п\Pictures\ClipArts\Самолёты\814096.JPG"/>
          <p:cNvPicPr/>
          <p:nvPr/>
        </p:nvPicPr>
        <p:blipFill>
          <a:blip r:embed="rId2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79640" y="3929040"/>
            <a:ext cx="67183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«Последний бой,</a:t>
            </a:r>
            <a:br>
              <a:rPr sz="4400"/>
            </a:b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 он трудный самый»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429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акой бой самый трудный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8" descr="C:\Users\п\Pictures\ClipArts\Самолёты\814096.JPG"/>
          <p:cNvPicPr/>
          <p:nvPr/>
        </p:nvPicPr>
        <p:blipFill>
          <a:blip r:embed="rId1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7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70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87280" y="3645000"/>
            <a:ext cx="585324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«</a:t>
            </a: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Три танкиста – три веселых друга»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642960"/>
            <a:ext cx="778356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колько было человек в экипаже машины боевой 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8" descr="C:\Users\п\Pictures\ClipArts\Самолёты\814096.JPG"/>
          <p:cNvPicPr/>
          <p:nvPr/>
        </p:nvPicPr>
        <p:blipFill>
          <a:blip r:embed="rId1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50560" y="2500200"/>
            <a:ext cx="709308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      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«Нас оставалось только трое из 18 ребят»</a:t>
            </a:r>
            <a:r>
              <a:rPr b="0" lang="ru-RU" sz="32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642960"/>
            <a:ext cx="75438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лько ребят осталось на безымянной высот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8" descr="C:\Users\п\Pictures\ClipArts\Самолёты\814096.JPG"/>
          <p:cNvPicPr/>
          <p:nvPr/>
        </p:nvPicPr>
        <p:blipFill>
          <a:blip r:embed="rId1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2920" y="2142720"/>
            <a:ext cx="885816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                     </a:t>
            </a: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Об огнях – пожарищах, о друзьях – товарищах»</a:t>
            </a:r>
            <a:r>
              <a:rPr b="0" lang="ru-RU" sz="32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428760"/>
            <a:ext cx="79992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О чем мы будем говорить где-нибудь, когда-нибудь? 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8" descr="C:\Users\п\Pictures\ClipArts\Самолёты\814096.JPG"/>
          <p:cNvPicPr/>
          <p:nvPr/>
        </p:nvPicPr>
        <p:blipFill>
          <a:blip r:embed="rId1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1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2560"/>
            <a:ext cx="7772400" cy="2854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Какое из своих произведений так охарактеризовал Твардовский: «Эта повесть про бойца без начала и конца»?</a:t>
            </a:r>
            <a:br>
              <a:rPr sz="28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857480" y="3500280"/>
            <a:ext cx="407196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Василий Тёркин»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142920" y="2690640"/>
            <a:ext cx="4286160" cy="4024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C:\Users\п\Pictures\ClipArts\Самолёты\814096.JPG"/>
          <p:cNvPicPr/>
          <p:nvPr/>
        </p:nvPicPr>
        <p:blipFill>
          <a:blip r:embed="rId2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77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77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501040" cy="213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азовите автора известного         стихотворения «Жди меня»</a:t>
            </a:r>
            <a:r>
              <a:rPr b="1" i="1" lang="ru-RU" sz="4000" spc="-1" strike="noStrike">
                <a:solidFill>
                  <a:srgbClr val="eaeaea"/>
                </a:solidFill>
                <a:latin typeface="Tahoma"/>
              </a:rPr>
              <a:t>                                                       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00720" y="4857840"/>
            <a:ext cx="428616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.Симо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8" descr="C:\Users\п\Pictures\ClipArts\Самолёты\814096.JPG"/>
          <p:cNvPicPr/>
          <p:nvPr/>
        </p:nvPicPr>
        <p:blipFill>
          <a:blip r:embed="rId1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5" descr="i (1).jpg"/>
          <p:cNvPicPr/>
          <p:nvPr/>
        </p:nvPicPr>
        <p:blipFill>
          <a:blip r:embed="rId2"/>
          <a:stretch/>
        </p:blipFill>
        <p:spPr>
          <a:xfrm>
            <a:off x="468360" y="2421000"/>
            <a:ext cx="294300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346560"/>
                <a:gridCol w="1395360"/>
                <a:gridCol w="1395360"/>
                <a:gridCol w="1485720"/>
                <a:gridCol w="1521000"/>
              </a:tblGrid>
              <a:tr h="115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ДА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5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1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15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2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109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ГОРО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5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1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15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2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ЛИЧ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9" action="ppaction://hlinksldjump"/>
                        </a:rPr>
                        <a:t>5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0" action="ppaction://hlinksldjump"/>
                        </a:rPr>
                        <a:t>1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1" action="ppaction://hlinksldjump"/>
                        </a:rPr>
                        <a:t>15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2" action="ppaction://hlinksldjump"/>
                        </a:rPr>
                        <a:t>2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124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ЕСН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3" action="ppaction://hlinksldjump"/>
                        </a:rPr>
                        <a:t>5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4" action="ppaction://hlinksldjump"/>
                        </a:rPr>
                        <a:t>1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5" action="ppaction://hlinksldjump"/>
                        </a:rPr>
                        <a:t>15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6" action="ppaction://hlinksldjump"/>
                        </a:rPr>
                        <a:t>2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1177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ЛИТЕРАТУ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7" action="ppaction://hlinksldjump"/>
                        </a:rPr>
                        <a:t>5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8" action="ppaction://hlinksldjump"/>
                        </a:rPr>
                        <a:t>1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9" action="ppaction://hlinksldjump"/>
                        </a:rPr>
                        <a:t>15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20" action="ppaction://hlinksldjump"/>
                        </a:rPr>
                        <a:t>2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КОТ В МЕШК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21" action="ppaction://hlinksldjump"/>
                        </a:rPr>
                        <a:t>5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22" action="ppaction://hlinksldjump"/>
                        </a:rPr>
                        <a:t>1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23" action="ppaction://hlinksldjump"/>
                        </a:rPr>
                        <a:t>15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24" action="ppaction://hlinksldjump"/>
                        </a:rPr>
                        <a:t>2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Война – это удел не только сильных мужчин, женщины тоже внесли огромный вклад в нашу победу. Об их подвиге рассказывает роман известного советского писателя. Назовите автора и роман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857480" y="4073040"/>
            <a:ext cx="3857400" cy="16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.Васильев « А зори  здесь тихие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Рисунок 4" descr="C:\Documents and Settings\Root\Рабочий стол\1243012657_main.jpg"/>
          <p:cNvPicPr/>
          <p:nvPr/>
        </p:nvPicPr>
        <p:blipFill>
          <a:blip r:embed="rId1"/>
          <a:srcRect l="0" t="0" r="0" b="28140"/>
          <a:stretch/>
        </p:blipFill>
        <p:spPr>
          <a:xfrm>
            <a:off x="214200" y="2500200"/>
            <a:ext cx="4000680" cy="4143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C:\Users\п\Pictures\ClipArts\Самолёты\814096.JPG"/>
          <p:cNvPicPr/>
          <p:nvPr/>
        </p:nvPicPr>
        <p:blipFill>
          <a:blip r:embed="rId2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77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77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2927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Кто автор строк: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«Вставай, страна огромная,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         Вставай на смертный бой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         С фашистской силой темною,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         С проклятою ордой.»?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714560" y="4073040"/>
            <a:ext cx="4071960" cy="16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бедев-Кума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8" descr="C:\Users\п\Pictures\ClipArts\Самолёты\814096.JPG"/>
          <p:cNvPicPr/>
          <p:nvPr/>
        </p:nvPicPr>
        <p:blipFill>
          <a:blip r:embed="rId1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77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4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6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8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Сколько дней длилась блокада Ленинграда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4857840" y="2857680"/>
            <a:ext cx="3857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Прямоугольник 6"/>
          <p:cNvSpPr/>
          <p:nvPr/>
        </p:nvSpPr>
        <p:spPr>
          <a:xfrm>
            <a:off x="4857840" y="3500280"/>
            <a:ext cx="39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900 дн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8" descr="C:\Users\п\Pictures\ClipArts\Самолёты\814096.JPG"/>
          <p:cNvPicPr/>
          <p:nvPr/>
        </p:nvPicPr>
        <p:blipFill>
          <a:blip r:embed="rId1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77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770" fill="hold"/>
                                        <p:tgtEl>
                                          <p:spTgt spid="2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1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ahoma"/>
              </a:rPr>
              <a:t>На фронтах Великой Отечественной сражались не только люди, но и «яки», «тигры», «пантеры», «леопарды». Что это было?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1619280" y="414972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оенная техни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8" descr="C:\Users\п\Pictures\ClipArts\Самолёты\814096.JPG"/>
          <p:cNvPicPr/>
          <p:nvPr/>
        </p:nvPicPr>
        <p:blipFill>
          <a:blip r:embed="rId1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77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770" fill="hold"/>
                                        <p:tgtEl>
                                          <p:spTgt spid="2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21384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В 1943 году он произнёс фразу: «Я генералов на солдат не меняю!», тем самым лишив возможности своего сына вернуться из немецкого плена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7" name="Picture 8" descr="C:\Users\п\Pictures\ClipArts\Самолёты\814096.JPG"/>
          <p:cNvPicPr/>
          <p:nvPr/>
        </p:nvPicPr>
        <p:blipFill>
          <a:blip r:embed="rId1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4" descr="i.jpg"/>
          <p:cNvPicPr/>
          <p:nvPr/>
        </p:nvPicPr>
        <p:blipFill>
          <a:blip r:embed="rId2"/>
          <a:stretch/>
        </p:blipFill>
        <p:spPr>
          <a:xfrm>
            <a:off x="684360" y="2809800"/>
            <a:ext cx="4987800" cy="2806920"/>
          </a:xfrm>
          <a:prstGeom prst="rect">
            <a:avLst/>
          </a:prstGeom>
          <a:ln w="0">
            <a:noFill/>
          </a:ln>
        </p:spPr>
      </p:pic>
      <p:sp>
        <p:nvSpPr>
          <p:cNvPr id="209" name="TextBox 5"/>
          <p:cNvSpPr/>
          <p:nvPr/>
        </p:nvSpPr>
        <p:spPr>
          <a:xfrm>
            <a:off x="6084720" y="3645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лин И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77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770" fill="hold"/>
                                        <p:tgtEl>
                                          <p:spTgt spid="2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7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815240" cy="235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Эти бойцы 150-й стрелковой дивизии водрузили над Рейхстагом Красное знамя Победы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214880" y="3716280"/>
            <a:ext cx="4929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горов и Кантар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13" descr=" "/>
          <p:cNvPicPr/>
          <p:nvPr/>
        </p:nvPicPr>
        <p:blipFill>
          <a:blip r:embed="rId1"/>
          <a:stretch/>
        </p:blipFill>
        <p:spPr>
          <a:xfrm>
            <a:off x="228600" y="2928960"/>
            <a:ext cx="3914640" cy="335772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213" name="Picture 8" descr="C:\Users\п\Pictures\ClipArts\Самолёты\814096.JPG"/>
          <p:cNvPicPr/>
          <p:nvPr/>
        </p:nvPicPr>
        <p:blipFill>
          <a:blip r:embed="rId2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77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77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00"/>
            </a:gs>
            <a:gs pos="50000">
              <a:srgbClr val="990000"/>
            </a:gs>
            <a:gs pos="100000">
              <a:srgbClr val="47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Что обозначают цвета «Георгиевской ленточки»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3059280" y="1989000"/>
            <a:ext cx="518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ерный и оранжевый – означают «дым и пламя» и являются знаком личной доблести солдата на поле бо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8" descr="C:\Users\п\Pictures\ClipArts\Самолёты\814096.JPG"/>
          <p:cNvPicPr/>
          <p:nvPr/>
        </p:nvPicPr>
        <p:blipFill>
          <a:blip r:embed="rId1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4" descr="Рисунок1.gif"/>
          <p:cNvPicPr/>
          <p:nvPr/>
        </p:nvPicPr>
        <p:blipFill>
          <a:blip r:embed="rId2"/>
          <a:stretch/>
        </p:blipFill>
        <p:spPr>
          <a:xfrm>
            <a:off x="0" y="3357720"/>
            <a:ext cx="291924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77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770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1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Tahoma"/>
              </a:rPr>
              <a:t>Нападение Германии на СССР 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928760" y="4428720"/>
            <a:ext cx="378612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2 июня 1941 го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214200" y="3571920"/>
            <a:ext cx="4513320" cy="2857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C:\Users\п\Pictures\ClipArts\Самолёты\814096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Tahoma"/>
              </a:rPr>
              <a:t>Начало блокады Ленинграда 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714480" y="2349360"/>
            <a:ext cx="5143320" cy="33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8 сентября 1941 год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8" descr="C:\Users\п\Pictures\ClipArts\Самолёты\814096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8a923cf5125293c89a39605e971a510d.jpg"/>
          <p:cNvPicPr/>
          <p:nvPr/>
        </p:nvPicPr>
        <p:blipFill>
          <a:blip r:embed="rId3"/>
          <a:stretch/>
        </p:blipFill>
        <p:spPr>
          <a:xfrm>
            <a:off x="250920" y="3357720"/>
            <a:ext cx="522108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ервый парад Победы на Красной площади в Москве состоялся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428720" y="4073040"/>
            <a:ext cx="4357800" cy="16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4 июня 1945 год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7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3929040"/>
            <a:ext cx="4021200" cy="2460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:\Users\п\Pictures\ClipArts\Самолёты\814096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ahoma"/>
              </a:rPr>
              <a:t>Начало битвы под Москвой 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724280" y="3499920"/>
            <a:ext cx="427680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0 сентября 1941 г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8" descr="C:\Users\п\Pictures\ClipArts\Самолёты\814096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C:\Documents and Settings\Root\Рабочий стол\41356204.jpg"/>
          <p:cNvPicPr/>
          <p:nvPr/>
        </p:nvPicPr>
        <p:blipFill>
          <a:blip r:embed="rId3"/>
          <a:stretch/>
        </p:blipFill>
        <p:spPr>
          <a:xfrm>
            <a:off x="0" y="3357720"/>
            <a:ext cx="448632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86920" y="357120"/>
            <a:ext cx="7417080" cy="3286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Какой город России в годы Великой Отечественной войны выдержал 900-дневную осаду немецких войск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142880" y="3857400"/>
            <a:ext cx="47149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Ленинград, ныне Санкт-Петербур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8" descr="C:\Users\п\Pictures\ClipArts\Самолёты\814096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4" descr="6.jpg"/>
          <p:cNvPicPr/>
          <p:nvPr/>
        </p:nvPicPr>
        <p:blipFill>
          <a:blip r:embed="rId3"/>
          <a:stretch/>
        </p:blipFill>
        <p:spPr>
          <a:xfrm>
            <a:off x="179280" y="4076640"/>
            <a:ext cx="358776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77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08000" y="4365360"/>
            <a:ext cx="543564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ahoma"/>
              </a:rPr>
              <a:t>«Дорога жизни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916000" y="549000"/>
            <a:ext cx="622764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ак называли дорогу по которой в блокадный Ленинград везли продовольствие и медикамент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 "/>
          <p:cNvPicPr/>
          <p:nvPr/>
        </p:nvPicPr>
        <p:blipFill>
          <a:blip r:embed="rId1"/>
          <a:stretch/>
        </p:blipFill>
        <p:spPr>
          <a:xfrm>
            <a:off x="250920" y="3933720"/>
            <a:ext cx="3470040" cy="272736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144" name="Picture 8" descr="C:\Users\п\Pictures\ClipArts\Самолёты\814096.JPG"/>
          <p:cNvPicPr/>
          <p:nvPr/>
        </p:nvPicPr>
        <p:blipFill>
          <a:blip r:embed="rId2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57160" y="5715000"/>
            <a:ext cx="707256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5050"/>
                </a:solidFill>
                <a:latin typeface="Tahoma"/>
              </a:rPr>
              <a:t>       </a:t>
            </a: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1280" y="21420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Что объединяет города Смоленск, Москву, Ленинград, Тулу, Новороссийск, Мурманск,       Волгоград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7" descr="index[1]"/>
          <p:cNvPicPr/>
          <p:nvPr/>
        </p:nvPicPr>
        <p:blipFill>
          <a:blip r:embed="rId1"/>
          <a:stretch/>
        </p:blipFill>
        <p:spPr>
          <a:xfrm>
            <a:off x="2916360" y="2781360"/>
            <a:ext cx="3456000" cy="3674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C:\Users\п\Pictures\ClipArts\Самолёты\814096.JPG"/>
          <p:cNvPicPr/>
          <p:nvPr/>
        </p:nvPicPr>
        <p:blipFill>
          <a:blip r:embed="rId2"/>
          <a:stretch/>
        </p:blipFill>
        <p:spPr>
          <a:xfrm>
            <a:off x="7659720" y="5589720"/>
            <a:ext cx="148428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0:42:04Z</dcterms:created>
  <dc:creator>1</dc:creator>
  <dc:description/>
  <dc:language>en-US</dc:language>
  <cp:lastModifiedBy>п</cp:lastModifiedBy>
  <dcterms:modified xsi:type="dcterms:W3CDTF">2015-04-29T14:33:23Z</dcterms:modified>
  <cp:revision>208</cp:revision>
  <dc:subject/>
  <dc:title>Слайд 1</dc:title>
</cp:coreProperties>
</file>