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2668-A696-4A91-A2F0-0DA5D9D5E47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7EDC-C945-4353-988C-8CF8897A93B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0566-F662-4102-9EE1-30647F4A26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4A2-4E95-4EC3-9B85-60588317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146-B226-4170-A141-11091F8A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C46-0007-40A9-83C6-7BCAB103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552-887D-4EF1-9C7D-D2BDC181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1349-65FC-4CDA-995C-F1EBF28A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C97E-17D3-4CD7-8691-56FEDA0F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F9C8-4B6D-4760-A729-FE0603F6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8CB8-882F-4E10-9A38-54D7E674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9808-1C61-4342-85D1-00F1DB3B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01B7-2839-4A15-B433-C186969F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7621-EF30-4283-8756-BAAEE594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D17-3310-4A36-A71F-36EDD630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236D-DA24-4907-9AD5-4577113F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CD15-E24D-4784-A45F-9DE2674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12FF-D32C-4DB3-A626-57BAE2C0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2F5F-0B72-4B88-83FF-6D40139B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8B47-758B-472D-B20D-26CB68BD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95B-63B0-40B5-B27F-47FF749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FFE-FDD9-4179-B82C-95A70597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AA7-5920-44A7-B462-DD0968D2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288-D7E5-4BFD-A348-B5EDE5D8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917-1250-4CBE-9D68-779FA03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9BD-BCE3-430B-B861-9E67109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B93-043D-45B0-8F77-FBDE826E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C933-5D1C-40A5-BEA3-582BF3B4345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310D-A394-4744-883E-1BD5B78D3E1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25.xml"/><Relationship Id="rId11" Type="http://schemas.openxmlformats.org/officeDocument/2006/relationships/slide" Target="slide13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6.xml"/><Relationship Id="rId22" Type="http://schemas.openxmlformats.org/officeDocument/2006/relationships/slide" Target="slide22.xml"/><Relationship Id="rId23" Type="http://schemas.openxmlformats.org/officeDocument/2006/relationships/slide" Target="slide23.xml"/><Relationship Id="rId24" Type="http://schemas.openxmlformats.org/officeDocument/2006/relationships/slide" Target="slide24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55&amp;bf=1&amp;text=&#1074;&#1077;&#1083;&#1080;&#1082;&#1072;&#1103;%20&#1086;&#1090;&#1077;&#1095;&#1077;&#1089;&#1090;&#1074;&#1077;&#1085;&#1085;&#1072;&#1103;%20&#1074;&#1086;&#1081;&#1085;&#1072;%20&#1087;&#1072;&#1088;&#1072;&#1076;%20&#1087;&#1086;&#1073;&#1077;&#1076;&#1099;&amp;rpt=simage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7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70 лет Победы в Великой Отечественной войне</a:t>
            </a: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Рисунок 4" descr="0efd72b72a74e0e99dcfb95088791ce1.jpg"/>
          <p:cNvPicPr/>
          <p:nvPr/>
        </p:nvPicPr>
        <p:blipFill>
          <a:blip r:embed="rId1"/>
          <a:stretch/>
        </p:blipFill>
        <p:spPr>
          <a:xfrm>
            <a:off x="250920" y="2421000"/>
            <a:ext cx="5897520" cy="38466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6300720" y="5589720"/>
            <a:ext cx="25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БОУ «ЧО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нералова О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63280" y="3929040"/>
            <a:ext cx="705636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ahoma"/>
              </a:rPr>
              <a:t>Так называли город, жители которого проявили храбрость, мужество и отвагу во время войны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 какие заслуги некоторые города после войны получили звание город-гер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0" y="-1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0" y="9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0" y="439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0" y="560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0" y="642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42840" y="5373360"/>
            <a:ext cx="51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.К. Жуков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из крупнейших советских военачальников. Четырежды герой Советского Союза. Маршал Советского Союза. В 1939 году командовал Советскими войсками на реке Халхин- Гол. С 23 июня 1941 года член ставки Верховного главнокомандо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 "/>
          <p:cNvPicPr/>
          <p:nvPr/>
        </p:nvPicPr>
        <p:blipFill>
          <a:blip r:embed="rId1"/>
          <a:stretch/>
        </p:blipFill>
        <p:spPr>
          <a:xfrm>
            <a:off x="285840" y="4286160"/>
            <a:ext cx="2214360" cy="242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29040" y="4005360"/>
            <a:ext cx="4911840" cy="20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Левитан                                               Юрий Борисович                                                  (1914 – 1983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лос этого человека звучал из каждого радиоприёмника в течение всей вой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тлер объявил его своим личным враг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7" descr="Портрет"/>
          <p:cNvPicPr/>
          <p:nvPr/>
        </p:nvPicPr>
        <p:blipFill>
          <a:blip r:embed="rId1"/>
          <a:stretch/>
        </p:blipFill>
        <p:spPr>
          <a:xfrm>
            <a:off x="250920" y="3789360"/>
            <a:ext cx="3676680" cy="2851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2571480"/>
            <a:ext cx="87152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                            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Ольга  Федоровна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Берггольц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(1910-1975)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57132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втор формулы памяти о войне :  «Никто не забыт, и ничто не забыто»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7" descr="Берггольц"/>
          <p:cNvPicPr/>
          <p:nvPr/>
        </p:nvPicPr>
        <p:blipFill>
          <a:blip r:embed="rId1"/>
          <a:stretch/>
        </p:blipFill>
        <p:spPr>
          <a:xfrm>
            <a:off x="214200" y="2714760"/>
            <a:ext cx="2714760" cy="384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79640" y="3929040"/>
            <a:ext cx="67183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«Последний бой,</a:t>
            </a:r>
            <a:br>
              <a:rPr sz="4400"/>
            </a:b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 он трудный самый»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429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акой бой самый трудный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87280" y="3645000"/>
            <a:ext cx="58532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Три танкиста – три веселых друга»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642960"/>
            <a:ext cx="77835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колько было человек в экипаже машины боевой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0560" y="2500200"/>
            <a:ext cx="709308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«Нас оставалось только трое из 18 ребят»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64296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ребят осталось на безымянной высот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920" y="2142720"/>
            <a:ext cx="885816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                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Об огнях – пожарищах, о друзьях – товарищах»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428760"/>
            <a:ext cx="7999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 чем мы будем говорить где-нибудь, когда-нибудь?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2560"/>
            <a:ext cx="7772400" cy="285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акое из своих произведений так охарактеризовал Твардовский: «Эта повесть про бойца без начала и конца»?</a:t>
            </a: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7480" y="3500280"/>
            <a:ext cx="4071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Василий Тёркин»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42920" y="2690640"/>
            <a:ext cx="4286160" cy="4024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50104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зовите автора известного         стихотворения «Жди меня»</a:t>
            </a: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00720" y="4857840"/>
            <a:ext cx="4286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.Симо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5" descr="i (1).jpg"/>
          <p:cNvPicPr/>
          <p:nvPr/>
        </p:nvPicPr>
        <p:blipFill>
          <a:blip r:embed="rId2"/>
          <a:stretch/>
        </p:blipFill>
        <p:spPr>
          <a:xfrm>
            <a:off x="468360" y="2421000"/>
            <a:ext cx="29430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346560"/>
                <a:gridCol w="1395360"/>
                <a:gridCol w="1395360"/>
                <a:gridCol w="1485720"/>
                <a:gridCol w="1521000"/>
              </a:tblGrid>
              <a:tr h="115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Д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09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ГОР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ЛИЧ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ЕС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17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ЛИТЕР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ОТ В МЕШ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Война – это удел не только сильных мужчин, женщины тоже внесли огромный вклад в нашу победу. Об их подвиге рассказывает роман известного советского писателя. Назовите автора и роман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857480" y="4073040"/>
            <a:ext cx="3857400" cy="16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.Васильев « А зори  здесь тихие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Рисунок 4" descr="C:\Documents and Settings\Root\Рабочий стол\1243012657_main.jpg"/>
          <p:cNvPicPr/>
          <p:nvPr/>
        </p:nvPicPr>
        <p:blipFill>
          <a:blip r:embed="rId1"/>
          <a:srcRect l="0" t="0" r="0" b="28140"/>
          <a:stretch/>
        </p:blipFill>
        <p:spPr>
          <a:xfrm>
            <a:off x="214200" y="2500200"/>
            <a:ext cx="4000680" cy="4143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то автор строк: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«Вставай, страна огромная,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         Вставай на смертный бой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         С фашистской силой темною,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         С проклятою ордой.»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714560" y="4073040"/>
            <a:ext cx="4071960" cy="16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бедев-Кума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колько дней длилась блокада Ленинград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4857840" y="2857680"/>
            <a:ext cx="3857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4857840" y="350028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900 дн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ahoma"/>
              </a:rPr>
              <a:t>На фронтах Великой Отечественной сражались не только люди, но и «яки», «тигры», «пантеры», «леопарды». Что это было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619280" y="414972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енная техн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В 1943 году он произнёс фразу: «Я генералов на солдат не меняю!», тем самым лишив возможности своего сына вернуться из немецкого плена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7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i.jpg"/>
          <p:cNvPicPr/>
          <p:nvPr/>
        </p:nvPicPr>
        <p:blipFill>
          <a:blip r:embed="rId2"/>
          <a:stretch/>
        </p:blipFill>
        <p:spPr>
          <a:xfrm>
            <a:off x="684360" y="2809800"/>
            <a:ext cx="4987800" cy="28069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6084720" y="3645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лин И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7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815240" cy="235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Эти бойцы 150-й стрелковой дивизии водрузили над Рейхстагом Красное знамя Побед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214880" y="3716280"/>
            <a:ext cx="4929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горов и Кантар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13" descr=" "/>
          <p:cNvPicPr/>
          <p:nvPr/>
        </p:nvPicPr>
        <p:blipFill>
          <a:blip r:embed="rId1"/>
          <a:stretch/>
        </p:blipFill>
        <p:spPr>
          <a:xfrm>
            <a:off x="228600" y="2928960"/>
            <a:ext cx="3914640" cy="33577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213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00"/>
            </a:gs>
            <a:gs pos="50000">
              <a:srgbClr val="990000"/>
            </a:gs>
            <a:gs pos="100000">
              <a:srgbClr val="47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то обозначают цвета «Георгиевской ленточки»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3059280" y="1989000"/>
            <a:ext cx="518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ерный и оранжевый – означают «дым и пламя» и являются знаком личной доблести солдата на поле бо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Рисунок1.gif"/>
          <p:cNvPicPr/>
          <p:nvPr/>
        </p:nvPicPr>
        <p:blipFill>
          <a:blip r:embed="rId2"/>
          <a:stretch/>
        </p:blipFill>
        <p:spPr>
          <a:xfrm>
            <a:off x="0" y="3357720"/>
            <a:ext cx="29192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ahoma"/>
              </a:rPr>
              <a:t>Нападение Германии на СССР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928760" y="4428720"/>
            <a:ext cx="37861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2 июня 1941 г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214200" y="3571920"/>
            <a:ext cx="4513320" cy="28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C:\Users\п\Pictures\ClipArts\Самолёты\814096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ahoma"/>
              </a:rPr>
              <a:t>Начало блокады Ленинграда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714480" y="2349360"/>
            <a:ext cx="5143320" cy="33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 сентября 1941 го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C:\Users\п\Pictures\ClipArts\Самолёты\814096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8a923cf5125293c89a39605e971a510d.jpg"/>
          <p:cNvPicPr/>
          <p:nvPr/>
        </p:nvPicPr>
        <p:blipFill>
          <a:blip r:embed="rId3"/>
          <a:stretch/>
        </p:blipFill>
        <p:spPr>
          <a:xfrm>
            <a:off x="250920" y="3357720"/>
            <a:ext cx="52210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ервый парад Победы на Красной площади в Москве состоялся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428720" y="4073040"/>
            <a:ext cx="4357800" cy="16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4 июня 1945 год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3929040"/>
            <a:ext cx="4021200" cy="246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Users\п\Pictures\ClipArts\Самолёты\814096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Начало битвы под Москвой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724280" y="3499920"/>
            <a:ext cx="42768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0 сентября 1941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8" descr="C:\Users\п\Pictures\ClipArts\Самолёты\814096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Documents and Settings\Root\Рабочий стол\41356204.jpg"/>
          <p:cNvPicPr/>
          <p:nvPr/>
        </p:nvPicPr>
        <p:blipFill>
          <a:blip r:embed="rId3"/>
          <a:stretch/>
        </p:blipFill>
        <p:spPr>
          <a:xfrm>
            <a:off x="0" y="3357720"/>
            <a:ext cx="448632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6920" y="357120"/>
            <a:ext cx="741708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Какой город России в годы Великой Отечественной войны выдержал 900-дневную осаду немецких войск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42880" y="3857400"/>
            <a:ext cx="47149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Ленинград, ныне Санкт-Петербур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8" descr="C:\Users\п\Pictures\ClipArts\Самолёты\814096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6.jpg"/>
          <p:cNvPicPr/>
          <p:nvPr/>
        </p:nvPicPr>
        <p:blipFill>
          <a:blip r:embed="rId3"/>
          <a:stretch/>
        </p:blipFill>
        <p:spPr>
          <a:xfrm>
            <a:off x="179280" y="4076640"/>
            <a:ext cx="35877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08000" y="4365360"/>
            <a:ext cx="543564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«Дорога жизни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16000" y="549000"/>
            <a:ext cx="62276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ак называли дорогу по которой в блокадный Ленинград везли продовольствие и медикамент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 "/>
          <p:cNvPicPr/>
          <p:nvPr/>
        </p:nvPicPr>
        <p:blipFill>
          <a:blip r:embed="rId1"/>
          <a:stretch/>
        </p:blipFill>
        <p:spPr>
          <a:xfrm>
            <a:off x="250920" y="3933720"/>
            <a:ext cx="3470040" cy="27273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4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57160" y="5715000"/>
            <a:ext cx="70725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5050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2142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то объединяет города Смоленск, Москву, Ленинград, Тулу, Новороссийск, Мурманск,       Волгоград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index[1]"/>
          <p:cNvPicPr/>
          <p:nvPr/>
        </p:nvPicPr>
        <p:blipFill>
          <a:blip r:embed="rId1"/>
          <a:stretch/>
        </p:blipFill>
        <p:spPr>
          <a:xfrm>
            <a:off x="2916360" y="2781360"/>
            <a:ext cx="3456000" cy="3674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0:42:04Z</dcterms:created>
  <dc:creator>1</dc:creator>
  <dc:description/>
  <dc:language>en-US</dc:language>
  <cp:lastModifiedBy>п</cp:lastModifiedBy>
  <dcterms:modified xsi:type="dcterms:W3CDTF">2015-04-29T14:33:23Z</dcterms:modified>
  <cp:revision>208</cp:revision>
  <dc:subject/>
  <dc:title>Слайд 1</dc:title>
</cp:coreProperties>
</file>