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3EFC-2223-4C65-BC36-48DDA8C8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0CD-9852-42FC-92C8-C39AA463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8C7-3254-431B-B602-C772D848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71B6-D977-40F4-92FB-23C1DCB0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988C-A31B-42FF-B07B-89122766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3ABD-5ED5-4A59-A6FB-CB5E072B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84E9-AE09-45C8-BE68-B3837A83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065-2F96-44CC-9D82-9FD3BF07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0A8-9E4B-4584-AEF9-30CF860F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70BC-4EE6-400C-B2D5-438900B6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C4EB-E7D1-48AC-8070-C63D4043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6F2-FF65-4033-8669-B268ADE1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6791-44C0-42A6-94AB-9AAD0892A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057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омнат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8000" y="685800"/>
            <a:ext cx="1795320" cy="2400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31680" y="30492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лоэ (Столет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518148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стение с мясистыми, сочными серовато – зелеными листьями, окаймленными мягкими шипами. Может достигать в высоту 3 метров. Цветки многочисленные, цилиндрические или трехгранные, разной окраски у разных видов: красные, желтые, оранжевые, иногда – белые. Собраны в соцветие – густую кисть или метелку, - которая появляется из пазух верхних листьев. Цвести начинает в пяти - шестилетнем возрас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стения легко размножаются семенами, стеблевыми и листовыми черен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ок из листьев алоэ широко применяется в медиц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3581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ерань (Пеларго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4038480"/>
            <a:ext cx="3962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о небольшие полукустарники с тонкими, гладкими стеблями, волосистыми в нижней ча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истья – 5-10см в диаметре, бархатистые, состоят из 5-7 скругленных снаружи секторов. Имеют сильный аромат. Цветки собраны в зонтики на длинных цветонос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множают черен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752480" y="3733920"/>
            <a:ext cx="2895840" cy="2317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762120"/>
            <a:ext cx="4190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устарник или маленькое дерево высотой до 4,5 м, с буроватой, иногда почти черной корой на старых побег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истья длиной до 15 см, черешковые, яйцевидные или овальные, голые, блестящие. Цветки одиночные, на длинных цветоножках, различной окраски - от белой до желтой и темно-пурпурной. Цветет почти круглый г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множают гибискус черен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38088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ибискус китайский (Китайская р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3200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иффенбах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3581280"/>
            <a:ext cx="44956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о растение с крупными стеблями длиной до 1 м, черешки равны по длине листовой пластине. Листовая пластина длиной до 40 см, шириной до 10 - 12 см, продолговатая, заостренная на верхушке, часто с большим количеством светлых пятен, которые расположены вдоль жил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Цветки мелкие, невзрачные, собраны в початок. Ягоды оранжево-крас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Ядовита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множают черенками, отрезками стеб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15000" y="685800"/>
            <a:ext cx="2971800" cy="22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752480" y="3505320"/>
            <a:ext cx="2252880" cy="2695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3880" y="3049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ле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685800"/>
            <a:ext cx="4267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равянистый кустарник. Стебли прямые, четырехгранные, светло-зеленые, очень сочные. Листья яйцевидные, заостренные, зубчатые, бархатистые. Окраска – коричнево-красная или фиолетово-красная, с зеленой кайм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Цветет зимой. Цветки многочисленные. мелкие, синие, собраны в широкий коло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множают колеус черенками или семе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33526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н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809880"/>
            <a:ext cx="48006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ощная лиана. Листья крупные, в ширину - до 1 метра. Округло-овальные с причудливыми прорезями, темно-зеленые, блестящие, на длинных черешках. В домашних условиях, как правило, не цвет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множают монстеру в начале весны черенками и кусками ство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 поведению монстеры можно предсказывать погоду. В пасмурную погоду с широких листьев монстеры падают крупные капли в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91320" y="762120"/>
            <a:ext cx="3081240" cy="2144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52480" y="3962520"/>
            <a:ext cx="1955880" cy="1981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7920" y="685800"/>
            <a:ext cx="48006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ансевьера (Щучий хво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ансевиери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истья кожистые, зеленые (с чередованием темных и светлых поперечных полос), блестящие, плотные. Имеют цилиндрическую или плоскую форму. Торчат вверх, словно мечи. Могут достигать в длину полуметра, шириной – 10-15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личество листьев, как правило, небольшое. Стебель отсутству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множают листовыми черен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77120" y="685800"/>
            <a:ext cx="2090520" cy="2743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62520" y="3581280"/>
            <a:ext cx="46479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енполия (Фиал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высокое травянистое растение с мясистыми, густыми опущенными овальными зелеными бархатистыми листь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Цветки многочисленные, на тонких цветоножках различной окраски (лиловые, сиреневые, темно-фиолетовые, розовые). Лепестки бывают с ровными или волнистыми краями.    Размножают сенполии семенами или черен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52480" y="3429000"/>
            <a:ext cx="2152800" cy="2876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7920" y="304920"/>
            <a:ext cx="5333760" cy="33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орневые листья собраны в пучки по 10-20 штук. В одном горшке несколько плотно сидящих пучков образуют роскошный куст. Стебли  тонкие, гладкие, несут редко расположенные недоразвитые листоч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стья линейные, постепенно суженные к основанию и к верхушке, желобчатые, светло-зеленые, голые, длиной до 60 см, шириной около 3 см. Цветоносы высотой до 20 см, выходят из пазух листьев, ветвящиеся, несут по всей длине несколько кистевидных соцветий из 2—6 зеленовато-белых мелких цвет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множаются семенами и отделением боковых пуч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0" y="1066680"/>
            <a:ext cx="2027160" cy="2438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505320" y="3733920"/>
            <a:ext cx="518148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Юк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ечнозеленый дерево, жесткие листья собраны в густую крону на верхушках, имеют заостренную форму и глянцевую зеленую поверх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конце лета в редких случаях можно увидеть соцветия из душистых колокольчатых цветков, желтоватого цвета, собранных в метельчатые или кистевидные соцве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ля размножения юкки используют деление ствола на фрагменты длиной 10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1760760" cy="2038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676520" y="3886200"/>
            <a:ext cx="1730160" cy="2438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ич</cp:lastModifiedBy>
  <dcterms:modified xsi:type="dcterms:W3CDTF">2015-05-13T01:34:2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