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F09-0173-4490-A0AB-CFA5F12F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84D-B4F0-4537-BBEC-08E575E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4CA-3E8B-43BD-B012-8BF3C5D9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ABF-334D-4A83-BDC2-0F6B1138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DBD-4067-41E9-9A00-BFC02F11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659-E2BB-432B-9917-96FC2DFE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92E-D136-403D-A001-0354E0A5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1CF-25ED-4DF9-BE70-AC23CA0D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455-99ED-425F-A905-1A369D3E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2F6-1158-4715-943B-716ECFCC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B3A-6754-45CF-8D6B-C418993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48C-99D2-4321-AA64-A4B8BA6D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530D-5773-437F-84D0-B22AAE689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Осенние фоны для открыток - Праздничный мир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Заяц - Картинка 545/27"/>
          <p:cNvPicPr/>
          <p:nvPr/>
        </p:nvPicPr>
        <p:blipFill>
          <a:blip r:embed="rId3"/>
          <a:stretch/>
        </p:blipFill>
        <p:spPr>
          <a:xfrm>
            <a:off x="539640" y="836640"/>
            <a:ext cx="743436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к звери готовятся к зиме. Часть 1. Родная тропинка"/>
          <p:cNvPicPr/>
          <p:nvPr/>
        </p:nvPicPr>
        <p:blipFill>
          <a:blip r:embed="rId3"/>
          <a:stretch/>
        </p:blipFill>
        <p:spPr>
          <a:xfrm>
            <a:off x="179280" y="504720"/>
            <a:ext cx="7993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Осенние фоны для открыток - Праздничный мир"/>
          <p:cNvPicPr/>
          <p:nvPr/>
        </p:nvPicPr>
        <p:blipFill>
          <a:blip r:embed="rId3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Сон зимой в берлоге сладкий. Загадка 43 (Инна Левченко) / Ст…"/>
          <p:cNvPicPr/>
          <p:nvPr/>
        </p:nvPicPr>
        <p:blipFill>
          <a:blip r:embed="rId4"/>
          <a:stretch/>
        </p:blipFill>
        <p:spPr>
          <a:xfrm>
            <a:off x="395280" y="1341360"/>
            <a:ext cx="3968640" cy="496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692280"/>
            <a:ext cx="45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Хозяин лес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просыпается вес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а зимой под вьюжный 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пит в избушке снег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278136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Осенние фоны для открыток - Праздничный мир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Белка - Картинка 545/22"/>
          <p:cNvPicPr/>
          <p:nvPr/>
        </p:nvPicPr>
        <p:blipFill>
          <a:blip r:embed="rId4"/>
          <a:stretch/>
        </p:blipFill>
        <p:spPr>
          <a:xfrm>
            <a:off x="611280" y="4762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Осенние фоны для открыток - Праздничный мир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Впадают в спячку - Картинка 784/53"/>
          <p:cNvPicPr/>
          <p:nvPr/>
        </p:nvPicPr>
        <p:blipFill>
          <a:blip r:embed="rId4"/>
          <a:stretch/>
        </p:blipFill>
        <p:spPr>
          <a:xfrm>
            <a:off x="539640" y="54936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80360" y="765000"/>
            <a:ext cx="863640" cy="792360"/>
          </a:xfrm>
          <a:prstGeom prst="rect">
            <a:avLst/>
          </a:prstGeom>
          <a:solidFill>
            <a:srgbClr val="a04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Веселые картинки для детей. Обои для рабочего стола с персонажами мультфильмов и детских книг"/>
          <p:cNvPicPr/>
          <p:nvPr/>
        </p:nvPicPr>
        <p:blipFill>
          <a:blip r:embed="rId5"/>
          <a:stretch/>
        </p:blipFill>
        <p:spPr>
          <a:xfrm>
            <a:off x="6516720" y="0"/>
            <a:ext cx="2154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Осенние фоны для открыток - Праздничный мир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Пост"/>
          <p:cNvPicPr/>
          <p:nvPr/>
        </p:nvPicPr>
        <p:blipFill>
          <a:blip r:embed="rId4"/>
          <a:stretch/>
        </p:blipFill>
        <p:spPr>
          <a:xfrm>
            <a:off x="395280" y="692280"/>
            <a:ext cx="75247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7:39:49Z</dcterms:created>
  <dc:creator>Vladya</dc:creator>
  <dc:description/>
  <dc:language>en-US</dc:language>
  <cp:lastModifiedBy>Vladya</cp:lastModifiedBy>
  <dcterms:modified xsi:type="dcterms:W3CDTF">2014-10-14T18:06:51Z</dcterms:modified>
  <cp:revision>2</cp:revision>
  <dc:subject/>
  <dc:title>Слайд 1</dc:title>
</cp:coreProperties>
</file>