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40A7-76A0-4F41-8F6C-5C67CA56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C3E0-38FD-4096-B985-A25CA1C8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5AD1-DD91-4F0D-BD91-0806B13B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A778-16D0-4CAE-AB43-DB28B225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10C1-058E-4BFB-B0D5-876E7CE8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908D-FE19-4625-92DA-2D6EC397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B55A-E9EB-4D41-932E-8BAC03B2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71C-5CF3-456B-AFE0-1F7A8935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3C43-1D93-4375-ADE1-58D9177C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728-026A-416A-B066-8CC45B94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3542-AA62-4A52-94FD-EF83C0F4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133-6F40-4AEF-85C9-85968199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6FE9-3BDE-407B-B440-D9B40704B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Осенние фоны для открыток - Праздничный ми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Осенние фоны для открыток - Праздничный мир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Осенние фоны для открыток - Праздничный мир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Осенние фоны для открыток - Праздничный ми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Осенние фоны для открыток - Праздничный мир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Заяц - Картинка 545/27"/>
          <p:cNvPicPr/>
          <p:nvPr/>
        </p:nvPicPr>
        <p:blipFill>
          <a:blip r:embed="rId3"/>
          <a:stretch/>
        </p:blipFill>
        <p:spPr>
          <a:xfrm>
            <a:off x="539640" y="836640"/>
            <a:ext cx="743436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Осенние фоны для открыток - Праздничный ми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Осенние фоны для открыток - Праздничный мир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Как звери готовятся к зиме. Часть 1. Родная тропинка"/>
          <p:cNvPicPr/>
          <p:nvPr/>
        </p:nvPicPr>
        <p:blipFill>
          <a:blip r:embed="rId3"/>
          <a:stretch/>
        </p:blipFill>
        <p:spPr>
          <a:xfrm>
            <a:off x="179280" y="504720"/>
            <a:ext cx="79930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Осенние фоны для открыток - Праздничный ми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Осенние фоны для открыток - Праздничный мир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Осенние фоны для открыток - Праздничный мир"/>
          <p:cNvPicPr/>
          <p:nvPr/>
        </p:nvPicPr>
        <p:blipFill>
          <a:blip r:embed="rId3"/>
          <a:stretch/>
        </p:blipFill>
        <p:spPr>
          <a:xfrm>
            <a:off x="3240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Сон зимой в берлоге сладкий. Загадка 43 (Инна Левченко) / Ст…"/>
          <p:cNvPicPr/>
          <p:nvPr/>
        </p:nvPicPr>
        <p:blipFill>
          <a:blip r:embed="rId4"/>
          <a:stretch/>
        </p:blipFill>
        <p:spPr>
          <a:xfrm>
            <a:off x="395280" y="1341360"/>
            <a:ext cx="3968640" cy="4967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59280" y="692280"/>
            <a:ext cx="45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Хозяин лесн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просыпается весн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а зимой под вьюжный 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спит в избушке снег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32360" y="2781360"/>
            <a:ext cx="362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Осенние фоны для открыток - Праздничный ми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Осенние фоны для открыток - Праздничный мир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Осенние фоны для открыток - Праздничный мир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Белка - Картинка 545/22"/>
          <p:cNvPicPr/>
          <p:nvPr/>
        </p:nvPicPr>
        <p:blipFill>
          <a:blip r:embed="rId4"/>
          <a:stretch/>
        </p:blipFill>
        <p:spPr>
          <a:xfrm>
            <a:off x="611280" y="47628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Осенние фоны для открыток - Праздничный ми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Осенние фоны для открыток - Праздничный мир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Осенние фоны для открыток - Праздничный мир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Впадают в спячку - Картинка 784/53"/>
          <p:cNvPicPr/>
          <p:nvPr/>
        </p:nvPicPr>
        <p:blipFill>
          <a:blip r:embed="rId4"/>
          <a:stretch/>
        </p:blipFill>
        <p:spPr>
          <a:xfrm>
            <a:off x="539640" y="549360"/>
            <a:ext cx="7848720" cy="5886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80360" y="765000"/>
            <a:ext cx="863640" cy="792360"/>
          </a:xfrm>
          <a:prstGeom prst="rect">
            <a:avLst/>
          </a:prstGeom>
          <a:solidFill>
            <a:srgbClr val="a048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Веселые картинки для детей. Обои для рабочего стола с персонажами мультфильмов и детских книг"/>
          <p:cNvPicPr/>
          <p:nvPr/>
        </p:nvPicPr>
        <p:blipFill>
          <a:blip r:embed="rId5"/>
          <a:stretch/>
        </p:blipFill>
        <p:spPr>
          <a:xfrm>
            <a:off x="6516720" y="0"/>
            <a:ext cx="21542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Осенние фоны для открыток - Праздничный ми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Осенние фоны для открыток - Праздничный мир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Осенние фоны для открыток - Праздничный мир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Пост"/>
          <p:cNvPicPr/>
          <p:nvPr/>
        </p:nvPicPr>
        <p:blipFill>
          <a:blip r:embed="rId4"/>
          <a:stretch/>
        </p:blipFill>
        <p:spPr>
          <a:xfrm>
            <a:off x="395280" y="692280"/>
            <a:ext cx="75247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4T17:39:49Z</dcterms:created>
  <dc:creator>Vladya</dc:creator>
  <dc:description/>
  <dc:language>en-US</dc:language>
  <cp:lastModifiedBy>Vladya</cp:lastModifiedBy>
  <dcterms:modified xsi:type="dcterms:W3CDTF">2014-10-14T18:06:51Z</dcterms:modified>
  <cp:revision>2</cp:revision>
  <dc:subject/>
  <dc:title>Слайд 1</dc:title>
</cp:coreProperties>
</file>