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gif" ContentType="image/gif"/>
  <Override PartName="/ppt/media/image4.jpeg" ContentType="image/jpeg"/>
  <Override PartName="/ppt/media/image5.gif" ContentType="image/gif"/>
  <Override PartName="/ppt/media/image10.gif" ContentType="image/gif"/>
  <Override PartName="/ppt/media/image6.jpeg" ContentType="image/jpeg"/>
  <Override PartName="/ppt/media/image7.jpeg" ContentType="image/jpeg"/>
  <Override PartName="/ppt/media/image8.jpeg" ContentType="image/jpeg"/>
  <Override PartName="/ppt/media/image9.gif" ContentType="image/gif"/>
  <Override PartName="/ppt/media/image11.gif" ContentType="image/gif"/>
  <Override PartName="/ppt/media/image12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CAF64-33E4-4A27-AE31-60CAEA5D7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31D10-712B-409B-A9EF-2C151F968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9AB24-8BF4-44D8-8DC7-8D36E4992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AE084-C26E-41C3-9156-DF654FEBA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C33A2-67DF-4F2E-A6A5-84C324B5C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11972-61FF-446A-87F7-2272D92C1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A6692-E9DF-439C-98EC-BC9B23C5C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24FD6-1F2F-46B5-BD70-263079023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608BB-F6C8-46EE-AB43-2FD9C1CCA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9CC71-7FF4-4434-824E-46E606C3C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1FC1A-35FF-4AF0-AE6E-9550A40C9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3E445-30A4-4890-8DA8-1C82A9853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75A7E-6744-406B-BC59-39BDB1CB6E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Деление слов на слоги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708360" y="4005360"/>
            <a:ext cx="1839960" cy="156204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209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94920" y="691920"/>
            <a:ext cx="8280360" cy="6048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Из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ба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Тай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га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Вью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г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2843280" y="3933720"/>
            <a:ext cx="3168720" cy="21592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68360" y="1413000"/>
            <a:ext cx="2879640" cy="158436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5651640" y="1268280"/>
            <a:ext cx="2952720" cy="187344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0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0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3" dur="5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6" dur="5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9" dur="5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2" dur="500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Физминутк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23640" y="907920"/>
            <a:ext cx="5400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Зайцы утром рано встал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есело в лесу играл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 дорожкам прыг-прыг-прыг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то к зарядке не привык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от лиса идёт по лес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то там скачет, интересно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Чтоб ответить на вопрос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Тянет лисонька свой но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о зайчата быстро скачу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ак же может быть инач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Тренировки помогают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И зайчата убегаю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от голодная ли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Грустно смотрит в небес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Тяжело вздыхает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адится, отдыха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788000" y="1557360"/>
            <a:ext cx="3240000" cy="42480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5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7" dur="2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0" dur="20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3" dur="20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6" dur="20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9" dur="2000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2" dur="2000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5" dur="2000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8" dur="2000"/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1" dur="2000"/>
                                        <p:tgtEl>
                                          <p:spTgt spid="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4" dur="2000"/>
                                        <p:tgtEl>
                                          <p:spTgt spid="8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7" dur="2000"/>
                                        <p:tgtEl>
                                          <p:spTgt spid="8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0" dur="2000"/>
                                        <p:tgtEl>
                                          <p:spTgt spid="8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3" dur="2000"/>
                                        <p:tgtEl>
                                          <p:spTgt spid="8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6" dur="2000"/>
                                        <p:tgtEl>
                                          <p:spTgt spid="8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9" dur="2000"/>
                                        <p:tgtEl>
                                          <p:spTgt spid="88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2" dur="2000"/>
                                        <p:tgtEl>
                                          <p:spTgt spid="88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одолжите цепочку слов по правилу: последний слог одного слова является первым слогом следующег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Рыба 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Слива 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Бумага  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Ручка ___________              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арта 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Окно 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Туфли 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5435640" y="2205000"/>
            <a:ext cx="3384360" cy="37450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0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33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Игра «Слоговое лото»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2987640" y="2421000"/>
            <a:ext cx="4019760" cy="33130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Ребята чему мы сегодня научились на уроке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8000" spc="-1" strike="noStrike">
                <a:solidFill>
                  <a:srgbClr val="ff0000"/>
                </a:solidFill>
                <a:latin typeface="Arial"/>
              </a:rPr>
              <a:t>Молодцы!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2916360" y="2708280"/>
            <a:ext cx="3311280" cy="335916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4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4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xit" presetID="5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Scale>
                                      <p:cBhvr>
                                        <p:cTn id="5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5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549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1" dur="77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62" dur="77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64" dur="77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66" dur="77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6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99"/>
                </a:solidFill>
                <a:latin typeface="Arial"/>
              </a:rPr>
              <a:t>Организационный момен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9528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Каждый день всегда везд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На занятиях в игр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мело чётко говорим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И тихонечко сидим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084720" y="2637000"/>
            <a:ext cx="2880000" cy="28080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99"/>
                </a:solidFill>
                <a:latin typeface="Arial"/>
              </a:rPr>
              <a:t>Рапорт дежурного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Числ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Месяц                          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День недели      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Время год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Октябр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Четвер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Осень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987640" y="4437000"/>
            <a:ext cx="2305080" cy="208764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99"/>
                </a:solidFill>
                <a:latin typeface="Arial"/>
              </a:rPr>
              <a:t>Скороговорка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От топота копыт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пыль по полю летит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6" dur="8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7" dur="8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" dur="8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560"/>
                            </p:stCondLst>
                            <p:childTnLst>
                              <p:par>
                                <p:cTn id="12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2" dur="8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3" dur="8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4" dur="8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99"/>
                </a:solidFill>
                <a:latin typeface="Arial"/>
              </a:rPr>
              <a:t>Скороговорка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421000"/>
            <a:ext cx="8229600" cy="37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От  то/по/та ко/пыт пыль по по/лю ле/тит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Соберите рассыпанное слово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Л ь      о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ш   а   д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Соберите рассыпанное слово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8000" spc="-1" strike="noStrike">
                <a:solidFill>
                  <a:srgbClr val="ff0000"/>
                </a:solidFill>
                <a:latin typeface="Arial"/>
              </a:rPr>
              <a:t>Лошадь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556000" y="2924280"/>
            <a:ext cx="4267080" cy="367344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99"/>
                </a:solidFill>
                <a:latin typeface="Arial"/>
              </a:rPr>
              <a:t>Пальчиковая гимнастика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Раз, два, три, четыре, пять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Вышли зайчики гулять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Этот зайчик гриб нашел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Этот зайчик чистить стал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Этот зайчик резать стал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Этот зайчик ел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Ну а этот лишь смотрел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6732720" y="2421000"/>
            <a:ext cx="2057400" cy="34002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0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197" dur="20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6200"/>
                            </p:stCondLst>
                            <p:childTnLst>
                              <p:par>
                                <p:cTn id="1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7200"/>
                            </p:stCondLst>
                            <p:childTnLst>
                              <p:par>
                                <p:cTn id="2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8200"/>
                            </p:stCondLst>
                            <p:childTnLst>
                              <p:par>
                                <p:cTn id="2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9200"/>
                            </p:stCondLst>
                            <p:childTnLst>
                              <p:par>
                                <p:cTn id="2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10200"/>
                            </p:stCondLst>
                            <p:childTnLst>
                              <p:par>
                                <p:cTn id="2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1200"/>
                            </p:stCondLst>
                            <p:childTnLst>
                              <p:par>
                                <p:cTn id="2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12200"/>
                            </p:stCondLst>
                            <p:childTnLst>
                              <p:par>
                                <p:cTn id="2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Вставьте пропущенный слог в данные слова. В каждой группе пропущен один и тот же сло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ни          Шу            Пче      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Ро            Лю            Пи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лу          Бом          Ме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ью          Из            С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Тай           Клум        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403280" y="1700280"/>
            <a:ext cx="100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г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547640" y="3068640"/>
            <a:ext cx="102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г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87280" y="2492280"/>
            <a:ext cx="93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241640" y="2290680"/>
            <a:ext cx="601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г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547640" y="4581360"/>
            <a:ext cx="81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г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1618560" y="3860640"/>
            <a:ext cx="107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г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708360" y="1628640"/>
            <a:ext cx="95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б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635280" y="1844640"/>
            <a:ext cx="72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635280" y="2349360"/>
            <a:ext cx="93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б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851280" y="316080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б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635280" y="3881520"/>
            <a:ext cx="92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б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84720" y="4581360"/>
            <a:ext cx="82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б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208560" y="1647720"/>
            <a:ext cx="88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940360" y="2349360"/>
            <a:ext cx="88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156360" y="3068640"/>
            <a:ext cx="81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013440" y="3789360"/>
            <a:ext cx="70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796000" y="4581360"/>
            <a:ext cx="73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0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1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1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1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1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10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10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4T13:57:28Z</dcterms:created>
  <dc:creator>123</dc:creator>
  <dc:description/>
  <dc:language>en-US</dc:language>
  <cp:lastModifiedBy>Student9</cp:lastModifiedBy>
  <dcterms:modified xsi:type="dcterms:W3CDTF">2008-10-13T05:05:40Z</dcterms:modified>
  <cp:revision>18</cp:revision>
  <dc:subject/>
  <dc:title>Составление из слогов слов.</dc:title>
</cp:coreProperties>
</file>