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gif" ContentType="image/gif"/>
  <Override PartName="/ppt/media/image10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8991-92B4-45D1-A303-A3C9554D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F80-750E-4931-9834-E643EADE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53BE-89F7-4270-BFD8-01C6CC85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5EA1-FCFC-4493-8F12-7374CB05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16D6-3C25-4B2E-8666-B0403B7C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F287-511D-4A09-BF89-068F2278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8C54-7802-43F3-8F82-FB3E8079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45D-71ED-4C12-B337-1C04F5B5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8F5-9766-4AE6-98FD-A228D187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79CC-0A6B-4003-828F-25A160E1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BC60-6936-413E-8051-CF4ACFE1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DF4E-E73F-465F-9696-118D7A8C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BA2E-9C42-4451-8ECE-18C2F1A48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еление слов на слог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08360" y="4005360"/>
            <a:ext cx="1839960" cy="156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09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4920" y="691920"/>
            <a:ext cx="8280360" cy="604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б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ай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г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ью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43280" y="3933720"/>
            <a:ext cx="3168720" cy="2159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2879640" cy="1584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651640" y="1268280"/>
            <a:ext cx="2952720" cy="1873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Физминут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540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йцы утром рано вста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село в лесу игр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дорожкам прыг-прыг-прыг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то к зарядке не привы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т лиса идёт по л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то там скачет, интерес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б ответить на вопро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янет лисонька свой н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 зайчата быстро скач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же может быть инач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енировки помогаю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зайчата убег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т голодная ли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устно смотрит в неб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яжело вздыха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дится, отдых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240000" cy="424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2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20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20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8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должите цепочку слов по правилу: последний слог одного слова является первым слогом следу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ыба 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ива 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умага  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учка ___________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арта 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кно 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уфли 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35640" y="2205000"/>
            <a:ext cx="3384360" cy="3745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Игра «Слоговое лото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987640" y="2421000"/>
            <a:ext cx="4019760" cy="3313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ебята чему мы сегодня научились на урок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3311280" cy="3359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4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77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2" dur="77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4" dur="77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6" dur="77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Организационный момен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ждый день всегда вез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 занятиях в иг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мело чётко говори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тихонечко сиди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84720" y="2637000"/>
            <a:ext cx="2880000" cy="280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Рапорт дежурно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ис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сяц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нь недели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ремя го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ктяб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Четвер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сен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87640" y="4437000"/>
            <a:ext cx="2305080" cy="2087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Скороговорк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От топота копы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пыль по полю лети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6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Скороговорк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От  то/по/та ко/пыт пыль по по/лю ле/ти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Соберите рассыпанное сло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Л ь      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ш   а   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Соберите рассыпанное сло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Лошад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56000" y="2924280"/>
            <a:ext cx="4267080" cy="3673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Пальчиковая гимнасти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, два, три, четыре, пя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шли зайчики гуля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от зайчик гриб наше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от зайчик чистить ста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от зайчик резать ста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от зайчик е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у а этот лишь смотре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732720" y="2421000"/>
            <a:ext cx="2057400" cy="3400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7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2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2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82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92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2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2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2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ставьте пропущенный слог в данные слова. В каждой группе пропущен один и тот же с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ни          Шу            Пче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            Лю            П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у          Бом          М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ью          Из            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ай           Клум        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3280" y="170028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3068640"/>
            <a:ext cx="10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2492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41640" y="2290680"/>
            <a:ext cx="60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7640" y="4581360"/>
            <a:ext cx="8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618560" y="3860640"/>
            <a:ext cx="107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08360" y="1628640"/>
            <a:ext cx="9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35280" y="184464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5280" y="2349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51280" y="31608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35280" y="388152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84720" y="4581360"/>
            <a:ext cx="8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08560" y="1647720"/>
            <a:ext cx="8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2349360"/>
            <a:ext cx="88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56360" y="3068640"/>
            <a:ext cx="8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3440" y="378936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96000" y="458136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3:57:28Z</dcterms:created>
  <dc:creator>123</dc:creator>
  <dc:description/>
  <dc:language>en-US</dc:language>
  <cp:lastModifiedBy>Student9</cp:lastModifiedBy>
  <dcterms:modified xsi:type="dcterms:W3CDTF">2008-10-13T05:05:40Z</dcterms:modified>
  <cp:revision>18</cp:revision>
  <dc:subject/>
  <dc:title>Составление из слогов слов.</dc:title>
</cp:coreProperties>
</file>