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7C7-D244-4269-9DF1-97003BEE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48D-A803-45DD-967B-64E6420A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545-AA44-4EE2-808B-2C8F0992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E5A-92E4-428E-A199-1C3E88EE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FB9-2B4B-4F61-B0B1-05B3EEE1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687-4394-49D5-9C26-ECF758C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124-309F-4E6E-8B53-5BB701A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4B2-F519-4795-80EE-687A74E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146-F60D-4C0F-A91E-2A57CF6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DD4-BA5D-43F9-9E44-861C86F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010-FF72-402C-A678-19B5819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DDE-CDB5-4A62-8135-0F588B46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B225-0008-4153-AD7F-151D4C911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HandBombardWesternEurope1390-140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Zamek_w_Malborku_-_bombard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Средневековое огнестрельное ору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4149720"/>
            <a:ext cx="72327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к 6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 №6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ков Всевол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ПИЩ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амо слово означает «дудка») — общее русскоязычное название ранних образцов огнестрельного оружия. Пищали, появившиеся в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XIV века, использовались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цельной стрельб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й силе и укрепле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mPischali"/>
          <p:cNvPicPr/>
          <p:nvPr/>
        </p:nvPicPr>
        <p:blipFill>
          <a:blip r:embed="rId1"/>
          <a:stretch/>
        </p:blipFill>
        <p:spPr>
          <a:xfrm>
            <a:off x="6516720" y="3068640"/>
            <a:ext cx="2182680" cy="35211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РУЖЬ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жьё — гладкоствольное или комбинированное стрелковое оружие, конструктивно предназначенное для удержания и управления при стрельбе двумя руками с упором приклада в пле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nglish_flintlock_blunderbuss"/>
          <p:cNvPicPr/>
          <p:nvPr/>
        </p:nvPicPr>
        <p:blipFill>
          <a:blip r:embed="rId1"/>
          <a:stretch/>
        </p:blipFill>
        <p:spPr>
          <a:xfrm>
            <a:off x="1763640" y="4581360"/>
            <a:ext cx="5143680" cy="213372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ПИСТ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то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ручное короткоствольное огнестрельное оружие. Предназначен для ведения огня на дистанции до 25-50 метров. Первые пистолеты были гладкоство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днозаря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Flintlock_pistols"/>
          <p:cNvPicPr/>
          <p:nvPr/>
        </p:nvPicPr>
        <p:blipFill>
          <a:blip r:embed="rId1"/>
          <a:stretch/>
        </p:blipFill>
        <p:spPr>
          <a:xfrm>
            <a:off x="4427640" y="3573360"/>
            <a:ext cx="4508280" cy="305460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ХВАЧ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вачх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противопехотное корейское  оружие, двухколёсная повозка, на которой была пусковая установка с гнёздами, в которые помещались ракеты. Радиус действия хвач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45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Файл:Hwacha.jpg"/>
          <p:cNvPicPr/>
          <p:nvPr/>
        </p:nvPicPr>
        <p:blipFill>
          <a:blip r:embed="rId1"/>
          <a:stretch/>
        </p:blipFill>
        <p:spPr>
          <a:xfrm>
            <a:off x="4284720" y="3484440"/>
            <a:ext cx="4354560" cy="32655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0f09"/>
                </a:solidFill>
                <a:latin typeface="Arial"/>
              </a:rPr>
              <a:t>Значение средневекового огнестрельного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нестрельное оружие – причина военной  реформы европейской ар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45 г. – появление в регулярной армии артиллерийских ча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алгоритма боевых действий: начинало боя – артобстрел и рытье укреп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боя –захват артпозиций орудий вр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ло классической войны Нов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0f09"/>
                </a:solidFill>
                <a:latin typeface="Arial"/>
              </a:rPr>
              <a:t>Музеи средневекового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ужейная палата Московского Кр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рмитаж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кт-Петербур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уэр в Лонд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 Средневеков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аг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 армии в Пари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Файл:Dresden-Zwinger-Armoury-Entrance.JPG"/>
          <p:cNvPicPr/>
          <p:nvPr/>
        </p:nvPicPr>
        <p:blipFill>
          <a:blip r:embed="rId1"/>
          <a:stretch/>
        </p:blipFill>
        <p:spPr>
          <a:xfrm>
            <a:off x="5580000" y="2133720"/>
            <a:ext cx="3381480" cy="450828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0f09"/>
                </a:solidFill>
                <a:latin typeface="Arial"/>
              </a:rPr>
              <a:t>Список интернет ссы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travelalone.naro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www.xlegi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www.mir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0_1ea5b_d8951a8c_L"/>
          <p:cNvPicPr/>
          <p:nvPr/>
        </p:nvPicPr>
        <p:blipFill>
          <a:blip r:embed="rId1"/>
          <a:stretch/>
        </p:blipFill>
        <p:spPr>
          <a:xfrm>
            <a:off x="4572000" y="3411360"/>
            <a:ext cx="4103640" cy="30783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cc63d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днее средневековье — это не только звон мечей и визг тетивы, но и хлопки огнестрельного оружия. Греческий огонь был известен еще в Византии, а первые шестиствольные «пулеметы» появились в 16 веке. Об огнестрельном оружии в Средние века — в нашем проек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Список огнестрельного оружия средневек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Ш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Ч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КЕБ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МБ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ВАЧ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ЛЕВ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Щ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Ж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ТО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Муш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шкет, убийца средневековья.  Его вес 7—9 килограммов. Калибр 22—23 миллиметра и ствол длиной около полутора метров. Только в Испании — самой технически развитой стране Европы того времени — могли изготовить прочный и сравнительно легкий ствол такой длины и калиб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7056360" cy="165708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Руч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ница — дульнозарядное ружьё, раннее европейское ручное гладкоствольное огнестрельное оружие второй половины XIV века. Ствол из железа или  бронзы на деревянном ложе. Калибр — от 12,5 до 25 мм. В начале XVI века ручницы были вытеснены мушк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Файл:HandBombardWesternEurope1390-14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869000"/>
            <a:ext cx="7620120" cy="169524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Аркеб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кебуза  — гладкоствольное, фитильное дульнозарядное ружьё, XV века. Пороховой заряд поджигался с помощью фитильного замка. Вес 3 кг, калибр — 15-17 мм. Пуля имела дульную скорость около 300 м/сек и пробивала тяжёлый рыцарский доспех на расстоянии до 30-35 метров. Длина ствола – 30-40 калиб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300px-Arkebuz"/>
          <p:cNvPicPr/>
          <p:nvPr/>
        </p:nvPicPr>
        <p:blipFill>
          <a:blip r:embed="rId1"/>
          <a:stretch/>
        </p:blipFill>
        <p:spPr>
          <a:xfrm>
            <a:off x="1547640" y="5229360"/>
            <a:ext cx="6048720" cy="147132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П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тип артиллерийского орудия, с большим удлинением ствола и  дальнобойностью. Условной границей между гаубичным и пушечным стволом считается его длина в 25 калибров. При меньшей длине орудие классифицируется как гауби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XIII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пушки Старой Риги (Латвия)"/>
          <p:cNvPicPr/>
          <p:nvPr/>
        </p:nvPicPr>
        <p:blipFill>
          <a:blip r:embed="rId1"/>
          <a:srcRect l="0" t="0" r="0" b="8047"/>
          <a:stretch/>
        </p:blipFill>
        <p:spPr>
          <a:xfrm>
            <a:off x="4356000" y="3789360"/>
            <a:ext cx="4105440" cy="283680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Бомба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мбарда (от фр.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bombar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итал.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bombard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— одно из первых артиллерийских орудий, применявшихся при осаде и обороне крепостей в XIV-XVI веков. Бомбарды также были первыми корабе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уд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Файл:Zamek w Malborku - bombar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860640"/>
            <a:ext cx="3745080" cy="28083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КУЛЕВ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евр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огнестрельное оружие,  предок аркебузы, мушкета и легкой пушки. Калибр от 12,5 до 22 мм, длина — от 1,2 до 2,4 м, вес от 5 до 28 кг. Применялась для поражения живой силы противника на близком расстоянии. Использовалась как стрелковое или артиллерийское оруж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Файл:40KgWroughtIronMurderer1410France.jpg"/>
          <p:cNvPicPr/>
          <p:nvPr/>
        </p:nvPicPr>
        <p:blipFill>
          <a:blip r:embed="rId1"/>
          <a:stretch/>
        </p:blipFill>
        <p:spPr>
          <a:xfrm>
            <a:off x="2195640" y="4653000"/>
            <a:ext cx="4897440" cy="20685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1:29:37Z</dcterms:created>
  <dc:creator>Admin</dc:creator>
  <dc:description/>
  <dc:language>en-US</dc:language>
  <cp:lastModifiedBy>lvl308</cp:lastModifiedBy>
  <dcterms:modified xsi:type="dcterms:W3CDTF">2015-05-13T07:43:04Z</dcterms:modified>
  <cp:revision>11</cp:revision>
  <dc:subject/>
  <dc:title>Средневековое огнестрельное оружие</dc:title>
</cp:coreProperties>
</file>