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88C-B212-4F69-ABCB-4AFF037E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7F1-B3B6-43CC-AA02-21E152E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A07-764C-41A2-ABA4-AA7CAA74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EC8-3DB4-401D-8D81-BB63E9AA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833-170F-4BE2-9FC4-652F34D2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F72-9D48-480C-833E-48C706B4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32D-2E35-415A-A8FF-20E73E62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8EC-EEAA-4FBA-8165-CEF4A21C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588-CB89-401A-9D55-4DB05FC1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DB4-A49D-47F9-AE23-32D1364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7D0-06B0-45FB-AF7A-45B973D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2EF-0E2D-42A5-9A0C-5E689D8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974-DF7F-4ED1-AAA5-BAFC4BDC7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HandBombardWesternEurope1390-140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Zamek_w_Malborku_-_bombard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Средневековое огнестрельное ору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4149720"/>
            <a:ext cx="72327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к 6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 №6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ков Всевол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ПИЩ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амо слово означает «дудка») — общее русскоязычное название ранних образцов огнестрельного оружия. Пищали, появившиеся в ко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XIV века, использовались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цельной стрельбы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й силе и укрепле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mPischali"/>
          <p:cNvPicPr/>
          <p:nvPr/>
        </p:nvPicPr>
        <p:blipFill>
          <a:blip r:embed="rId1"/>
          <a:stretch/>
        </p:blipFill>
        <p:spPr>
          <a:xfrm>
            <a:off x="6516720" y="3068640"/>
            <a:ext cx="2182680" cy="35211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РУЖЬ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жьё — гладкоствольное или комбинированное стрелковое оружие, конструктивно предназначенное для удержания и управления при стрельбе двумя руками с упором приклада в пле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nglish_flintlock_blunderbuss"/>
          <p:cNvPicPr/>
          <p:nvPr/>
        </p:nvPicPr>
        <p:blipFill>
          <a:blip r:embed="rId1"/>
          <a:stretch/>
        </p:blipFill>
        <p:spPr>
          <a:xfrm>
            <a:off x="1763640" y="4581360"/>
            <a:ext cx="5143680" cy="213372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ПИСТ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то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ручное короткоствольное огнестрельное оружие. Предназначен для ведения огня на дистанции до 25-50 метров. Первые пистолеты были гладкоство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днозаря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Flintlock_pistols"/>
          <p:cNvPicPr/>
          <p:nvPr/>
        </p:nvPicPr>
        <p:blipFill>
          <a:blip r:embed="rId1"/>
          <a:stretch/>
        </p:blipFill>
        <p:spPr>
          <a:xfrm>
            <a:off x="4427640" y="3573360"/>
            <a:ext cx="4508280" cy="305460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ХВАЧ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вачх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противопехотное корейское  оружие, двухколёсная повозка, на которой была пусковая установка с гнёздами, в которые помещались ракеты. Радиус действия хвач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оло 45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Файл:Hwacha.jpg"/>
          <p:cNvPicPr/>
          <p:nvPr/>
        </p:nvPicPr>
        <p:blipFill>
          <a:blip r:embed="rId1"/>
          <a:stretch/>
        </p:blipFill>
        <p:spPr>
          <a:xfrm>
            <a:off x="4284720" y="3484440"/>
            <a:ext cx="4354560" cy="32655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0f09"/>
                </a:solidFill>
                <a:latin typeface="Arial"/>
              </a:rPr>
              <a:t>Значение средневекового огнестрельного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нестрельное оружие – причина военной  реформы европейской ар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45 г. – появление в регулярной армии артиллерийских ча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алгоритма боевых действий: начинало боя – артобстрел и рытье укреп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боя –захват артпозиций орудий вр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ло классической войны Нов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0f09"/>
                </a:solidFill>
                <a:latin typeface="Arial"/>
              </a:rPr>
              <a:t>Музеи средневекового оруж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ужейная палата Московского Кр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рмитаж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кт-Петербур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уэр в Лонд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 Средневеков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аг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cca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 армии в Пари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Файл:Dresden-Zwinger-Armoury-Entrance.JPG"/>
          <p:cNvPicPr/>
          <p:nvPr/>
        </p:nvPicPr>
        <p:blipFill>
          <a:blip r:embed="rId1"/>
          <a:stretch/>
        </p:blipFill>
        <p:spPr>
          <a:xfrm>
            <a:off x="5580000" y="2133720"/>
            <a:ext cx="3381480" cy="450828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0f09"/>
                </a:solidFill>
                <a:latin typeface="Arial"/>
              </a:rPr>
              <a:t>Список интернет ссы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travelalone.naro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www.xlegi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www.mir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0_1ea5b_d8951a8c_L"/>
          <p:cNvPicPr/>
          <p:nvPr/>
        </p:nvPicPr>
        <p:blipFill>
          <a:blip r:embed="rId1"/>
          <a:stretch/>
        </p:blipFill>
        <p:spPr>
          <a:xfrm>
            <a:off x="4572000" y="3411360"/>
            <a:ext cx="4103640" cy="30783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cc63d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днее средневековье — это не только звон мечей и визг тетивы, но и хлопки огнестрельного оружия. Греческий огонь был известен еще в Византии, а первые шестиствольные «пулеметы» появились в 16 веке. Об огнестрельном оружии в Средние века — в нашем проек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Список огнестрельного оружия средневек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ШК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Ч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КЕБ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МБ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ВАЧ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ЛЕВ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Щ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Ж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ТО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Муш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шкет, убийца средневековья.  Его вес 7—9 килограммов. Калибр 22—23 миллиметра и ствол длиной около полутора метров. Только в Испании — самой технически развитой стране Европы того времени — могли изготовить прочный и сравнительно легкий ствол такой длины и калиб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7056360" cy="165708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Руч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чница — дульнозарядное ружьё, раннее европейское ручное гладкоствольное огнестрельное оружие второй половины XIV века. Ствол из железа или  бронзы на деревянном ложе. Калибр — от 12,5 до 25 мм. В начале XVI века ручницы были вытеснены мушк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Файл:HandBombardWesternEurope1390-14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869000"/>
            <a:ext cx="7620120" cy="169524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Аркеб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кебуза  — гладкоствольное, фитильное дульнозарядное ружьё, XV века. Пороховой заряд поджигался с помощью фитильного замка. Вес 3 кг, калибр — 15-17 мм. Пуля имела дульную скорость около 300 м/сек и пробивала тяжёлый рыцарский доспех на расстоянии до 30-35 метров. Длина ствола – 30-40 калиб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300px-Arkebuz"/>
          <p:cNvPicPr/>
          <p:nvPr/>
        </p:nvPicPr>
        <p:blipFill>
          <a:blip r:embed="rId1"/>
          <a:stretch/>
        </p:blipFill>
        <p:spPr>
          <a:xfrm>
            <a:off x="1547640" y="5229360"/>
            <a:ext cx="6048720" cy="147132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П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тип артиллерийского орудия, с большим удлинением ствола и  дальнобойностью. Условной границей между гаубичным и пушечным стволом считается его длина в 25 калибров. При меньшей длине орудие классифицируется как гауби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XIII 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пушки Старой Риги (Латвия)"/>
          <p:cNvPicPr/>
          <p:nvPr/>
        </p:nvPicPr>
        <p:blipFill>
          <a:blip r:embed="rId1"/>
          <a:srcRect l="0" t="0" r="0" b="8047"/>
          <a:stretch/>
        </p:blipFill>
        <p:spPr>
          <a:xfrm>
            <a:off x="4356000" y="3789360"/>
            <a:ext cx="4105440" cy="283680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Бомба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мбарда (от фр.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bombar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итал.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bombard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— одно из первых артиллерийских орудий, применявшихся при осаде и обороне крепостей в XIV-XVI веков. Бомбарды также были первыми корабель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уд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Файл:Zamek w Malborku - bombar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860640"/>
            <a:ext cx="3745080" cy="28083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f09"/>
                </a:solidFill>
                <a:latin typeface="Arial"/>
              </a:rPr>
              <a:t>КУЛЕВ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евр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огнестрельное оружие,  предок аркебузы, мушкета и легкой пушки. Калибр от 12,5 до 22 мм, длина — от 1,2 до 2,4 м, вес от 5 до 28 кг. Применялась для поражения живой силы противника на близком расстоянии. Использовалась как стрелковое или артиллерийское оруж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Файл:40KgWroughtIronMurderer1410France.jpg"/>
          <p:cNvPicPr/>
          <p:nvPr/>
        </p:nvPicPr>
        <p:blipFill>
          <a:blip r:embed="rId1"/>
          <a:stretch/>
        </p:blipFill>
        <p:spPr>
          <a:xfrm>
            <a:off x="2195640" y="4653000"/>
            <a:ext cx="4897440" cy="2068560"/>
          </a:xfrm>
          <a:prstGeom prst="rect">
            <a:avLst/>
          </a:prstGeom>
          <a:ln w="63360">
            <a:solidFill>
              <a:srgbClr val="f70f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1:29:37Z</dcterms:created>
  <dc:creator>Admin</dc:creator>
  <dc:description/>
  <dc:language>en-US</dc:language>
  <cp:lastModifiedBy>lvl308</cp:lastModifiedBy>
  <dcterms:modified xsi:type="dcterms:W3CDTF">2015-05-13T07:43:04Z</dcterms:modified>
  <cp:revision>11</cp:revision>
  <dc:subject/>
  <dc:title>Средневековое огнестрельное оружие</dc:title>
</cp:coreProperties>
</file>