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F416-7704-46D4-93AE-2FF86EFD05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F864-7634-4DB3-AFA8-5C0EE582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4B3B-9B72-4D45-9923-92CFE01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9DA8-6057-47CD-99F5-33A4E01D2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EF18-5C9A-4884-A494-0B8E5A7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081F-80D2-4DBE-95D1-1507574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04E8-84B9-4880-B106-F088D72A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37B3-1A78-41BA-AEA1-5CF2D317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6853-1D08-4AD0-96E7-788D8931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832D-3594-4B1B-8D34-78C8F9B1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E3E3-C7F5-411D-9B88-1D5AD33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0D11-FD85-422B-B438-DD07D635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26753E-3A89-442E-A641-B63D6051C69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9400" y="1800360"/>
            <a:ext cx="8994600" cy="32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2320" y="122400"/>
            <a:ext cx="751680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щательно прижимаем конвертик к основной фигуре с одной и с другой стор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2960" y="1557360"/>
            <a:ext cx="767412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даем фигуре объем, положив на поверхность коротким концом и надавливаем так, чтобы острый конец спрятался внутрь под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851960" cy="29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1890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изу получится дырочка, в которую мы вставим стебелек, а затем отгибаем по очереди лепестки бумажного цве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0880" y="1700280"/>
            <a:ext cx="824220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33336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учился цветок из бума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35668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333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ЕБЕЛЬ ЦВЕТКА ИЗ БУМАГ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рем бумагу зеленого цвета и загибаем так, чтобы получился треугольник, а затем разгибаем обратно (намечаем цент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7815240" cy="34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1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левый и правый уголки к центру и поворачиваем поделку на 18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7356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280" y="260280"/>
            <a:ext cx="69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нижние уголки, а затем- еще раз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123040" cy="36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189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ворачиваем поделку и складываем фигуру попол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28240" cy="422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26028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по одну половину на вторую и затем разгибаем, а затем складываем левую часть поделки и отгибаем обра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828828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же загибаем и правую часть и отгибаем обратно, а из намеченных сгибов можно сделать лист цветка из бума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823428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можно сделать красивый трехмерный цветок из бумаги. Для того, чтобы сделать цветок из бумаги, вырежьте два квадрата зеленого и красного цветов (для стебля и бутона бумажного цвет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653160" cy="5002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33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учился стебель с листком, который вставляем в цветок из бумаги, предварительно окунув кончик стебля в клей для бума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43040" y="2060640"/>
            <a:ext cx="810720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0" t="0" r="50533" b="0"/>
          <a:stretch/>
        </p:blipFill>
        <p:spPr>
          <a:xfrm>
            <a:off x="971640" y="549360"/>
            <a:ext cx="7389720" cy="5616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50397" t="0" r="0" b="0"/>
          <a:stretch/>
        </p:blipFill>
        <p:spPr>
          <a:xfrm>
            <a:off x="1332000" y="692280"/>
            <a:ext cx="7030800" cy="53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260280"/>
            <a:ext cx="8604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УТОН ЦВЕТКА ИЗ БУМАГИ: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рва берем квадрат, вырезанный из красной бумаги 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ладываем его по диагонали на одной сторо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823608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333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гибаем по диагоналям в другую сторону, так, как показано на ф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51364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6206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тем складываем треугольник, как на ф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261640" cy="3106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89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созданной фигуре загибаем уголки кверху и к цент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9120" y="1413000"/>
            <a:ext cx="8426520" cy="31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3333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уголки и на обратной стороне, а затем разгибаем те стороны, которые находятся внутри фиг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80737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549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 второй стороны разгибаем так же, а затем загибаем уголки книзу и к цент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48680" cy="36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260280"/>
            <a:ext cx="66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тавляем один уголок в складку друг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7640" y="2205000"/>
            <a:ext cx="77202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8:38:01Z</dcterms:created>
  <dc:creator>Еленга Берюхова</dc:creator>
  <dc:description/>
  <dc:language>en-US</dc:language>
  <cp:lastModifiedBy>Борис</cp:lastModifiedBy>
  <dcterms:modified xsi:type="dcterms:W3CDTF">2015-01-26T17:33:11Z</dcterms:modified>
  <cp:revision>6</cp:revision>
  <dc:subject/>
  <dc:title>Слайд 1</dc:title>
</cp:coreProperties>
</file>