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3E2EC-D20A-4EE8-B75E-271ADE2524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FC747-F285-4CE3-8AE9-EBAC92FA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0A3C0-116D-4469-9D46-D4D06B5A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8FC1A-74A9-4CC4-A9BA-FFEC5C5A31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82474-5252-4FC1-8BD2-5FF7E9F0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49779-017B-4F7D-814B-36291923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49592-8DC1-40CF-88A2-8BF3DF56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6D5AE-50FB-4A1E-967D-BF9595B9C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EC3EC-DD30-4D07-A670-6998E381F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ADC7D-84AB-473D-AD1E-4B2C1AAD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F0864-65C1-41C7-889C-1595C8BE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B152C-8CE0-4CBE-963A-D7AE9451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B556981-B99B-4537-88EB-A13738A923E1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49400" y="1800360"/>
            <a:ext cx="8994600" cy="3284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52320" y="122400"/>
            <a:ext cx="7516800" cy="1322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11280" y="18900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щательно прижимаем конвертик к основной фигуре с одной и с другой сторо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42960" y="1557360"/>
            <a:ext cx="7674120" cy="3600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9640" y="40464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даем фигуре объем, положив на поверхность коротким концом и надавливаем так, чтобы острый конец спрятался внутрь подел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55640" y="2133720"/>
            <a:ext cx="7851960" cy="2950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11280" y="18900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низу получится дырочка, в которую мы вставим стебелек, а затем отгибаем по очереди лепестки бумажного цвет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50880" y="1700280"/>
            <a:ext cx="8242200" cy="3600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55640" y="333360"/>
            <a:ext cx="459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лучился цветок из бума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8356680" cy="352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95280" y="333360"/>
            <a:ext cx="84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ТЕБЕЛЬ ЦВЕТКА ИЗ БУМАГИ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ерем бумагу зеленого цвета и загибаем так, чтобы получился треугольник, а затем разгибаем обратно (намечаем центр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4360" y="2492280"/>
            <a:ext cx="7815240" cy="3409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11280" y="18900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гибаем левый и правый уголки к центру и поворачиваем поделку на 180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7735680" cy="36003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55280" y="260280"/>
            <a:ext cx="690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гибаем нижние уголки, а затем- еще раз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11280" y="1773360"/>
            <a:ext cx="8123040" cy="367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9640" y="189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еворачиваем поделку и складываем фигуру попол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8328240" cy="4226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95280" y="260280"/>
            <a:ext cx="856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гибаем по одну половину на вторую и затем разгибаем, а затем складываем левую часть поделки и отгибаем обрат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8288280" cy="388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5280" y="26028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акже загибаем и правую часть и отгибаем обратно, а из намеченных сгибов можно сделать лист цветка из бума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84360" y="2205000"/>
            <a:ext cx="8234280" cy="309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189000"/>
            <a:ext cx="864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к можно сделать красивый трехмерный цветок из бумаги. Для того, чтобы сделать цветок из бумаги, вырежьте два квадрата зеленого и красного цветов (для стебля и бутона бумажного цветк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403280" y="1413000"/>
            <a:ext cx="6653160" cy="50022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55640" y="333360"/>
            <a:ext cx="813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лучился стебель с листком, который вставляем в цветок из бумаги, предварительно окунув кончик стебля в клей для бумаг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43040" y="2060640"/>
            <a:ext cx="8107200" cy="403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rcRect l="0" t="0" r="50533" b="0"/>
          <a:stretch/>
        </p:blipFill>
        <p:spPr>
          <a:xfrm>
            <a:off x="971640" y="549360"/>
            <a:ext cx="7389720" cy="56163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rcRect l="50397" t="0" r="0" b="0"/>
          <a:stretch/>
        </p:blipFill>
        <p:spPr>
          <a:xfrm>
            <a:off x="1332000" y="692280"/>
            <a:ext cx="7030800" cy="5329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9640" y="260280"/>
            <a:ext cx="86043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БУТОН ЦВЕТКА ИЗ БУМАГИ:</a:t>
            </a:r>
            <a:br>
              <a:rPr sz="20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ерва берем квадрат, вырезанный из красной бумаги 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кладываем его по диагонали на одной сторо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9640" y="2421000"/>
            <a:ext cx="8236080" cy="3519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4360" y="33336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гибаем по диагоналям в другую сторону, так, как показано на фот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95280" y="2781360"/>
            <a:ext cx="8513640" cy="352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620640"/>
            <a:ext cx="709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тем складываем треугольник, как на фот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8261640" cy="31068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9640" y="18900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созданной фигуре загибаем уголки кверху и к центр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19120" y="1413000"/>
            <a:ext cx="8426520" cy="316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1280" y="333360"/>
            <a:ext cx="828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гибаем уголки и на обратной стороне, а затем разгибаем те стороны, которые находятся внутри фигу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8073720" cy="3736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55640" y="54936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 второй стороны разгибаем так же, а затем загибаем уголки книзу и к центр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8248680" cy="3662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11280" y="260280"/>
            <a:ext cx="66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ставляем один уголок в складку другог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7640" y="2205000"/>
            <a:ext cx="7720200" cy="309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8T08:38:01Z</dcterms:created>
  <dc:creator>Еленга Берюхова</dc:creator>
  <dc:description/>
  <dc:language>en-US</dc:language>
  <cp:lastModifiedBy>Борис</cp:lastModifiedBy>
  <dcterms:modified xsi:type="dcterms:W3CDTF">2015-01-26T17:33:11Z</dcterms:modified>
  <cp:revision>6</cp:revision>
  <dc:subject/>
  <dc:title>Слайд 1</dc:title>
</cp:coreProperties>
</file>