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0B7-47B9-4716-85F6-BD2CA810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5EA-7BE9-4685-A6CD-321CC59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CB2-4C8F-4479-959A-1E476E0C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12F-A37A-4F32-AE96-E604A99E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8ECC-3915-45AE-BE32-0AE25A5D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845-DF08-4481-BE6E-F74546A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01DB-6FAA-46B3-A60E-888AB1C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589E-7B0F-4C6C-BD91-04FA7AF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3287-501E-4490-8263-FEDB8763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83C1-31C7-4E78-9A79-CBCBEA5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6CF-5274-4B2D-877D-F1948EF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EB7-86A7-4D95-B948-D4A5433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3FB0-807F-4719-AB96-0522B87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16E-3C31-4D76-A592-60BE442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4EE-C66B-4384-AAC2-A179F35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A7A7-AC65-4878-84EB-3F6D7CA3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FF9-BE6C-4477-A15D-C1256895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E954-2A36-489C-93B9-87E6BA44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7ACE-3A69-4679-9F17-CC9F1D0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9B8C-B306-4C83-8672-A1CF958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CADB-C00C-47FB-9494-880B80C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B643-0377-488E-B2CF-FCBA15D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625-BEB0-4509-8036-7444892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1D95-D27F-4924-8133-2676411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52D0-B504-4625-BEA0-63F8234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15B2-2975-43E3-9233-F136ACDC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586B-56E8-49FA-9B4E-EAC16F3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D651-8136-4E7C-A8EA-F7DAC0F7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19BB-2DAD-484B-B72D-6B830E2D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59D4-CBCC-4418-9E79-13F7E422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80EA-CD4A-4FC2-BA17-9D1CFA27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FBDC-794C-4493-A83C-E0DB3147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586D-F8A1-4786-8853-1F22E857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1DD-6D0A-4A55-9062-C6FCDA3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7346-21A8-4C8A-A48F-0442D5F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0C6A-7DD4-4DF4-BF95-EBFFF5D1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30E0-BC25-4C96-9D07-B7E4F4C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2C19-2938-4EC8-916F-72A780E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A96B-3115-4B8D-9D2D-3D87FEC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8CC9-7C15-479C-9DF8-844B46E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10A7-70EA-4B86-9D15-E528D90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8A64-22A7-4F72-B189-1989217C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DF7C-B1D1-4864-BE28-DDCBF1DC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59857-12E5-4EE8-96F4-82B6025F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B67-2EE1-4B04-8B02-F4B0B1F4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0496-2BC6-481B-AAB2-B95432EF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2558-7B7C-468B-B417-303CC7D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40E0-AC21-47E4-A0B1-15ED8996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FDE8-4322-4039-9563-2C5281A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E167-EE9A-43B8-8551-FBDA317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9EC1-FD5B-448F-9BBC-FCF519F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BDF1-C8F8-4D6C-A355-CEA65BE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26F2-8452-4FAC-95A2-CF36A0B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E9694-A491-465A-85AE-802C094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81E9-1A5D-479B-A78C-568AEC2A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057-9534-46F5-B7FE-E34D66D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315F-9892-4BAB-9A00-2791BB42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6A17-2644-4BA0-9199-A937BCB6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8AECD-AE56-445F-89E0-9D8A944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1A01-C5F4-4844-96E4-4CC35F18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96F8-5BBA-4A2E-A30F-A8A17F1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B0214-F207-42C8-95E0-8A4AB0E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6679A-98CC-4F85-9792-578A22DA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781A-840D-4EC2-A2F0-11346A4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A540-BD42-42B2-AAD6-E413C39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09FC-8405-4818-9D41-AD022307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669-B3B5-4D4D-A0D2-F20C27DF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89A3-3C4E-41A0-B393-CB067BC3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0E62C-395E-42F6-86FC-90913384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48E42-5704-4E77-AA48-C7FE9CB2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C38-D781-4539-A2CD-15777756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DBA-CA47-423E-9A15-97E905B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B84-1C13-4319-A2E5-9133954804E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494B-A59F-40F2-A700-786848E9996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A14B-C4DA-4E0D-AE95-94040C22184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F48-14E1-4E89-86E7-D2FC58F16B4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588-F2ED-474E-91A5-124D8C828A2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11B-54EF-4C2C-9DC1-2E19871C841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95280" y="620640"/>
          <a:ext cx="8280360" cy="5688000"/>
        </p:xfrm>
        <a:graphic>
          <a:graphicData uri="http://schemas.openxmlformats.org/drawingml/2006/table">
            <a:tbl>
              <a:tblPr/>
              <a:tblGrid>
                <a:gridCol w="1650960"/>
                <a:gridCol w="2803680"/>
                <a:gridCol w="1755720"/>
                <a:gridCol w="207000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уро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чевые и грамматичес-кие нор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ополнить знания о нормах русского литературного я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звивать способности к самостоятельному размышлению над поставленными вопрос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оспитывать познавательную активность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Воспитывать интерес и любовь к родному язы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но-поис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ирован-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огическая цепочка уро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ормы речи          несоблюдение нор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мматические и речевые ошибк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 над речевыми грамматически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шибками         нормы реч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право 9"/>
          <p:cNvSpPr/>
          <p:nvPr/>
        </p:nvSpPr>
        <p:spPr>
          <a:xfrm>
            <a:off x="2928960" y="178596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52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Cambri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трелка вправо 12"/>
          <p:cNvSpPr/>
          <p:nvPr/>
        </p:nvSpPr>
        <p:spPr>
          <a:xfrm>
            <a:off x="7500960" y="171468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трелка вправо 13"/>
          <p:cNvSpPr/>
          <p:nvPr/>
        </p:nvSpPr>
        <p:spPr>
          <a:xfrm>
            <a:off x="6929280" y="285768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трелка вправо 14"/>
          <p:cNvSpPr/>
          <p:nvPr/>
        </p:nvSpPr>
        <p:spPr>
          <a:xfrm>
            <a:off x="2500200" y="500076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68360" y="666720"/>
          <a:ext cx="8280360" cy="5965920"/>
        </p:xfrm>
        <a:graphic>
          <a:graphicData uri="http://schemas.openxmlformats.org/drawingml/2006/table">
            <a:tbl>
              <a:tblPr/>
              <a:tblGrid>
                <a:gridCol w="503280"/>
                <a:gridCol w="4383000"/>
                <a:gridCol w="339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равь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слова в несвойственном ему знач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сль развивается на продолжении всего текс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личение оттенков значения, вносимых в слово приставкой и суффикс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и приняты эффектные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личение синонимичных с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онечном предложении автор применяет градац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слов иной стилевой окрас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р, обращаясь к этой проблеме, пытается направить людей немного в другую коле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местное употребление эмоционально-окрашенных слов и фразеологиз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афьев то и дело прибегает к употреблению метафор и олицетвор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авданное употребление просторечных с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им людям всегда удается объегорить други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лексической сочетае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р увеличивает впечат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лишних слов, в том числе плеоназ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дой юноша, очень прекрас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рядом или близко однокоренных слов (тавтолог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этом рассказе рассказывается о реальных событ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авданное повторение сл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 рассказа не задумывается над своим поступком. Герой даже не понимает всей глубины содеян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дность и однообразие синтаксических конструк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да писатель пришел в редакцию, его принял главный редактор. Когда они поговорили, писатель отправился в гостиниц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ачное употребление местоим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ный текст написал  В. Белов. Он относится  к художественному стил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253"/>
          <p:cNvSpPr/>
          <p:nvPr/>
        </p:nvSpPr>
        <p:spPr>
          <a:xfrm>
            <a:off x="0" y="687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ыбери правильный ответ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928800"/>
          <a:ext cx="7467480" cy="521172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упила вой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ась вой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 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в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ять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вним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инте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ть забо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ить забо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ь напис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ь созд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ь задач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ить задач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оваться интерес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инте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щая перспект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ная перспект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ть замеч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замеч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автопортр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портр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скать слав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скать лав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ие витра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е витра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зить ц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низкими ц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ать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адать в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ить информац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ать информац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2600" y="1571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ать р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меть зна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давать зна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нять 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звать интер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явить забо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исатель созд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ить задач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звать интер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1019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ресная перспект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делать замеч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портр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скать сла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ркие витраж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зить це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ать ошиб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ширение кругоз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бщить информ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Franklin Gothic Book"/>
              </a:rPr>
              <a:t>Грамматические ошибки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14200" y="379440"/>
          <a:ext cx="8286840" cy="626436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равь ошиб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слово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мый, надсмеха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существи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ие чудатехники, не хватает врем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 прилага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ее,красивш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числи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ятистами руб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местоим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него пафо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глаго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ездиют, хоч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оглас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ком с группой ребят, серьезно увлекающимися джаз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у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ует чита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вязи между подлежащим и сказуем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возражали против такой оц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пособа выражения сказуем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были рады, счастливы и весе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однородными член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любила и гордилась поэ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 деепричастным оборо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я текст , возникает такое чувство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причастным оборо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кая дорожка была покрыта проваливающимся снегом под ног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сложного предлож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 книга научила меня ценить и уважать друзей , которую я прочитал еще в детств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ение прямой и косвенной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 сказал, что я не согласен с мнением реценз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границ пред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ерой опомнился. Было уже поздн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84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Выбери правильный ответ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57160" y="357120"/>
          <a:ext cx="7358040" cy="6500880"/>
        </p:xfrm>
        <a:graphic>
          <a:graphicData uri="http://schemas.openxmlformats.org/drawingml/2006/table">
            <a:tbl>
              <a:tblPr/>
              <a:tblGrid>
                <a:gridCol w="3678480"/>
                <a:gridCol w="367956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й диван- крова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ая диван-крова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ы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емистами рубля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емьюстами рубля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х дом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хнем дом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родом Саратов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родом Саратов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я к дому , было весе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я к дому , мы веселилис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юблю и восхищаюсь друг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юблю друга и восхищаюсь и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еный картофел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еная картофел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приш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приш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ьт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жайт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апельсин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апельс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вану Русак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вану Рус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ые инжен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ые инженер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ы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 друз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 подру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доровлю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доровею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, предъявляющие к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, предъявляемые к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и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760"/>
            <a:ext cx="390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й диван- кр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интере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семьюстами руб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х до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родом Сарато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ходя к дому , мы весел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люблю друга и восхищаюсь 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реный картоф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нство приш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71492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езжай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апельс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Ивану Руса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одые инжен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рек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е др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дорове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, предъявляемые к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48:47Z</dcterms:created>
  <dc:creator>WiZaRd</dc:creator>
  <dc:description/>
  <dc:language>en-US</dc:language>
  <cp:lastModifiedBy>Наталья</cp:lastModifiedBy>
  <dcterms:modified xsi:type="dcterms:W3CDTF">2010-11-26T20:12:40Z</dcterms:modified>
  <cp:revision>12</cp:revision>
  <dc:subject/>
  <dc:title>Слайд 1</dc:title>
</cp:coreProperties>
</file>