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F7B6-38D4-4994-8911-D51C7D0C2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DCEF-B635-4A75-9D33-D38CAF552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CBED-8B23-46E7-A073-BE86C261B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5AE6-38B2-4D78-A1F3-1BAB9CE22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16A59-86A9-412F-B868-2A66254E2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58EA8-2350-4AC6-83A4-FC42FA647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9CAAB-6993-400C-B659-67623E076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F25CB-118C-4D71-A00F-F301411E0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5D5E9-D66A-484D-BF11-578DBF63E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D5417-8E3C-4102-82A3-586A6D52A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8ACAB-2D8F-4723-BCF1-C9A08BBFC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89C4-E27B-474B-B7F6-AC3348618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8DB45-E2A9-4C7A-BCFD-DFE755D93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6E2A7-550B-4715-AA00-3FE206B25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82F38-F236-4B1A-9284-0827ADE2D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8EF90-DA6F-4AD7-89C8-1A5B02941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CEFA7-715D-40EB-AC79-B6370CB9B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016A0-D9F6-47E3-B6DF-F210767FB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B4D14-4F53-4899-9FBD-A6FA1EE38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8CEF6-697C-459A-916B-3AE640E88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B0756-9514-4CBB-A03B-13FB0BF5A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B8ACE-2FE1-4FF3-88FF-E843C8DBC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40E4-458D-4509-A6E6-109FF6A63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8543D-9ACD-4E7B-91AC-4368B40C8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8B5CB-5C76-40C7-A2AB-6465C35DD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CF6D8-42AA-4C8A-BFBC-C977FDB66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1D4FE-B68E-4399-B294-47C63007F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D5314-48D9-4493-A91D-463AD0654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67B4E-AEC6-42EF-B20B-B83B701F3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EBAA0-5821-4721-8516-88D2CDDA2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B2B50-DD8E-43B7-A036-AE698AD46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72F3C-88AC-491D-AFD5-A0B1A16D6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56175-1360-460C-82DF-7EF5C4BED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24C0-785D-4573-AE34-BD391FFB0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9D2D8D-7D82-4616-9156-6AC7FBE26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6FF2C-A3E6-49D4-99A6-0FAD841B6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BEC35-3A29-4647-9D02-16DE799C5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A3F67-F600-4CBE-B95A-DB929F247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1E288-6620-40ED-A09A-37D555516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A68A6-38B5-41D0-AC4A-4663D13ED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4D9E4-C06C-4D1D-A7AF-250007C32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F60ED-BAB4-44E4-921E-5D0A36183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17B03-491C-4B00-AF30-79462A78C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135AE7-36A6-40A7-A9E1-0FDB2EE50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062C-D14E-41EB-89C5-B91468398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83B89D-EA02-4910-AA8C-A8E3210D5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76F49B-6468-4B8D-A295-4FF106216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27E454-3B8C-4762-BE3D-2F3BBEEDC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346687-7871-4292-BC71-3F36E8241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CDB85B-7735-4670-A3D3-162647FD9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ECD09B-05EB-4E8A-9713-F2435708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6E258F-B5F6-4D4C-A51A-83CC106E6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EAB12B-AAB6-4CB1-9855-E98211CA6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F12D8A-7DF6-4EA8-BB8F-52110FF1B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4E2DBB-D39A-44A2-85FF-083171975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E09A-627A-4657-ACB3-1B8C8BD56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6BD585-6C7D-42F5-B17B-A59154794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BB8BE9-F7CE-450E-B8FD-93630E9CF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AC2879-A3F2-4017-9BE1-5B08115E8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CCAE0C-A7F6-49D1-A45E-6FB66C589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D982A0-F867-47E5-93ED-FA818C801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F6520F-F2C3-4F47-83D2-850F801A8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36BD50-E8A0-44D2-891B-DA298200C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19B8C2-A505-49A8-A6EF-3395C7ED6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3F46C9-1739-4954-9F0E-A841D4566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E4088F-B8E7-4645-B144-41996A32D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8F0E-57BC-41CA-BD0A-A64800668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283AE4-3EC5-4F7B-A8A9-6B3CBE6B2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9A3194-0E7C-4ACA-8D99-AE974578F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C47747-6FD5-469A-B2D4-47DD30466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7FDF-B711-4A55-A0EC-E66213C94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1925-A1EB-4DCB-B348-2BFAEC290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3241D-CC62-41A9-9080-AB3B54AF5AC5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063A1-4FCD-4966-AF99-A487F2D14205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0BEB6-4A6B-44D5-9898-BB01E9DE314E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3E60A-81FD-497D-B74F-B489E2B77247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F1107-B2DF-4E5E-844C-A1CA6E76AD75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8753E-DF80-4E40-97A2-A95839D22EC4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4" name=""/>
          <p:cNvGraphicFramePr/>
          <p:nvPr/>
        </p:nvGraphicFramePr>
        <p:xfrm>
          <a:off x="395280" y="620640"/>
          <a:ext cx="8280360" cy="5688000"/>
        </p:xfrm>
        <a:graphic>
          <a:graphicData uri="http://schemas.openxmlformats.org/drawingml/2006/table">
            <a:tbl>
              <a:tblPr/>
              <a:tblGrid>
                <a:gridCol w="1650960"/>
                <a:gridCol w="2803680"/>
                <a:gridCol w="1755720"/>
                <a:gridCol w="2070000"/>
              </a:tblGrid>
              <a:tr h="94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ма уро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ели уро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арактер деятельност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ип урока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чевые и грамматичес-кие норм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 Пополнить знания о нормах русского литературного язы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 Развивать способности к самостоятельному размышлению над поставленными вопросами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 Воспитывать познавательную активность 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 Воспитывать интерес и любовь к родному язык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блемно-поисков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мбинирован-ный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Логическая цепочка урока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Нормы речи          несоблюдение норм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грамматические и речевые ошибки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работа над речевыми грамматическим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ошибками         нормы реч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Стрелка вправо 9"/>
          <p:cNvSpPr/>
          <p:nvPr/>
        </p:nvSpPr>
        <p:spPr>
          <a:xfrm>
            <a:off x="2928960" y="1785960"/>
            <a:ext cx="692280" cy="341280"/>
          </a:xfrm>
          <a:prstGeom prst="rightArrow">
            <a:avLst>
              <a:gd name="adj1" fmla="val 50000"/>
              <a:gd name="adj2" fmla="val 50045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14"/>
          <p:cNvSpPr/>
          <p:nvPr/>
        </p:nvSpPr>
        <p:spPr>
          <a:xfrm>
            <a:off x="2520" y="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ff"/>
                </a:solidFill>
                <a:uFillTx/>
                <a:latin typeface="Arial"/>
                <a:ea typeface="Cambria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Стрелка вправо 12"/>
          <p:cNvSpPr/>
          <p:nvPr/>
        </p:nvSpPr>
        <p:spPr>
          <a:xfrm>
            <a:off x="7500960" y="1714680"/>
            <a:ext cx="692280" cy="341280"/>
          </a:xfrm>
          <a:prstGeom prst="rightArrow">
            <a:avLst>
              <a:gd name="adj1" fmla="val 50000"/>
              <a:gd name="adj2" fmla="val 50045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Стрелка вправо 13"/>
          <p:cNvSpPr/>
          <p:nvPr/>
        </p:nvSpPr>
        <p:spPr>
          <a:xfrm>
            <a:off x="6929280" y="2857680"/>
            <a:ext cx="692280" cy="341280"/>
          </a:xfrm>
          <a:prstGeom prst="rightArrow">
            <a:avLst>
              <a:gd name="adj1" fmla="val 50000"/>
              <a:gd name="adj2" fmla="val 50045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Стрелка вправо 14"/>
          <p:cNvSpPr/>
          <p:nvPr/>
        </p:nvSpPr>
        <p:spPr>
          <a:xfrm>
            <a:off x="2500200" y="5000760"/>
            <a:ext cx="692280" cy="341280"/>
          </a:xfrm>
          <a:prstGeom prst="rightArrow">
            <a:avLst>
              <a:gd name="adj1" fmla="val 50000"/>
              <a:gd name="adj2" fmla="val 50045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468360" y="666720"/>
          <a:ext cx="8280360" cy="5965920"/>
        </p:xfrm>
        <a:graphic>
          <a:graphicData uri="http://schemas.openxmlformats.org/drawingml/2006/table">
            <a:tbl>
              <a:tblPr/>
              <a:tblGrid>
                <a:gridCol w="503280"/>
                <a:gridCol w="4383000"/>
                <a:gridCol w="339408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  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д ошибк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справь ошибк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потребление слова в несвойственном ему значен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ысль развивается на продолжении всего текст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различение оттенков значения, вносимых в слово приставкой и суффиксом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ыли приняты эффектные мер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различение синонимичных сл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конечном предложении автор применяет градацию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потребление слов иной стилевой окраск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втор, обращаясь к этой проблеме, пытается направить людей немного в другую колею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уместное употребление эмоционально-окрашенных слов и фразеологизм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стафьев то и дело прибегает к употреблению метафор и олицетворени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оправданное употребление просторечных сл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аким людям всегда удается объегорить других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7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рушение лексической сочетаемост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втор увеличивает впечатлен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потребление лишних слов, в том числе плеоназм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олодой юноша, очень прекрасный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потребление рядом или близко однокоренных слов (тавтология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этом рассказе рассказывается о реальных событиях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оправданное повторение слов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ерой рассказа не задумывается над своим поступком. Герой даже не понимает всей глубины содеянног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едность и однообразие синтаксических конструкци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гда писатель пришел в редакцию, его принял главный редактор. Когда они поговорили, писатель отправился в гостиниц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удачное употребление местоимени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анный текст написал  В. Белов. Он относится  к художественному стилю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3" name="Rectangle 253"/>
          <p:cNvSpPr/>
          <p:nvPr/>
        </p:nvSpPr>
        <p:spPr>
          <a:xfrm>
            <a:off x="0" y="687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Franklin Gothic Book"/>
              </a:rPr>
              <a:t>Выбери правильный ответ 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457200" y="928800"/>
          <a:ext cx="7467480" cy="5211720"/>
        </p:xfrm>
        <a:graphic>
          <a:graphicData uri="http://schemas.openxmlformats.org/drawingml/2006/table">
            <a:tbl>
              <a:tblPr/>
              <a:tblGrid>
                <a:gridCol w="3733920"/>
                <a:gridCol w="37335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ступила войн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чалась войн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грать рол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олнять рол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еть значен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грать значен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давать значен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ь значен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принять мер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ять мер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звать вниман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звать интерес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азать забот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явить забот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исатель написа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исатель созда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шить задач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уществить задач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ьзоваться интересом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звать интерес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удущая перспектив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тересная перспектив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дать замечан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делать замечан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й автопортре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топортрет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нискать слав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нискать лавр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ркие витраж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клянные витраж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низить цен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делать низкими цен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ершать ошибк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падать в ошибк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ышение кругозор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ширение кругозор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общить информацию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азать информацию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               </a:t>
            </a: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Проверь себя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42600" y="1571400"/>
            <a:ext cx="4040280" cy="39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грать рол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меть значени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идавать значени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инять мер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ызвать интерес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оявить забот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исатель созда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ешить задач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ызвать интерес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5101920" y="1517400"/>
            <a:ext cx="4041720" cy="39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нтересная перспектив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делать замечани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Автопортрет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нискать слав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Яркие витраж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низить цен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овершать ошибк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асширение кругозор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ообщить информацию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7467840" cy="439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Franklin Gothic Book"/>
              </a:rPr>
              <a:t>Грамматические ошибки </a:t>
            </a:r>
            <a:endParaRPr b="0" lang="en-US" sz="22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214200" y="379440"/>
          <a:ext cx="8286840" cy="6264360"/>
        </p:xfrm>
        <a:graphic>
          <a:graphicData uri="http://schemas.openxmlformats.org/drawingml/2006/table">
            <a:tbl>
              <a:tblPr/>
              <a:tblGrid>
                <a:gridCol w="4143600"/>
                <a:gridCol w="41432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д ошибк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справь ошибк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</a:tr>
              <a:tr h="35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шибочное словообразован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удолюбимый, надсмехатьс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35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шибочное образование формы существительног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ногие чудатехники, не хватает врем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35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шибочное образование формы  прилагательног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ее интереснее,красивш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35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шибочное образование формы числительног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пятистами рублям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35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шибочное образование формы местоиме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хнего пафос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29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шибочное образование формы глагол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ни ездиют, хочу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рушение согласова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 знаком с группой ребят, серьезно увлекающимися джазом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рушение управле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ествует читателе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35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рушение связи между подлежащим и сказуемым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инство возражали против такой оценк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35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рушение способа выражения сказуемог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 были рады, счастливы и весел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шибки в построении предложения с однородными членам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ана любила и гордилась поэтом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шибки в построении предложения с  деепричастным оборотом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тая текст , возникает такое чувство…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шибки в построении предложения с причастным оборотом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зкая дорожка была покрыта проваливающимся снегом под ногам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шибки в построении сложного предложения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а книга научила меня ценить и уважать друзей , которую я прочитал еще в детств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35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ешение прямой и косвенной реч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тор сказал, что я не согласен с мнением рецензент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рушение границ предложе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гда герой опомнился. Было уже поздно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57120" y="0"/>
            <a:ext cx="7467840" cy="28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Выбери правильный ответ</a:t>
            </a: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857160" y="357120"/>
          <a:ext cx="7358040" cy="6500880"/>
        </p:xfrm>
        <a:graphic>
          <a:graphicData uri="http://schemas.openxmlformats.org/drawingml/2006/table">
            <a:tbl>
              <a:tblPr/>
              <a:tblGrid>
                <a:gridCol w="3678480"/>
                <a:gridCol w="3679560"/>
              </a:tblGrid>
              <a:tr h="26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овый диван- кровать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овая диван-кровать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ее интересный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ее интереснее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26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семистами рублям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семьюстами рублям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26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их доме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ихнем доме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городом Саратовом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городом Саратовым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ходя к дому , было весело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ходя к дому , мы веселились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 люблю и восхищаюсь другом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 люблю друга и восхищаюсь им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ареный картофель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ареная картофель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инство пришло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инство пришл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26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дьте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езжайте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ного апельсино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ного апельсин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 Ивану Русаку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 Ивану Русак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лодые инженер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лодые инженеры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26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ректора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ректоры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26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ое друзей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ое подруг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26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здоровлю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здоровею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ебования, предъявляющие к работе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ебования, предъявляемые к работе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26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л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ожил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Проверь себя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571680" y="1571760"/>
            <a:ext cx="3900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вый диван- крова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олее интерес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 семьюстами рубля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их дом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 городом Саратов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дходя к дому , мы веселилис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Я люблю друга и восхищаюсь и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Жареный картофе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ольшинство приш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2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714920" y="164304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езжайт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ного апельсин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 Ивану Русак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лодые инженер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иректор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вое друз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здоровею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ебования, предъявляемые к работ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лал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14:48:47Z</dcterms:created>
  <dc:creator>WiZaRd</dc:creator>
  <dc:description/>
  <dc:language>en-US</dc:language>
  <cp:lastModifiedBy>Наталья</cp:lastModifiedBy>
  <dcterms:modified xsi:type="dcterms:W3CDTF">2010-11-26T20:12:40Z</dcterms:modified>
  <cp:revision>12</cp:revision>
  <dc:subject/>
  <dc:title>Слайд 1</dc:title>
</cp:coreProperties>
</file>