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7CF-21CF-4616-96AD-A61359D7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9B0-6261-4A5A-B74D-7995717A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ADA-C247-46AF-9144-9CB0E9A1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6FF-0C7B-4380-9AB5-35016F81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69B-E652-47E6-ABED-498307AA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3EF-D4EC-4619-A695-DD92BA71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894-4F60-4922-8E36-754BF8F1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B33-8ECF-46F9-9041-81692231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7D3-68C0-490C-AE87-59B57893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BAF-B4B6-4A63-8C80-EE75212B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BB7-344B-408B-A19A-6A9D7FEC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165-BD30-4991-A1DF-E9FAF04E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2ABC-4790-4573-9C32-BAE71C7589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6:23:58Z</dcterms:created>
  <dc:creator>DAY</dc:creator>
  <dc:description/>
  <dc:language>en-US</dc:language>
  <cp:lastModifiedBy>DAY</cp:lastModifiedBy>
  <dcterms:modified xsi:type="dcterms:W3CDTF">2015-06-12T16:30:26Z</dcterms:modified>
  <cp:revision>1</cp:revision>
  <dc:subject/>
  <dc:title>Слайд 1</dc:title>
</cp:coreProperties>
</file>