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AE2-2A61-45B6-8276-0F8B657C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9DA-DE44-4D27-AB95-CA83839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F41-829F-4CDC-AAF9-25A80279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DD4-24D9-4B1D-9ED3-C2558FC8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03D4-AB9D-4A3E-9554-0557FF2E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2B63-EE0E-44C1-9DD5-CD3B46B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6088-5382-437B-87AB-91769990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EF76-0778-4E52-8A09-5D9598E1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F73C-D649-4894-9E3E-EF7822C2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DCC-BAB3-407D-8AF4-C45022E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C6F-1075-411C-977C-51DFF62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26B-B7C9-4CF6-B16B-36A841C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CA8-FBC4-4EEB-82BD-7021771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51DF-9D85-40FA-AF6B-5CBE6B6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7168-D187-4747-923D-B83B06A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ECD-B33D-4B30-BA52-33B2A59B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A361-2733-4A54-A88F-70375043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42BC-DAA7-4A1A-926A-E72CF152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A57C-C4D6-4A09-A347-862AED27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4915-EA0D-4AA6-B328-218D05F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15A5-489B-4D5D-A6BD-8344724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EBD9-6819-4D6C-81E9-C380F80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3EB-923B-4657-897A-FA061922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7FFD-429B-49DD-B783-AEF85267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B19E-3EE4-48BE-8C2F-2D6BA3D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D366-814B-443B-A1D1-80445D6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0350-594B-4C77-B424-6B85695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69BE-C563-4EC0-8ABD-289B1F2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EF6E-C07C-4384-9A42-9943885C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D7CE-F159-4CF7-93F4-83E07834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7C77-8D1D-469A-837E-1B81C692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3927-272E-4733-97A1-0905DB6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A5A5-4B95-4016-BF71-4D02514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452-29D4-4C98-A339-4EE532D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E477-6C66-4491-9704-76F34EC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CE46-96F1-479A-9603-D0C3FC9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9628-FDDF-4B46-B75A-770F2F3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ADD3-2453-4964-B7F4-D32D576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9E2E-B503-4436-BD87-2704FB2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4431-086A-4331-9465-2B3A33C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EB67-A5A4-4230-A2CD-E82A71F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76A9-2906-4121-A541-08134E5C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070A-5C3C-4EED-B19C-2175226B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8746-FBB3-4A02-89F3-803B72D3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A70-2C7F-428D-9253-6903D4FA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30E1-DD22-4DD8-BE7D-2C025BF8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46D4-975D-4160-A8F7-21852C9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7F0FD-39FB-478E-987D-5DA226A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5850-C5D5-4FB1-B4A5-EC1E22F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16B99-BD63-4840-98DC-A6BB6D27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6514-CA58-492F-9748-F367B17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DB867-6123-4C8D-9F51-45D93EE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6F83-79A1-4F7F-992E-8A7C303E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B71C8-A139-4653-AADD-F929B84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9031-455F-4A3D-BAFE-C24BA029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B9E-EAAA-4555-871A-2743F3CE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729EE-82B9-46B1-A133-905CF983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3B338-2D5C-4B49-A026-728F8E22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FCB6-6A4A-4B99-9439-09CE7E7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D5E40-0445-45E6-AB82-1F21A45E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646E8-DEE5-48B0-B33D-8627E03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32BB-271C-439D-83F8-CD5EEFA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5B36-208E-48D4-BA43-44FAD6E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7B40-89C5-4734-BA75-79F523A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AE86-4AA4-466E-A38F-7BCEAAC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0859-6EA7-4F47-A8FE-DF1FF51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040-9E03-4CE1-A878-84246E4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6BF4E-7146-46CC-961F-A36F9EE9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4208-CE43-402D-9731-5CA956B1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D199-725E-409C-9A61-39E71E88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26E41-B7A9-4408-8B36-7C753505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5FE9-BF2C-4F2D-B740-323B7224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4DB0-96F8-41C8-A9BC-6112BB3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41E6-FBA6-4444-B92B-0B127DF7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FA88-9DB5-42F2-A0AE-19F5056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9F634-2752-4C02-BFE4-8DD0F41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A4C8-4A7A-4225-B4FC-16C9327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D5D-5464-4213-A118-82052B0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7DA99-8254-4853-AE3E-37C46E1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6DBE-E223-4C81-A018-723074A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D66C-161E-437F-978F-CBF772B7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BCB7-62D7-4604-9A18-09496BA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0FB4-AADD-4A0D-A64C-871201D1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64B46-7790-49CA-BF20-D88B1A6B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BA78-5F6D-4717-A0C0-1FF28F01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C125-4E8F-4F68-8F5E-AEF2921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53AD-35A0-49E8-B6DD-736A560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54BB6-36EA-4345-B194-28F7E9C6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383-CC84-4D79-AFD8-E384E73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6364-0DEE-469A-AC3B-69511FD0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EBBF-AD7C-4026-AA8B-5EB6626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1099C-FF22-4B6C-8BF7-C6D77A6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0441-0947-4A94-B96C-F219930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BE26-F155-4E0B-8D2E-CADFF8DB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E328-163F-43F4-9D2F-2E4A7250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4999-5669-49A2-A886-862D3327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443F-DD91-4E54-8C64-A0C56DBF1A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14C3-398F-4136-A535-6D14CB0DD5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DFA-7A2F-4B49-8062-FD3062609CC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636-B692-4BC8-99C7-712E72572E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D4D3-7C9B-4101-BD70-E6FD9840EC5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63F3-77FC-49C8-B36D-E08F3C6A6E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7EC-CE94-4A7E-8A62-838214870E4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2BDC-DF25-471A-8183-338710E11A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536400" y="2494080"/>
            <a:ext cx="8515440" cy="4601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33160" y="2852640"/>
            <a:ext cx="78548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ОУ Школа №2048 СП№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Рисунок 14" descr="Описание: Новости туризма"/>
          <p:cNvPicPr/>
          <p:nvPr/>
        </p:nvPicPr>
        <p:blipFill>
          <a:blip r:embed="rId2"/>
          <a:stretch/>
        </p:blipFill>
        <p:spPr>
          <a:xfrm>
            <a:off x="539640" y="189000"/>
            <a:ext cx="41356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33160" y="5229360"/>
            <a:ext cx="78548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Заполярье, Мурманск Памятник защитникам Советского Заполярь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Мурманский Алёш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8" name="Рисунок 18" descr="Описание: Мурманск - Сайт bolskur4klass!"/>
          <p:cNvPicPr/>
          <p:nvPr/>
        </p:nvPicPr>
        <p:blipFill>
          <a:blip r:embed="rId1"/>
          <a:stretch/>
        </p:blipFill>
        <p:spPr>
          <a:xfrm>
            <a:off x="2771640" y="260280"/>
            <a:ext cx="3600720" cy="4792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79280" y="51573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Монумент, памятник «Североморский  Алёша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Североморс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Мурманская область, на берегу Баренцева мор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Рисунок 21" descr="Описание: Залив | Североморск (Мурманская область)"/>
          <p:cNvPicPr/>
          <p:nvPr/>
        </p:nvPicPr>
        <p:blipFill>
          <a:blip r:embed="rId1"/>
          <a:stretch/>
        </p:blipFill>
        <p:spPr>
          <a:xfrm>
            <a:off x="179280" y="123840"/>
            <a:ext cx="5473800" cy="41054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3" descr="Описание: МОЙ БЛОГ: 2008-07-20"/>
          <p:cNvPicPr/>
          <p:nvPr/>
        </p:nvPicPr>
        <p:blipFill>
          <a:blip r:embed="rId2"/>
          <a:stretch/>
        </p:blipFill>
        <p:spPr>
          <a:xfrm>
            <a:off x="5292720" y="2708280"/>
            <a:ext cx="3716280" cy="246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68000" y="5918040"/>
            <a:ext cx="7854840" cy="93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Брест, Белорусс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6671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537336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Мемориальный комплекс «Родина-Мат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 </a:t>
            </a: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Кие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Рисунок 37" descr="Описание: CURSO DE RUSSO EM FLORIANÓPOLIS - ГОРОДА-ГЕРОИ - КИЕВ - CIDADES-HERÓI -KIIV"/>
          <p:cNvPicPr/>
          <p:nvPr/>
        </p:nvPicPr>
        <p:blipFill>
          <a:blip r:embed="rId1"/>
          <a:stretch/>
        </p:blipFill>
        <p:spPr>
          <a:xfrm>
            <a:off x="1763640" y="282600"/>
            <a:ext cx="4692600" cy="3529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Воротила"/>
          <p:cNvPicPr/>
          <p:nvPr/>
        </p:nvPicPr>
        <p:blipFill>
          <a:blip r:embed="rId2"/>
          <a:stretch/>
        </p:blipFill>
        <p:spPr>
          <a:xfrm>
            <a:off x="3348000" y="393048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5" descr=""/>
          <p:cNvPicPr/>
          <p:nvPr/>
        </p:nvPicPr>
        <p:blipFill>
          <a:blip r:embed="rId1"/>
          <a:stretch/>
        </p:blipFill>
        <p:spPr>
          <a:xfrm>
            <a:off x="517680" y="549360"/>
            <a:ext cx="7870680" cy="2004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721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резентацию подготовил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едагог-психолог  Тягунова И.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2015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3311280" cy="2521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Обелиск в ознаменование присвоения Москве почетного звания- Город-герой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Рисунок 13" descr="Описание: http://www.molodguard.ru/monument74.jpg"/>
          <p:cNvPicPr/>
          <p:nvPr/>
        </p:nvPicPr>
        <p:blipFill>
          <a:blip r:embed="rId1"/>
          <a:stretch/>
        </p:blipFill>
        <p:spPr>
          <a:xfrm>
            <a:off x="4067280" y="58680"/>
            <a:ext cx="4822560" cy="6653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258920" y="5589360"/>
            <a:ext cx="7200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Мемориал «Защитникам Ленинград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Санкт-Петербур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6" name="Рисунок 11" descr="Описание: Памятники Санкт-Петербурга - фото"/>
          <p:cNvPicPr/>
          <p:nvPr/>
        </p:nvPicPr>
        <p:blipFill>
          <a:blip r:embed="rId1"/>
          <a:stretch/>
        </p:blipFill>
        <p:spPr>
          <a:xfrm>
            <a:off x="971640" y="692280"/>
            <a:ext cx="614052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5520" y="5444640"/>
            <a:ext cx="88092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погибшим ополченцам 9-й дивизии Кировского района города Москв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ts val="1261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ts val="1261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Смоленская область, город Ельн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8" name="Рисунок 4" descr="Описание: http://elnya-admin.smolinvest.ru/files/506/resize/opolchency2_250_333.jpg"/>
          <p:cNvPicPr/>
          <p:nvPr/>
        </p:nvPicPr>
        <p:blipFill>
          <a:blip r:embed="rId1"/>
          <a:stretch/>
        </p:blipFill>
        <p:spPr>
          <a:xfrm>
            <a:off x="2319480" y="620640"/>
            <a:ext cx="3332160" cy="4440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887280" y="4076280"/>
            <a:ext cx="4932360" cy="259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Триумфальная арка. Памятник Г.К. Жукову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Аллея Слав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Город воинской Слав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Курс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0" name="Рисунок 27" descr="Описание: Международный реестр мемориалов, кладбищ, воинских захоронений, братских могил: Мемориал - Мемориальный комплекс - Курская битва"/>
          <p:cNvPicPr/>
          <p:nvPr/>
        </p:nvPicPr>
        <p:blipFill>
          <a:blip r:embed="rId1"/>
          <a:stretch/>
        </p:blipFill>
        <p:spPr>
          <a:xfrm>
            <a:off x="900000" y="160200"/>
            <a:ext cx="3780000" cy="5067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9" descr="Описание: Курск. . Аллея Славы. . Памятник маршалу Жукову (фотография) - - PressFoto"/>
          <p:cNvPicPr/>
          <p:nvPr/>
        </p:nvPicPr>
        <p:blipFill>
          <a:blip r:embed="rId2"/>
          <a:stretch/>
        </p:blipFill>
        <p:spPr>
          <a:xfrm>
            <a:off x="5219640" y="1359000"/>
            <a:ext cx="3495600" cy="2624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10920" y="5703480"/>
            <a:ext cx="7777080" cy="965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освободителям города воинской Славы </a:t>
            </a: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Рже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3" name="Рисунок 30" descr="Описание: Ржев широко расскинулся по обоим. - 18 Декабря 2013 - Blog -…"/>
          <p:cNvPicPr/>
          <p:nvPr/>
        </p:nvPicPr>
        <p:blipFill>
          <a:blip r:embed="rId1"/>
          <a:stretch/>
        </p:blipFill>
        <p:spPr>
          <a:xfrm>
            <a:off x="4267080" y="2060640"/>
            <a:ext cx="4432320" cy="33256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4" descr="Описание: Ржев. . Город воинской славы - Россия, Тверская - Фотографии на карте."/>
          <p:cNvPicPr/>
          <p:nvPr/>
        </p:nvPicPr>
        <p:blipFill>
          <a:blip r:embed="rId2"/>
          <a:stretch/>
        </p:blipFill>
        <p:spPr>
          <a:xfrm>
            <a:off x="826920" y="260280"/>
            <a:ext cx="3410280" cy="227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55520" y="4365360"/>
            <a:ext cx="8656560" cy="237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Курга́н Бессме́ртия — памятник павшим в борьбе с немецко-фашистскими захватчиками, ставший одним из символов города  партизанской и воинской Славы </a:t>
            </a:r>
            <a:r>
              <a:rPr b="1" lang="ru-RU" sz="3200" spc="-1" strike="noStrike">
                <a:solidFill>
                  <a:srgbClr val="ffffff"/>
                </a:solidFill>
                <a:latin typeface="Gungsuh"/>
                <a:ea typeface="Gungsuh"/>
              </a:rPr>
              <a:t>Брянска</a:t>
            </a: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39" descr="Описание: Курган Бессмертия Отзывы Фото Описание Достопримечательности &quot;Где Хорошо&quot;"/>
          <p:cNvPicPr/>
          <p:nvPr/>
        </p:nvPicPr>
        <p:blipFill>
          <a:blip r:embed="rId1"/>
          <a:stretch/>
        </p:blipFill>
        <p:spPr>
          <a:xfrm>
            <a:off x="155520" y="160200"/>
            <a:ext cx="4740480" cy="3340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0" descr="Описание: Фратрия - На выезде - Брянск"/>
          <p:cNvPicPr/>
          <p:nvPr/>
        </p:nvPicPr>
        <p:blipFill>
          <a:blip r:embed="rId2"/>
          <a:stretch/>
        </p:blipFill>
        <p:spPr>
          <a:xfrm>
            <a:off x="4359240" y="1052640"/>
            <a:ext cx="4649760" cy="3168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33160" y="5876640"/>
            <a:ext cx="8359560" cy="865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ts val="2999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«Героям Херсонеса» (Город-герой Севастополь), монумент, воинское захорон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3" name="Рисунок 10" descr="Описание: Памятник &quot;Героям Херсонеса&quot; - Севастополь Вторая Мировая война, памятник, монумент, воинское захоронение"/>
          <p:cNvPicPr/>
          <p:nvPr/>
        </p:nvPicPr>
        <p:blipFill>
          <a:blip r:embed="rId1"/>
          <a:stretch/>
        </p:blipFill>
        <p:spPr>
          <a:xfrm>
            <a:off x="900000" y="243000"/>
            <a:ext cx="7488360" cy="5621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3" descr="Описание: http://war60.my1.ru/1212121212121212.jpg"/>
          <p:cNvPicPr/>
          <p:nvPr/>
        </p:nvPicPr>
        <p:blipFill>
          <a:blip r:embed="rId1"/>
          <a:stretch/>
        </p:blipFill>
        <p:spPr>
          <a:xfrm>
            <a:off x="684360" y="404640"/>
            <a:ext cx="3740040" cy="2808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533160" y="5668560"/>
            <a:ext cx="78548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Волгоград, Мамаев кург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2"/>
          <a:stretch/>
        </p:blipFill>
        <p:spPr>
          <a:xfrm>
            <a:off x="4424400" y="3213000"/>
            <a:ext cx="404820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2T16:57:09Z</dcterms:created>
  <dc:creator>RePack by SPecialiST</dc:creator>
  <dc:description/>
  <dc:language>en-US</dc:language>
  <cp:lastModifiedBy>Ирина</cp:lastModifiedBy>
  <dcterms:modified xsi:type="dcterms:W3CDTF">2015-05-09T19:13:48Z</dcterms:modified>
  <cp:revision>108</cp:revision>
  <dc:subject/>
  <dc:title>Памятники -  камертон нашей совести</dc:title>
</cp:coreProperties>
</file>