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509-D61F-440A-9FBF-A17C9F8C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732-80D7-4CA2-B816-1098D305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11B-530D-4A6A-AF73-EE595392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C93-C6D8-484F-99CD-9154F2B3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1884-6756-4EE0-9CF2-B8F4678B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599E-C9A7-4FBA-8BA1-39C75428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5ADE-519C-4A21-91B1-10C0E028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0AFE-7E43-4CB3-9C11-673C3C4A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7293-DA1F-419B-AA21-22476402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6BF7-414B-4427-B485-4EA75900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B69E-B37C-4E32-93A0-F299BED7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455-0442-49EE-B930-20F6583A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C553-B3E6-46EF-8A88-70E2CC75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B3EA-1436-4C82-AFE9-15F1A44C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694B-35D1-4AE8-8C65-1CE2200F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1E65-9387-417A-8D91-DFCF2460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023D-6675-4F65-96F5-2CEAABAD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30C96-C3C7-4526-9FE0-75DA444F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F0259-942C-4500-8791-AB401F64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E734F-D43D-4996-B1D0-57CBF5A9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CF43C-2A1A-4965-9537-F474C19B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224BF-06AB-4DF8-B331-17099258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569E-5C6D-49C0-B046-D7A807DE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7F289-B128-4BBF-9BC4-8D2DDDBE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5F44F-CDFE-4033-A89E-A277EE63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B6863-DACC-4D83-926B-D8801AFA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BBD5F-784C-44D4-87DF-560F667D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B0D57-A837-4032-A150-BDA96977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0686D-6065-4A67-8C03-FF44B742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B2C3E-F6C3-44EB-81D9-6725E4B3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D267B-B157-4579-A448-09D452CC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7E9FE-FAAB-478F-84E1-E1738C41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CC30E-5DF2-4C34-BCBC-44DAD459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D32-CF5E-4A29-AC5F-0DF976EC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C620A-605A-47DE-A73A-498EA3BB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A9ACC-B3D3-432A-A10F-869B52D7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26F80-1FC5-472E-9743-363FB235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2ADEB-A167-4DEE-A388-5CADF608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F197B-9C73-4886-9353-9DDDCD9B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13251-1FBB-42F7-AC11-EAC77FD8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28B10-5719-4DA5-AB87-769D5976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CE7A6-D1BB-4A64-8090-A940EBB1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F2DC9-2B79-4F99-B45E-D74168C7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B5F7A-D0F8-4C7A-96F2-FD0BF1B0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819-0673-4C45-90A0-EAE308E2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1C10C-FA65-4377-BE99-552573CE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95AC2-4D9D-4F00-ABCB-C816B5EC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C79AF-8E6C-4388-BDA5-E9423826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2238D-98E0-48FA-98B5-3E5CC2D0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ACA01-B79A-484C-B5BF-30A4AF47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96BA9-43F9-47B5-978B-75FB453C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0B1D9-D8C6-490D-A6CA-8EFF9214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773A9-047E-4688-8260-AF3C4CBA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DFCA4-A949-4891-9D7D-0A6D9C10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1EE4A-BCD0-4BBA-B4AC-D6DD8762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FDC-6697-44A9-9C58-14600A5B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8528E-DE99-4F25-8CF6-FF5CFA3B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2F554-2FF4-430B-9681-1C8D387D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E0FE1-6AD6-4B47-A794-03170AE6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80CB2-E3FD-4825-AFE5-CB9F9475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776F0-F753-431D-8704-298B7375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3A48D-DDB4-4CCB-AEF7-1178F609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C42A3-D291-4697-B13A-B7111044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76482-B075-4C66-BCE7-FB6E1ED4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A7EB9-2A5F-48D7-8C6E-B3C1EDCF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D7570-4806-49D9-9810-F84AE399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09D-B3B5-4FE7-A844-144E8BDF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55ED1-9A3D-4FD3-804E-70372DBF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AE692-0B1B-4969-96AA-EC357EF3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3916C-34E3-4B1D-A90D-BA765562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C5422-6F27-4ADF-AC30-A3BA7FF8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79B27-F264-477D-ACA8-35589493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0C659-D217-401D-B1A5-1DC10FC2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AE52B-D072-44D6-BA9E-DE546046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46D3E-92DC-465F-8B41-6618BC9D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611FD-2035-4862-A4BD-424D16C7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89E9F-0621-436A-B4D1-CB64860F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FD8-347B-4DF1-8C24-126095AA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033E0-C8E6-439F-9F37-5A2DE283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95ABC-FBE3-4824-825F-9942A040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40466-B787-4C19-86CD-F44138C5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31CE6-A394-44CA-8F6B-66C3962B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E5EC0-CC37-4127-9116-B5E36377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B49EE-7CC9-4C8A-9C20-6F4CC8C7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3993D-F8C9-4E6D-9716-65E597FE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4BDBE-10AF-4ECA-8F4A-F6C71BF2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49C9E-80D0-43F4-A7A9-86DF034C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DF65C-3E07-4582-844D-792616A1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481B-8795-4D58-86B5-A1D8F6AA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1883D-0905-49C1-A387-EFC6C091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616C0-CCF6-440B-8709-F080BDDC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0B2B2-0844-4FF7-A173-8F9C12AE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36377-EBA2-4E71-98B4-C3E7EC63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25B46-C619-4DD8-9075-7CD4A919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06B67-3584-424E-8455-00810C5C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1A772-AB54-4319-998F-39AEBCB0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6BB0-404B-4AC0-AD3D-3513FB59B47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AE04-7DC3-4627-8679-5E5F130FDEA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9296-9CAA-4B3E-971C-D1BA4277790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F9AC-BD10-446B-850A-297B3FC7BBB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83BF-111A-48F8-95C9-86583DD8C17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06D1-70F3-4095-B3CD-DDC3BA87AB6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45BF-2815-46C5-93C5-64815B50A76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5F49-CAB1-4177-8BAD-08814CA56A0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536400" y="2494080"/>
            <a:ext cx="8515440" cy="46018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533160" y="2852640"/>
            <a:ext cx="78548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ГБОУ Школа №2048 СП№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2" name="Рисунок 14" descr="Описание: Новости туризма"/>
          <p:cNvPicPr/>
          <p:nvPr/>
        </p:nvPicPr>
        <p:blipFill>
          <a:blip r:embed="rId2"/>
          <a:stretch/>
        </p:blipFill>
        <p:spPr>
          <a:xfrm>
            <a:off x="539640" y="189000"/>
            <a:ext cx="413568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33160" y="5229360"/>
            <a:ext cx="7854840" cy="151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Заполярье, Мурманск Памятник защитникам Советского Заполярь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«Мурманский Алёша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8" name="Рисунок 18" descr="Описание: Мурманск - Сайт bolskur4klass!"/>
          <p:cNvPicPr/>
          <p:nvPr/>
        </p:nvPicPr>
        <p:blipFill>
          <a:blip r:embed="rId1"/>
          <a:stretch/>
        </p:blipFill>
        <p:spPr>
          <a:xfrm>
            <a:off x="2771640" y="260280"/>
            <a:ext cx="3600720" cy="47926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79280" y="515736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Монумент, памятник «Североморский  Алёша»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город-герой Североморск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Мурманская область, на берегу Баренцева мор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0" name="Рисунок 21" descr="Описание: Залив | Североморск (Мурманская область)"/>
          <p:cNvPicPr/>
          <p:nvPr/>
        </p:nvPicPr>
        <p:blipFill>
          <a:blip r:embed="rId1"/>
          <a:stretch/>
        </p:blipFill>
        <p:spPr>
          <a:xfrm>
            <a:off x="179280" y="123840"/>
            <a:ext cx="5473800" cy="410544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23" descr="Описание: МОЙ БЛОГ: 2008-07-20"/>
          <p:cNvPicPr/>
          <p:nvPr/>
        </p:nvPicPr>
        <p:blipFill>
          <a:blip r:embed="rId2"/>
          <a:stretch/>
        </p:blipFill>
        <p:spPr>
          <a:xfrm>
            <a:off x="5292720" y="2708280"/>
            <a:ext cx="3716280" cy="24620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68000" y="5918040"/>
            <a:ext cx="7854840" cy="936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Город-герой Брест, Белорусс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5667120" cy="424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50560" y="5373360"/>
            <a:ext cx="8713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Мемориальный комплекс «Родина-Мать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Город-герой  </a:t>
            </a:r>
            <a:r>
              <a:rPr b="1" lang="ru-RU" sz="3600" spc="-1" strike="noStrike">
                <a:solidFill>
                  <a:srgbClr val="ffffff"/>
                </a:solidFill>
                <a:latin typeface="Gungsuh"/>
                <a:ea typeface="Gungsuh"/>
              </a:rPr>
              <a:t>Киев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5" name="Рисунок 37" descr="Описание: CURSO DE RUSSO EM FLORIANÓPOLIS - ГОРОДА-ГЕРОИ - КИЕВ - CIDADES-HERÓI -KIIV"/>
          <p:cNvPicPr/>
          <p:nvPr/>
        </p:nvPicPr>
        <p:blipFill>
          <a:blip r:embed="rId1"/>
          <a:stretch/>
        </p:blipFill>
        <p:spPr>
          <a:xfrm>
            <a:off x="1763640" y="282600"/>
            <a:ext cx="4692600" cy="35290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Воротила"/>
          <p:cNvPicPr/>
          <p:nvPr/>
        </p:nvPicPr>
        <p:blipFill>
          <a:blip r:embed="rId2"/>
          <a:stretch/>
        </p:blipFill>
        <p:spPr>
          <a:xfrm>
            <a:off x="3348000" y="3930480"/>
            <a:ext cx="2163960" cy="1440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5" descr=""/>
          <p:cNvPicPr/>
          <p:nvPr/>
        </p:nvPicPr>
        <p:blipFill>
          <a:blip r:embed="rId1"/>
          <a:stretch/>
        </p:blipFill>
        <p:spPr>
          <a:xfrm>
            <a:off x="517680" y="549360"/>
            <a:ext cx="7870680" cy="20048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2721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Презентацию подготовил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Педагог-психолог  Тягунова И.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2015г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324000" y="4076280"/>
            <a:ext cx="3311280" cy="2521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«Обелиск в ознаменование присвоения Москве почетного звания- Город-герой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4" name="Рисунок 13" descr="Описание: http://www.molodguard.ru/monument74.jpg"/>
          <p:cNvPicPr/>
          <p:nvPr/>
        </p:nvPicPr>
        <p:blipFill>
          <a:blip r:embed="rId1"/>
          <a:stretch/>
        </p:blipFill>
        <p:spPr>
          <a:xfrm>
            <a:off x="4067280" y="58680"/>
            <a:ext cx="4822560" cy="6653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258920" y="5589360"/>
            <a:ext cx="7200720" cy="1152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Мемориал «Защитникам Ленинград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Город-герой Санкт-Петербург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6" name="Рисунок 11" descr="Описание: Памятники Санкт-Петербурга - фото"/>
          <p:cNvPicPr/>
          <p:nvPr/>
        </p:nvPicPr>
        <p:blipFill>
          <a:blip r:embed="rId1"/>
          <a:stretch/>
        </p:blipFill>
        <p:spPr>
          <a:xfrm>
            <a:off x="971640" y="692280"/>
            <a:ext cx="614052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55520" y="5444640"/>
            <a:ext cx="88092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15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ungsuh"/>
                <a:ea typeface="Gungsuh"/>
              </a:rPr>
              <a:t>Памятник погибшим ополченцам 9-й дивизии Кировского района города Москвы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ts val="1261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ungsuh"/>
                <a:ea typeface="Gungsuh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ts val="1261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ungsuh"/>
                <a:ea typeface="Gungsuh"/>
              </a:rPr>
              <a:t>Смоленская область, город Ельня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8" name="Рисунок 4" descr="Описание: http://elnya-admin.smolinvest.ru/files/506/resize/opolchency2_250_333.jpg"/>
          <p:cNvPicPr/>
          <p:nvPr/>
        </p:nvPicPr>
        <p:blipFill>
          <a:blip r:embed="rId1"/>
          <a:stretch/>
        </p:blipFill>
        <p:spPr>
          <a:xfrm>
            <a:off x="2319480" y="620640"/>
            <a:ext cx="3332160" cy="4440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3887280" y="4076280"/>
            <a:ext cx="4932360" cy="2598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Триумфальная арка. Памятник Г.К. Жукову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Аллея Слав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Город воинской Славы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ungsuh"/>
                <a:ea typeface="Gungsuh"/>
              </a:rPr>
              <a:t>Курск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0" name="Рисунок 27" descr="Описание: Международный реестр мемориалов, кладбищ, воинских захоронений, братских могил: Мемориал - Мемориальный комплекс - Курская битва"/>
          <p:cNvPicPr/>
          <p:nvPr/>
        </p:nvPicPr>
        <p:blipFill>
          <a:blip r:embed="rId1"/>
          <a:stretch/>
        </p:blipFill>
        <p:spPr>
          <a:xfrm>
            <a:off x="900000" y="160200"/>
            <a:ext cx="3780000" cy="506736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29" descr="Описание: Курск. . Аллея Славы. . Памятник маршалу Жукову (фотография) - - PressFoto"/>
          <p:cNvPicPr/>
          <p:nvPr/>
        </p:nvPicPr>
        <p:blipFill>
          <a:blip r:embed="rId2"/>
          <a:stretch/>
        </p:blipFill>
        <p:spPr>
          <a:xfrm>
            <a:off x="5219640" y="1359000"/>
            <a:ext cx="3495600" cy="26240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10920" y="5703480"/>
            <a:ext cx="7777080" cy="965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Памятник освободителям города воинской Славы </a:t>
            </a:r>
            <a:r>
              <a:rPr b="1" lang="ru-RU" sz="3600" spc="-1" strike="noStrike">
                <a:solidFill>
                  <a:srgbClr val="ffffff"/>
                </a:solidFill>
                <a:latin typeface="Gungsuh"/>
                <a:ea typeface="Gungsuh"/>
              </a:rPr>
              <a:t>Ржев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3" name="Рисунок 30" descr="Описание: Ржев широко расскинулся по обоим. - 18 Декабря 2013 - Blog -…"/>
          <p:cNvPicPr/>
          <p:nvPr/>
        </p:nvPicPr>
        <p:blipFill>
          <a:blip r:embed="rId1"/>
          <a:stretch/>
        </p:blipFill>
        <p:spPr>
          <a:xfrm>
            <a:off x="4267080" y="2060640"/>
            <a:ext cx="4432320" cy="332568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34" descr="Описание: Ржев. . Город воинской славы - Россия, Тверская - Фотографии на карте."/>
          <p:cNvPicPr/>
          <p:nvPr/>
        </p:nvPicPr>
        <p:blipFill>
          <a:blip r:embed="rId2"/>
          <a:stretch/>
        </p:blipFill>
        <p:spPr>
          <a:xfrm>
            <a:off x="826920" y="260280"/>
            <a:ext cx="3410280" cy="2270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55520" y="4365360"/>
            <a:ext cx="8656560" cy="237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Курга́н Бессме́ртия — памятник павшим в борьбе с немецко-фашистскими захватчиками, ставший одним из символов города  партизанской и воинской Славы </a:t>
            </a:r>
            <a:r>
              <a:rPr b="1" lang="ru-RU" sz="3200" spc="-1" strike="noStrike">
                <a:solidFill>
                  <a:srgbClr val="ffffff"/>
                </a:solidFill>
                <a:latin typeface="Gungsuh"/>
                <a:ea typeface="Gungsuh"/>
              </a:rPr>
              <a:t>Брянска</a:t>
            </a:r>
            <a:r>
              <a:rPr b="0" lang="ru-RU" sz="26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8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Рисунок 39" descr="Описание: Курган Бессмертия Отзывы Фото Описание Достопримечательности &quot;Где Хорошо&quot;"/>
          <p:cNvPicPr/>
          <p:nvPr/>
        </p:nvPicPr>
        <p:blipFill>
          <a:blip r:embed="rId1"/>
          <a:stretch/>
        </p:blipFill>
        <p:spPr>
          <a:xfrm>
            <a:off x="155520" y="160200"/>
            <a:ext cx="4740480" cy="334008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40" descr="Описание: Фратрия - На выезде - Брянск"/>
          <p:cNvPicPr/>
          <p:nvPr/>
        </p:nvPicPr>
        <p:blipFill>
          <a:blip r:embed="rId2"/>
          <a:stretch/>
        </p:blipFill>
        <p:spPr>
          <a:xfrm>
            <a:off x="4359240" y="1052640"/>
            <a:ext cx="4649760" cy="3168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533160" y="5876640"/>
            <a:ext cx="8359560" cy="865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ts val="2999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Памятник «Героям Херсонеса» (Город-герой Севастополь), монумент, воинское захоронени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3" name="Рисунок 10" descr="Описание: Памятник &quot;Героям Херсонеса&quot; - Севастополь Вторая Мировая война, памятник, монумент, воинское захоронение"/>
          <p:cNvPicPr/>
          <p:nvPr/>
        </p:nvPicPr>
        <p:blipFill>
          <a:blip r:embed="rId1"/>
          <a:stretch/>
        </p:blipFill>
        <p:spPr>
          <a:xfrm>
            <a:off x="900000" y="243000"/>
            <a:ext cx="7488360" cy="56214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Рисунок 3" descr="Описание: http://war60.my1.ru/1212121212121212.jpg"/>
          <p:cNvPicPr/>
          <p:nvPr/>
        </p:nvPicPr>
        <p:blipFill>
          <a:blip r:embed="rId1"/>
          <a:stretch/>
        </p:blipFill>
        <p:spPr>
          <a:xfrm>
            <a:off x="684360" y="404640"/>
            <a:ext cx="3740040" cy="28083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533160" y="5668560"/>
            <a:ext cx="7854840" cy="1073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ungsuh"/>
                <a:ea typeface="Gungsuh"/>
              </a:rPr>
              <a:t>Город-герой Волгоград, Мамаев курга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6" name="Picture 7" descr=""/>
          <p:cNvPicPr/>
          <p:nvPr/>
        </p:nvPicPr>
        <p:blipFill>
          <a:blip r:embed="rId2"/>
          <a:stretch/>
        </p:blipFill>
        <p:spPr>
          <a:xfrm>
            <a:off x="4424400" y="3213000"/>
            <a:ext cx="4048200" cy="2303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2T16:57:09Z</dcterms:created>
  <dc:creator>RePack by SPecialiST</dc:creator>
  <dc:description/>
  <dc:language>en-US</dc:language>
  <cp:lastModifiedBy>Ирина</cp:lastModifiedBy>
  <dcterms:modified xsi:type="dcterms:W3CDTF">2015-05-09T19:13:48Z</dcterms:modified>
  <cp:revision>108</cp:revision>
  <dc:subject/>
  <dc:title>Памятники -  камертон нашей совести</dc:title>
</cp:coreProperties>
</file>