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7.jpeg" ContentType="image/jpeg"/>
  <Override PartName="/ppt/media/image3.png" ContentType="image/png"/>
  <Override PartName="/ppt/media/image5.jpeg" ContentType="image/jpeg"/>
  <Override PartName="/ppt/media/image2.gif" ContentType="image/gi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012-7554-42E6-B134-B716945CC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4DA1-63D6-402F-BA20-436DEAC4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9D4B-051A-42B4-ACD5-ED0AA392C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76DB-0ABC-4693-A374-D67ECD51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58F0-C031-4FDD-9BCA-E2D7C210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89D0-1B69-4C25-9983-1397E05E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0330-4023-465F-B890-A0EBF59DE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E6D3-D8B4-49A5-A23C-91E01535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7632-BB29-4773-88EC-DDC18CD02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9931-04F8-443F-A150-A2C799F9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16829-AC7D-4659-9603-90EF3171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FADC-64BC-4F4D-967E-F71CEAD2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F059-780C-4B6B-92BF-1B3E3EE7A3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59484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-208080" y="3255840"/>
            <a:ext cx="93520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9" descr="http://golubivoroneg.ucoz.ru/_ph/13/2/985898791.jpg"/>
          <p:cNvPicPr/>
          <p:nvPr/>
        </p:nvPicPr>
        <p:blipFill>
          <a:blip r:embed="rId1"/>
          <a:stretch/>
        </p:blipFill>
        <p:spPr>
          <a:xfrm>
            <a:off x="1000080" y="1643040"/>
            <a:ext cx="7286760" cy="4786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285840" y="5716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ЕРЕЗ  35 – 40  ДНЕЙ  ПТЕНЦОВ  УЖЕ  НЕ  ОТЛИЧИШЬ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  РОДИТЕЛЕЙ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2500200" y="4287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ИТАНИЕ  ГОЛУ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0" descr="Картинка 10 из 1613"/>
          <p:cNvPicPr/>
          <p:nvPr/>
        </p:nvPicPr>
        <p:blipFill>
          <a:blip r:embed="rId1"/>
          <a:srcRect l="0" t="0" r="3420" b="8598"/>
          <a:stretch/>
        </p:blipFill>
        <p:spPr>
          <a:xfrm>
            <a:off x="4929120" y="1285920"/>
            <a:ext cx="3857760" cy="3857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5286240" y="52588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УКУР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http://im8-tub-ru.yandex.net/i?id=589904676-30-72"/>
          <p:cNvPicPr/>
          <p:nvPr/>
        </p:nvPicPr>
        <p:blipFill>
          <a:blip r:embed="rId2"/>
          <a:stretch/>
        </p:blipFill>
        <p:spPr>
          <a:xfrm>
            <a:off x="428760" y="2071800"/>
            <a:ext cx="4214520" cy="3498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714240" y="57160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ЧМЕНЬ  И  ПШ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weet-peas-clean-lg"/>
          <p:cNvPicPr/>
          <p:nvPr/>
        </p:nvPicPr>
        <p:blipFill>
          <a:blip r:embed="rId1"/>
          <a:stretch/>
        </p:blipFill>
        <p:spPr>
          <a:xfrm>
            <a:off x="4000680" y="500040"/>
            <a:ext cx="4806720" cy="4435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466x10000_out__"/>
          <p:cNvPicPr/>
          <p:nvPr/>
        </p:nvPicPr>
        <p:blipFill>
          <a:blip r:embed="rId2"/>
          <a:stretch/>
        </p:blipFill>
        <p:spPr>
          <a:xfrm>
            <a:off x="357120" y="2643120"/>
            <a:ext cx="4000680" cy="290988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214200" y="57862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ЕНА  ПОДСОЛНЕЧ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5354640" y="528624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Картинка 1 из 37572"/>
          <p:cNvPicPr/>
          <p:nvPr/>
        </p:nvPicPr>
        <p:blipFill>
          <a:blip r:embed="rId1"/>
          <a:stretch/>
        </p:blipFill>
        <p:spPr>
          <a:xfrm>
            <a:off x="5143680" y="1071720"/>
            <a:ext cx="3235320" cy="3714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Картинка 3 из 88775"/>
          <p:cNvPicPr/>
          <p:nvPr/>
        </p:nvPicPr>
        <p:blipFill>
          <a:blip r:embed="rId2"/>
          <a:stretch/>
        </p:blipFill>
        <p:spPr>
          <a:xfrm>
            <a:off x="500040" y="2500200"/>
            <a:ext cx="3643200" cy="3286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785880" y="50004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ЕРНАТЫЕ  ВРАГИ  ГОЛУ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5573160" y="514368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АПС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939960" y="61437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БЕРК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Изображение"/>
          <p:cNvPicPr/>
          <p:nvPr/>
        </p:nvPicPr>
        <p:blipFill>
          <a:blip r:embed="rId1"/>
          <a:stretch/>
        </p:blipFill>
        <p:spPr>
          <a:xfrm>
            <a:off x="5214960" y="1500120"/>
            <a:ext cx="3548160" cy="4041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6072120" y="56437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Б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Изображение"/>
          <p:cNvPicPr/>
          <p:nvPr/>
        </p:nvPicPr>
        <p:blipFill>
          <a:blip r:embed="rId2"/>
          <a:stretch/>
        </p:blipFill>
        <p:spPr>
          <a:xfrm>
            <a:off x="571680" y="2286000"/>
            <a:ext cx="3514680" cy="3357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1357200" y="57862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РШ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1214280" y="64296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ЕРНАТЫЕ  ВРАГИ  ГОЛУ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sisar"/>
          <p:cNvPicPr/>
          <p:nvPr/>
        </p:nvPicPr>
        <p:blipFill>
          <a:blip r:embed="rId1"/>
          <a:stretch/>
        </p:blipFill>
        <p:spPr>
          <a:xfrm>
            <a:off x="357120" y="1285920"/>
            <a:ext cx="454500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012320" y="785880"/>
            <a:ext cx="31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СИЗЫЙ  ГОЛУБ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072040" y="1643040"/>
            <a:ext cx="407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  МИРЕ  СУЩЕСТВУЕТ  МНОГО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РОД  ГОЛУБЕЙ,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О САМАЯ  РАСПОСТРАНЕННАЯ  - ЭТО  ПОРОДА  СИЗЫХ  ГОЛУБЕЙ.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ИХ  МОЖНО  ВСТРЕТИТЬ И НА УЛИЦЕ В  ГОРОД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Картинка 3 из 210"/>
          <p:cNvPicPr/>
          <p:nvPr/>
        </p:nvPicPr>
        <p:blipFill>
          <a:blip r:embed="rId1"/>
          <a:stretch/>
        </p:blipFill>
        <p:spPr>
          <a:xfrm>
            <a:off x="214200" y="1643040"/>
            <a:ext cx="4071960" cy="44290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1071720" y="71424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ОЛУБЯТ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4714920" y="1071720"/>
            <a:ext cx="4143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ежде, чем завести голубей, нужно построить хорошую голубят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на  должна  быть светлой и простор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пол нужно класть солому или в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олуби быстро привыкают к  своему  д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357120" y="3357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ЕРВОЕ  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P1180211"/>
          <p:cNvPicPr/>
          <p:nvPr/>
        </p:nvPicPr>
        <p:blipFill>
          <a:blip r:embed="rId1"/>
          <a:stretch/>
        </p:blipFill>
        <p:spPr>
          <a:xfrm>
            <a:off x="428760" y="357120"/>
            <a:ext cx="3000240" cy="278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Картинка 128 из 179"/>
          <p:cNvPicPr/>
          <p:nvPr/>
        </p:nvPicPr>
        <p:blipFill>
          <a:blip r:embed="rId2"/>
          <a:srcRect l="23049" t="21311" r="27665" b="31157"/>
          <a:stretch/>
        </p:blipFill>
        <p:spPr>
          <a:xfrm>
            <a:off x="5072040" y="3000240"/>
            <a:ext cx="3225960" cy="264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3643200" y="714240"/>
            <a:ext cx="50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Я  ДОЛГО  ЖДАЛА, КОГДА  ЖЕ 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ЯВИТСЯ  ПЕВОЕ ЯИЧ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 ВОТ ,НАКОНЕЦ , ОНО  ПОЯВ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2428920" y="5857920"/>
            <a:ext cx="65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ЕРЕЗ  2  ДНЯ  ПОЯВИЛОСЬ  И  ВТОР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http://golubivoroneg.ucoz.ru/_ph/13/2/383940270.jpg"/>
          <p:cNvPicPr/>
          <p:nvPr/>
        </p:nvPicPr>
        <p:blipFill>
          <a:blip r:embed="rId1"/>
          <a:stretch/>
        </p:blipFill>
        <p:spPr>
          <a:xfrm>
            <a:off x="357120" y="1285920"/>
            <a:ext cx="4214880" cy="4786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357120" y="714240"/>
            <a:ext cx="46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ОЛУБКА НА ГНЕЗ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643280" y="2143080"/>
            <a:ext cx="421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СИЖИВАЮТ  ЯЙЦА  В  ГНЕЗДЕ  ОБА  РОДИТЕЛЯ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О  ВСЕ  РАВНО  БОЛЬШЕ  В   ГНЕЗДЕ  СИДИТ  ГОЛУБ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Картинка 32 из 1368"/>
          <p:cNvPicPr/>
          <p:nvPr/>
        </p:nvPicPr>
        <p:blipFill>
          <a:blip r:embed="rId1"/>
          <a:stretch/>
        </p:blipFill>
        <p:spPr>
          <a:xfrm>
            <a:off x="1428840" y="1285920"/>
            <a:ext cx="5572080" cy="371484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928800" y="571680"/>
            <a:ext cx="79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 16  ДЕНЬ  ПОЯВИЛСЯ  ПЕРВЫЙ  ПТЕ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075320" y="5715000"/>
            <a:ext cx="73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  ВТОРОЕ  ЯИЧКО  ТОЛЬКО  ПРОКЛЮНУ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Картинка 12 из 1368"/>
          <p:cNvPicPr/>
          <p:nvPr/>
        </p:nvPicPr>
        <p:blipFill>
          <a:blip r:embed="rId1"/>
          <a:stretch/>
        </p:blipFill>
        <p:spPr>
          <a:xfrm>
            <a:off x="1143000" y="428760"/>
            <a:ext cx="6643800" cy="5000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285840" y="57862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ТОРОЙ  ПТЕНЕЦ  НИКАК  НЕ  ХОТЕЛ  ВЫБИР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а 57 из 1368"/>
          <p:cNvPicPr/>
          <p:nvPr/>
        </p:nvPicPr>
        <p:blipFill>
          <a:blip r:embed="rId1"/>
          <a:stretch/>
        </p:blipFill>
        <p:spPr>
          <a:xfrm>
            <a:off x="428760" y="714240"/>
            <a:ext cx="4643280" cy="442944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286240" y="1214280"/>
            <a:ext cx="3571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ОДИТЕЛИ  КОРМЯТ  ПТЕН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ОЛОЧКОМ   ИЗ  З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 - ОЧЕРЕДИ  И  ОН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БЫСТРО  РАСТ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727560" y="592920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ЕРЕЗ  5 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Картинка 8 из 1368"/>
          <p:cNvPicPr/>
          <p:nvPr/>
        </p:nvPicPr>
        <p:blipFill>
          <a:blip r:embed="rId1"/>
          <a:srcRect l="0" t="0" r="11592" b="13332"/>
          <a:stretch/>
        </p:blipFill>
        <p:spPr>
          <a:xfrm>
            <a:off x="928800" y="1428840"/>
            <a:ext cx="7143480" cy="4643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214200" y="6429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ЕРЕЗ  ДВЕ  НЕДЕЛИ  ОНИ  УЖЕ  СОВСЕМ  ПОДРО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4:34:03Z</dcterms:created>
  <dc:creator>Алексей</dc:creator>
  <dc:description/>
  <dc:language>en-US</dc:language>
  <cp:lastModifiedBy>Lenovo</cp:lastModifiedBy>
  <dcterms:modified xsi:type="dcterms:W3CDTF">2015-04-06T15:29:34Z</dcterms:modified>
  <cp:revision>49</cp:revision>
  <dc:subject/>
  <dc:title>Слайд 1</dc:title>
</cp:coreProperties>
</file>