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A44-8084-4762-8946-635D6606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E60-3DC8-4991-A6D0-601811B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A88-93BC-48E0-B7EB-6571EEA1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AC8-640E-4DFD-9B4F-8BD67EB8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800-C8A9-4914-B691-1F7A4682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68F5-C900-4E20-B976-2C4005C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3BC-C0B6-4EE7-B12D-8AC87902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BFA-50C2-46D1-96A7-4A14743D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613E-BC74-44AC-BA93-6591B98E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0D2A-5800-43EB-8B12-AC902D6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288-C8E7-4C63-B828-0759E667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3D6-E743-4D6F-BC00-150B15C3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0779-2F4F-4D63-87F8-646D67E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4AA1-CFF3-4B75-99FC-D1997CF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0B7B-9B54-4998-95EC-261353F0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752F-480B-4052-9ABB-2E82BD40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1633-B4B3-4371-B293-3A80607A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031-BDFD-459A-B72B-AD1A74B7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AFD-2206-4975-8161-F7B6A43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AC3-97DA-4913-8C62-853D2D00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7E0-FAC9-424D-AA20-0C6046AD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1CA-C009-432D-83B2-25371CA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B22-C81E-40E3-AA4A-6D62B1D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794-7648-4E78-83A2-324147C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F26B-3E3C-4DE0-BC09-4A943FCDF7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AB94-A739-4EDA-9F87-B0466055AEF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96720" y="762120"/>
            <a:ext cx="83026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6" descr=""/>
          <p:cNvPicPr/>
          <p:nvPr/>
        </p:nvPicPr>
        <p:blipFill>
          <a:blip r:embed="rId1"/>
          <a:stretch/>
        </p:blipFill>
        <p:spPr>
          <a:xfrm>
            <a:off x="1335240" y="2206800"/>
            <a:ext cx="683892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684360" y="89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учными исследованиями доказано, что нарушение осанки влияет на работоспособность детей, их рост, развитие, состояние здоровья. При ее ухудшении нарушается функция дыхания и кровообращения, затрудняется деятельность печени и кишечника, снижаются окислительные процессы, что ведет к понижению физической и умственной работоспособности. Дефекты осанки  вызывают  изменения в позвоночнике, ведущие к сколиозам, кифозам и остеохондро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аким образом, проблема формирования правильной осанки является акту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755640" y="450720"/>
            <a:ext cx="7920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Осанк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привычное положение тела при стоянии, ходьбе, сидении; формируется в процессе роста, развит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Для дошкольников характерные черты правильной осанки имеют свои особенности: голова немного наклонена вперед, плечевой пояс незначительно смещен кпереди, не выступая за уровень грудной клетки (в профиль); линия грудной клетки плавно переходит в линию живота, который выступает на 1-2 см; изгибы позвоночника выражены умеренно; угол наклона таза невел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5052960" y="3790800"/>
            <a:ext cx="409104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50920" y="1571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nde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8352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Вялая осанка (неустойчивая). Голова опущена, грудь уплотнена, плечи сведены, лопатки отстают от спины. Ноги слегка согнуты в колен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Сутуловатость. Голова выдвинута вперед, плечи сильно сведены, живот выпяч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Кифоз. Увеличение глубины шейного и поясничного изгибов позвоночни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Лордоз. Чрезмерный прогиб поясничного отдела позвоночн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Сколиоз. Боковое искривление позвоночника, асимметрия плечевого поя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-42840" y="633240"/>
            <a:ext cx="933912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ля предупреждения нарушений осанки соблюдать следующие профилактические меры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Постель не должна быть слишком мягкой, подушка- больш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Во время сна  нельзя допускать чтобы дети спали всегда на одном и том же боку или чтобы малыш спал, свернувшись калачи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занятиях надо напоминать детям, чтобы они время от времени меняли поз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Если ребенок стоит, необходимо следить, чтобы равномерно распределялась нагрузка от тяжести тела на обе н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Мебель должна соответствовать росту ребен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nstantia"/>
              </a:rPr>
              <a:t>Физические упражнения-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ведущее средство устранения нарушений осан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Систематические физические упражнения содействуют развитию двигательного аппарата детей, повышают возбудимость мышц, темп, силу и координацию движений, мышечный тонус, общую выносливость, способствуют формированию правильной осан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Текст 3" descr=""/>
          <p:cNvPicPr/>
          <p:nvPr/>
        </p:nvPicPr>
        <p:blipFill>
          <a:blip r:embed="rId1"/>
          <a:stretch/>
        </p:blipFill>
        <p:spPr>
          <a:xfrm>
            <a:off x="189000" y="689040"/>
            <a:ext cx="8955000" cy="596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65703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cc"/>
              </a:solidFill>
              <a:latin typeface="Constantia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441360" y="333360"/>
            <a:ext cx="4321080" cy="2903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673440" cy="3008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3"/>
          <a:stretch/>
        </p:blipFill>
        <p:spPr>
          <a:xfrm>
            <a:off x="727200" y="3284640"/>
            <a:ext cx="3816360" cy="307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7:26:44Z</dcterms:created>
  <dc:creator>Наталья Евгеньевна</dc:creator>
  <dc:description/>
  <dc:language>en-US</dc:language>
  <cp:lastModifiedBy>RePack by Diakov</cp:lastModifiedBy>
  <dcterms:modified xsi:type="dcterms:W3CDTF">2015-07-10T13:20:47Z</dcterms:modified>
  <cp:revision>15</cp:revision>
  <dc:subject/>
  <dc:title>            </dc:title>
</cp:coreProperties>
</file>