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B90-34BC-4ADA-9DB2-28B4B25E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505-906C-48E3-B9D9-380F18FB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668-4849-4FD1-AC28-B225FD9E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521-508C-4A54-9F4F-0709BEB9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69FB-EB19-4DAB-82DA-C645272B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1834-0E17-4CBD-84DC-36FAB934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1F3D-7C79-410E-820C-79B029D2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2DDE-9D37-4F3A-802F-1767C427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6C5B-F3D7-4CE8-BE31-E4A7E61C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4D62-FF8C-4375-A37F-E87C2873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BF4C-4579-4E61-B0CE-A878F682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E76-C328-465A-B725-6E829E35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A911-3585-471A-B662-45649854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A9FC-A7F9-49EF-A050-02B83E2A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2D3B-5B45-4BFF-87FF-99F927DE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246B-5994-4325-8E92-5E0F3BD3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C22A-4D20-4397-A44C-6F3E9761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066-7708-45BB-83DC-1E30FF44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775-0F92-4353-ADF1-ACB956F6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02F-0D28-4D34-BD36-9A78ED62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671-A490-479E-ACFC-8193B1AF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6D7-C16E-4627-B9A1-DA95A471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69C-6D82-4332-99AB-2F1B72D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7CD-704E-4BAD-84BE-57582D4C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837E-06F1-4E61-8551-C6AC57DD417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985C-6272-40C7-B622-150ADF87C3F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96720" y="762120"/>
            <a:ext cx="83026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6" descr=""/>
          <p:cNvPicPr/>
          <p:nvPr/>
        </p:nvPicPr>
        <p:blipFill>
          <a:blip r:embed="rId1"/>
          <a:stretch/>
        </p:blipFill>
        <p:spPr>
          <a:xfrm>
            <a:off x="1335240" y="2206800"/>
            <a:ext cx="6838920" cy="227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684360" y="89064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учными исследованиями доказано, что нарушение осанки влияет на работоспособность детей, их рост, развитие, состояние здоровья. При ее ухудшении нарушается функция дыхания и кровообращения, затрудняется деятельность печени и кишечника, снижаются окислительные процессы, что ведет к понижению физической и умственной работоспособности. Дефекты осанки  вызывают  изменения в позвоночнике, ведущие к сколиозам, кифозам и остеохондро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Таким образом, проблема формирования правильной осанки является актуаль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755640" y="450720"/>
            <a:ext cx="792000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Осанк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это привычное положение тела при стоянии, ходьбе, сидении; формируется в процессе роста, развит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Для дошкольников характерные черты правильной осанки имеют свои особенности: голова немного наклонена вперед, плечевой пояс незначительно смещен кпереди, не выступая за уровень грудной клетки (в профиль); линия грудной клетки плавно переходит в линию живота, который выступает на 1-2 см; изгибы позвоночника выражены умеренно; угол наклона таза невел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5052960" y="3790800"/>
            <a:ext cx="409104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50920" y="1571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nde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Прямоугольник 2" descr=""/>
          <p:cNvPicPr/>
          <p:nvPr/>
        </p:nvPicPr>
        <p:blipFill>
          <a:blip r:embed="rId1"/>
          <a:stretch/>
        </p:blipFill>
        <p:spPr>
          <a:xfrm>
            <a:off x="652320" y="835200"/>
            <a:ext cx="8242560" cy="5754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Вялая осанка (неустойчивая). Голова опущена, грудь уплотнена, плечи сведены, лопатки отстают от спины. Ноги слегка согнуты в колен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Сутуловатость. Голова выдвинута вперед, плечи сильно сведены, живот выпяче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Кифоз. Увеличение глубины шейного и поясничного изгибов позвоночни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Лордоз. Чрезмерный прогиб поясничного отдела позвоночни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Сколиоз. Боковое искривление позвоночника, асимметрия плечевого поя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-42840" y="633240"/>
            <a:ext cx="9339120" cy="14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ля предупреждения нарушений осанки соблюдать следующие профилактические меры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Постель не должна быть слишком мягкой, подушка- большо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Во время сна  нельзя допускать чтобы дети спали всегда на одном и том же боку или чтобы малыш спал, свернувшись калачик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занятиях надо напоминать детям, чтобы они время от времени меняли поз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Если ребенок стоит, необходимо следить, чтобы равномерно распределялась нагрузка от тяжести тела на обе ног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Мебель должна соответствовать росту ребен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nstantia"/>
              </a:rPr>
              <a:t>Физические упражнения- 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ведущее средство устранения нарушений осанк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Систематические физические упражнения содействуют развитию двигательного аппарата детей, повышают возбудимость мышц, темп, силу и координацию движений, мышечный тонус, общую выносливость, способствуют формированию правильной осан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Текст 3" descr=""/>
          <p:cNvPicPr/>
          <p:nvPr/>
        </p:nvPicPr>
        <p:blipFill>
          <a:blip r:embed="rId1"/>
          <a:stretch/>
        </p:blipFill>
        <p:spPr>
          <a:xfrm>
            <a:off x="189000" y="689040"/>
            <a:ext cx="8955000" cy="5960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65703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33cc"/>
              </a:solidFill>
              <a:latin typeface="Constantia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441360" y="333360"/>
            <a:ext cx="4321080" cy="2903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673440" cy="3008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"/>
          <p:cNvPicPr/>
          <p:nvPr/>
        </p:nvPicPr>
        <p:blipFill>
          <a:blip r:embed="rId3"/>
          <a:stretch/>
        </p:blipFill>
        <p:spPr>
          <a:xfrm>
            <a:off x="727200" y="3284640"/>
            <a:ext cx="3816360" cy="307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7:26:44Z</dcterms:created>
  <dc:creator>Наталья Евгеньевна</dc:creator>
  <dc:description/>
  <dc:language>en-US</dc:language>
  <cp:lastModifiedBy>RePack by Diakov</cp:lastModifiedBy>
  <dcterms:modified xsi:type="dcterms:W3CDTF">2015-07-10T13:20:47Z</dcterms:modified>
  <cp:revision>15</cp:revision>
  <dc:subject/>
  <dc:title>            </dc:title>
</cp:coreProperties>
</file>