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AF50-8FDA-4E73-BAD0-0C4DCEEC6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C311-0C51-4B40-98C2-25CC7F0BB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FA23-F3BE-404A-86A9-273888F48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ED58-15DB-4BCF-97D7-705E69503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68B3-572C-47D6-B3FC-542DA39347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89AD-B59B-43C2-B5F4-4B1277DB22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DE43-63D7-4B00-BC87-43C438F814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2417-F5FB-4719-AA79-CD78BD6F67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956B-2B80-4205-ABA2-CE04A5E47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6963-5434-47AF-B5B4-41FDAFC94B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2889-1824-4CEE-9222-274BFC0DF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DDF4-E487-4D23-A360-642F6AFC3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33CC-FF3A-4A4B-ADAC-186AD82DAA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0BA6-B444-47B4-8265-3BDA28B749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193B9-0C08-4945-9FA4-6936CE0CCD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2F2BF-0EE2-46CE-9194-7656D3DA37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B3E6-29CF-4806-8856-1B6DE88E1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F7D4-EF6A-4BA3-92C3-44BFB36BB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37C9-68D1-4512-B131-1165B34CC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3C86-C78E-400C-8F6A-5DFC383B6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2568-CE48-4C11-8A60-CA22CD549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F616-1A53-44AC-833F-EA74917F0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722F-82FB-4CFC-A922-8D0C23DC2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75C8-4CE8-4522-8731-E0EE63585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5360" cy="4875120"/>
            <a:chOff x="0" y="0"/>
            <a:chExt cx="8685360" cy="4875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8040" cy="48751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4480" cy="181080"/>
              <a:chOff x="380880" y="1417680"/>
              <a:chExt cx="8304480" cy="18108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7360" cy="18108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4480" cy="0"/>
              </a:xfrm>
              <a:prstGeom prst="line">
                <a:avLst/>
              </a:prstGeom>
              <a:ln cap="sq" w="190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312193-642C-424A-8F20-6C24AD17D1A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797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1320" cy="5942160"/>
            <a:chOff x="0" y="0"/>
            <a:chExt cx="8761320" cy="59421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1040" cy="4875120"/>
            </a:xfrm>
            <a:prstGeom prst="rect">
              <a:avLst/>
            </a:prstGeom>
            <a:solidFill>
              <a:srgbClr val="476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1320" cy="2436840"/>
              <a:chOff x="0" y="3505320"/>
              <a:chExt cx="8761320" cy="243684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0600" cy="2436840"/>
              </a:xfrm>
              <a:prstGeom prst="rect">
                <a:avLst/>
              </a:prstGeom>
              <a:solidFill>
                <a:srgbClr val="797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7120" cy="2136600"/>
              </a:xfrm>
              <a:prstGeom prst="rect">
                <a:avLst/>
              </a:prstGeom>
              <a:solidFill>
                <a:srgbClr val="2120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8920" cy="0"/>
              </a:xfrm>
              <a:prstGeom prst="line">
                <a:avLst/>
              </a:prstGeom>
              <a:ln cap="sq" w="5076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5520" cy="303120"/>
              <a:chOff x="635040" y="533520"/>
              <a:chExt cx="8075520" cy="3031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6840" cy="303120"/>
              </a:xfrm>
              <a:prstGeom prst="rect">
                <a:avLst/>
              </a:prstGeom>
              <a:solidFill>
                <a:srgbClr val="8cb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5520" cy="0"/>
              </a:xfrm>
              <a:prstGeom prst="line">
                <a:avLst/>
              </a:prstGeom>
              <a:ln cap="sq" w="44280">
                <a:solidFill>
                  <a:srgbClr val="7978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CDEF40-9765-435C-801C-A02DEEFB71BE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video" Target="file:///C:/Documents and Settings/&#1048;&#1088;&#1080;&#1085;&#1072;/&#1056;&#1072;&#1073;&#1086;&#1095;&#1080;&#1081; &#1089;&#1090;&#1086;&#1083;/&#1075;&#1077;&#1086;&#1075;&#1088;&#1072;&#1092;&#1080;&#1103;/&#1040;&#1083;&#1082;&#1086;&#1075;&#1086;&#1083;&#1100;. &#1044;&#1077;&#1084;&#1086;&#1075;&#1088;&#1072;&#1092;&#1080;&#1103; &#1056;&#1086;&#1089;&#1089;&#1080;&#1080; - 1.wmv" TargetMode="External"/><Relationship Id="rId2" Type="http://schemas.microsoft.com/office/2007/relationships/media" Target="file:///C:/Documents and Settings/&#1048;&#1088;&#1080;&#1085;&#1072;/&#1056;&#1072;&#1073;&#1086;&#1095;&#1080;&#1081; &#1089;&#1090;&#1086;&#1083;/&#1075;&#1077;&#1086;&#1075;&#1088;&#1072;&#1092;&#1080;&#1103;/&#1040;&#1083;&#1082;&#1086;&#1075;&#1086;&#1083;&#1100;. &#1044;&#1077;&#1084;&#1086;&#1075;&#1088;&#1072;&#1092;&#1080;&#1103; &#1056;&#1086;&#1089;&#1089;&#1080;&#1080; - 1.wmv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78;&#1076;&#1072;&#1077;&#1084;&#1086;&#1089;&#1090;&#1100;" TargetMode="External"/><Relationship Id="rId2" Type="http://schemas.openxmlformats.org/officeDocument/2006/relationships/hyperlink" Target="http://ru.wikipedia.org/w/index.php?title=&#1055;&#1088;&#1086;&#1089;&#1090;&#1086;&#1077;_&#1074;&#1086;&#1089;&#1087;&#1088;&#1086;&#1080;&#1079;&#1074;&#1086;&#1076;&#1089;&#1090;&#1074;&#1086;_&#1085;&#1072;&#1089;&#1077;&#1083;&#1077;&#1085;&#1080;&#1103;&amp;action=edit&amp;redlink=1" TargetMode="External"/><Relationship Id="rId3" Type="http://schemas.openxmlformats.org/officeDocument/2006/relationships/hyperlink" Target="http://ru.wikipedia.org/wiki/&#1057;&#1084;&#1077;&#1088;&#1090;&#1085;&#1086;&#1089;&#1090;&#1100;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5740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мографические проблемы современной Росси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20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у выполнила учащаяся 10 «А» класса Усольцева Екате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Причина третья. Продолжительность жизн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557360"/>
            <a:ext cx="77756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продолжительность жизни в нынешней России составляет 57,7 - лет для мужчин и 71,2 года для женщ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авним: для США, Канады, Франции, Германии и других развитых стран мира эти показатели равны соответственно: 73-74 года и 79-80 лет. А для Японии-чемпиона по долгожительству - 75,90 и 81,6 лет. Итак, наши мужчины сегодня живут в среднем на 16 лет меньше, а женщины на 8 лет меньше, чем на Западе. Особенно тревожен разрыв между сроками жизни противоположных полов, более 13 лет. Такого нет, и не было нигде. "Нью-Йорк Таймс" пишет, что Россия стала первой промышленно развитой страной, пережившей столь резкое сокращение насе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По данному показателю Россия опустилась с 35-го места в мире, которое она занимала в 1975 году, до 142-го места в настоящее время. Это - уровень Ирака и Гондураса, ниже только страны Африки и Оке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144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реди других острых демографических проблем следует отметить следующ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тное снижение доли детей и молодежи в структуре насе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т доли граждан пенсионного возрас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двукратный рост числа инвалидов за последние 13 лет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лоупотребление алкоголем, сигаретами, различными наркотическими средств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астание доли мигрантов, в том числе нелегальных, отношения которых с местным населением нередко складываются как конфликтные, а временами и откровенно враждеб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Алкоголь-смерть нашей стран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79280" y="1484280"/>
            <a:ext cx="8785440" cy="51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Результаты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вместе это ведет к общему сокращению численности населения в России. За последние 15 лет мы потеряли около 5 миллионов человек, или 3,2% населения. В настоящее время численность жителей страны ежегодно сокращается почти на 700 тысяч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аже официальные прогнозы в этом вопросе отнюдь не утешительны - уже к 2050 году население России может сократиться до 77 миллионов человек, что в 2 раза меньше нынешнего уров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следствия демографического кризиса для нашей страны выглядят весьма тревожн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ое. России принадлежит 13% мировой территории, а вот наша доля в населении Земли может сократиться к 2050 году до 1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едь еще в начале ХХ века жители Российской империи составляли 8% мирового насе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ое. Три четверти территории нашей страны уже сегодня представляют собой фактически незаселенные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тране существует 13 тысяч населенных пунктов без жителей и почти столько же - где проживает менее 1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ое положение имеет особую опасность для приграничных регионов на востоке страны, где плотность населения в сопредельных регионах соседних государств в 100 и более раз превышает плотность российского населения. А значит, мы рискуем попросту утратить данные террито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77920"/>
            <a:ext cx="7772400" cy="62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imes New Roman"/>
              </a:rPr>
              <a:t>Пути выхода из «демографической ямы»</a:t>
            </a: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Перво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кольку ухудшение состояния здоровья - одна из главных причин сверхсмертности россиян всех возрастов, нужна качественная модернизация всей системы здравоохранения в стра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начинать здесь необходимо с остановки проводимой реформы медицины и смены ее направления на 180 градусов. Идущая с 1997 года реформа положительного результата, по сути, не дала. Напротив, за это время многие показатели только ухудшились. Например, общая заболеваемость возросла на 16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862440" cy="46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Второ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497400" cy="5257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7692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замедлительное решение жилищной проблемы в масштабах всей страны. Нельзя не замечать, что отсутствие нормального жилья напрямую тормозит рождаемость, особенно среди молоде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тране должна быть создана эффективная система ипотеки, доступной для всех желающих приобрести свое жилье. Ее условия должны быть понятными людям и выгодными для н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Третье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600200"/>
            <a:ext cx="38098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изменение системы распределения доходов всех граждан России. Главная задача - это значительный рост доходов каждой российской семьи. Фактически стране нужна новая социальная политика. Ведь бедность и нищета остаются злейшими врагами основной массы российских семей. А если матери не на что кормить одного ребенка, то будет ли она задумываться о том, чтобы завести второго, не говоря уже о третье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стране имеются все необходимые ресурсы и возможности для решения этой проблем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едь очевидно, что те же мизерные пособия по рождению ребенка и уходу за ним практически никак не компенсируют реальных затрат родителей. Пример маленькой Исландии, где правительство платит абсолютно фантастические для нас 25 тысяч евро за первого ребенка, 50 - за второго и 75 - за третьего. А в результате эта страна прочно удерживает лидерство по уровню рождаемости в Европ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05200" y="1628640"/>
            <a:ext cx="42022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Оглавл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ведение. Цели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нятие демографических проблем в Ро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чины демографических проблем в России и пути их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1720" indent="-531720">
              <a:spcBef>
                <a:spcPts val="7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лю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7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7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2080">
              <a:spcBef>
                <a:spcPts val="700"/>
              </a:spcBef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Четверто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941640"/>
            <a:ext cx="7772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жно возродить в стране традиции здорового образа жизни. Ведь сегодня повсеместно наблюдается абсолютно обратная ситуация. Массовыми явлениями стали пьянство и алкоголизм, особенно на селе. В России курят две трети мужчин и более трети женщин. Угрожающе нарастает количество курящих детей, в старших классах школы систематически курят более 20% подростков. По различным данным, более 4 миллионов жителей России пробовали наркотики, а 2,5 миллиона употребляют их постоянно, из них 76% - молодежь до 30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630600" cy="242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00720" y="1268280"/>
            <a:ext cx="416556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Пято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600200"/>
            <a:ext cx="380988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обходимо подавить преступность, восстановить нравственные устои общества и в первую очередь - ценность человеческой жизни. В стране продолжается настоящий беспредел на дорогах. Ежегодно в дорожно-транспортных происшествиях гибнет число граждан, равное населению небольшого гор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таются крайне высокими гибель и травматизм людей на производстве, а также в быт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айне негативное влияние на морально-психологическое состояние общества оказывает неспособность государства подавить терроризм и организованную преступность, насаждение через средства массовой коммуникации культа силы и насил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2435400"/>
            <a:ext cx="4392720" cy="28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тественно, представленный перечень мер и действий по преодолению демографического кризиса не является абсолютно исчерпывающи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 если реализовать представленные пять основных позиций, то этого будет достаточно для коренного перелома в развитии демографической ситуации в нашей стране: от глубочайшего кризиса к нормализации положения и постепенному возрождению нации. И если начать действовать незамедлительно, то к 2050 году население России, по расчетам ученых, может вырасти до 160 миллионов челов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умается, что этот показатель должен быть заложен как минимальная цель в наш главный национальный проект России - неуклонный рост числа ее здоровых, благополучных и счастливых граждан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77920"/>
            <a:ext cx="7772400" cy="61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Заключ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260280"/>
            <a:ext cx="77724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ак, мы дали понятие демографических проблем в России, рассмотрели причины демографических проблем в России, а также выявили пути решения демографических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 всего вышеизложенного можно сделать следующие вы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в своей истории впервые столкнулась с абсолютным уменьшением численности населения, причем этому предшествовало системное изменение рождаемости и смертности на рубеже 80–90-х годо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. Смертность скачкообразно превысила рождае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стала ежегодно терять по 1 млн. человек. Эти цифры говорят, при учете существенного сокращения продолжительности жизни, о вымирании россиян. В нашей стране прирост населения по статистике выходит с минусом, т.е. убыль населения. Выход видится в повышении уровня жизни россиян и обращении государства к демографической пробле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ительная сложность решения проблем народонаселения в современном мире состоит в том, что из-за инерции демографических процессов, чем дольше откладывается решение этих проблем, тем больший масштаб они приобр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Введе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484280"/>
            <a:ext cx="417492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«Демографические проблемы России»- решение подобных проблем является одной из главных задач России на сегодняшний день. Демографическое неблагополучие нашей страны очень актуально сегодня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300" spc="-1" strike="noStrike" u="sng">
                <a:solidFill>
                  <a:srgbClr val="ffffff"/>
                </a:solidFill>
                <a:uFillTx/>
                <a:latin typeface="Arial"/>
              </a:rPr>
              <a:t>Цель работы</a:t>
            </a: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 - рассмотреть основные демографические проблемы и возможные пути выхода из них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Сегодня на рассмотрение Народного правительства вынесен важнейший и один из самых болезненных вопросов для нашего народа - о развитии демографической ситуации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Абсолютно бесспорно, что состояние демографии в нашей стране находится в глубочайшем системном кризисе. Все последние тенденции говорят о том, что он нарастает и усугубляется. Положение дел настолько серьезно, что в последнее время все чаще слышны заявления о том, что Россия уже прошла так называемый рубеж невозврата, и восстановить численность населения уже не удастся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26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"/>
              </a:rPr>
              <a:t>И хотя мы, россияне, категорически не согласны с такой точкой зрения, нельзя не замечать, что состояние демографии несет прямую угрозу существованию нашей страны. Если нынешние тенденции не будут переломлены, жить в стране и производить ее национальное богатство будет попросту некому. И это - вопрос не отдаленного будущего, а ближайших десятилетий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2276640"/>
            <a:ext cx="4356000" cy="30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277920"/>
            <a:ext cx="7772400" cy="61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imes New Roman"/>
              </a:rPr>
              <a:t>Демографическая проблема Росси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Понятие демографических проблем в России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 проблема – глобальная проблема человечества, связанная с продолжающимся значительным приростом населения Земли, опережающим рост экономического благосостояния, в результате чего обостряются продовольственная и другие проблемы, угрожающие жизни населения в этих стран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демографической проблемой может пониматься как убыль населения, так и перенасел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ервом случае это ситуация, которая складывается в стране или регионе, когда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рождаем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адает ниже уровня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простого воспроизводства насе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а также ниже уровня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мерт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Такая ситуация в данный момент складывается в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лучае перенаселения, под демографическим кризисом понимают несоответствие численности населения территории её способности обеспечить жителей жизненно необходимыми ресурс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imes New Roman"/>
              </a:rPr>
              <a:t>Нынешний кризис уже четвертый в стране с начала ХХ века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начал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ка России с демографической обстановкой, можно сказать, не повез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фаза демографического перехода завершилась в ней к начал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., но настоящего демографического взрыва за этим так и не последовало. Более того, на протяжении полувека Россия испытала три демографических кризиса: во время Первой мировой и Гражданской войн, в годы коллективизации деревни и жестокого голода и, наконец, в период Великой Отечественной войны. В 60—80-е годы демографическая обстановка в стране в целом стабилизировалась. Однако в 90-х годах разразился новый, причем особенно сильный, демографический кризи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 чем же выражаются нынешние демографические проблемы в Ро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600200"/>
            <a:ext cx="79056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режде всего низкая рождаемость, которая давно уже не обеспечивает даже простого воспроизводства населения. Более того, за последние 15 лет она снизилась почти на 30%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47236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0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162000"/>
            <a:ext cx="77724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151160" cy="2743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103640" cy="2722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3941640"/>
            <a:ext cx="77724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-вторых - это крайне высокая смертность россиян. Ее уровень в 1,6 раза превышает показатели развитых государств. Мужская смертность в 4 раза превышает женскую. Крайне высокой в нашей стране остается и младенческая смертность - она более чем в 1,5 раза выше, чем в Европ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8cb0a2"/>
              </a:buClr>
              <a:buSzPct val="9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3 раза у нас больше, чем в среднем по миру, самоубийц (40 на 100 тыс. чел. насе­ления), и по этому показателю мы занимаем первое место в м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0:57:41Z</dcterms:created>
  <dc:creator>Ирина</dc:creator>
  <dc:description/>
  <dc:language>en-US</dc:language>
  <cp:lastModifiedBy>Insulter</cp:lastModifiedBy>
  <dcterms:modified xsi:type="dcterms:W3CDTF">2011-03-23T11:46:40Z</dcterms:modified>
  <cp:revision>5</cp:revision>
  <dc:subject/>
  <dc:title>Слайд 1</dc:title>
</cp:coreProperties>
</file>