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79C5-7B4B-4458-A150-9FEF45BB5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79AE-8403-497C-ADF4-B3D1D6283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74266-8EAE-4389-AEB8-430E1EE03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49F2-54BF-4630-83CA-F6CB07A2E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78973-06B1-40CF-A221-8696B3743A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B3805-FEA9-45BB-A8EC-EDE7A71990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56F1D-6D3C-4A05-B858-C6FA2AE7BB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ED448-31FB-4332-97DA-46B525DA26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8636E-065C-470D-A648-60614EAE20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F80C0-0BF4-4C44-865D-C67165BEF9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A62BD-DB9B-41CB-A86F-9A6CC2ADCE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90711-85DA-4089-9564-ACB2C784D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E9F5E-609A-4F8E-8782-DBB9F913C6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B9840-CABF-4FF1-96E2-D5A94C8884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49D1E-BA29-4C85-9888-2A399E6A01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52F06-276A-45F5-A458-74930F2DF8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5697F-8BE4-471E-AFF9-C143487EC3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96186-1E87-47EB-A094-0FC365342F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AAB3-035F-4CB0-B2A3-0B8A12F40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1111C-192C-4DDA-9EDF-366BA594A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EF0BA-5344-4928-A90D-FBFFDBAB8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0924-018F-426A-A1A7-F6663FBCE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D28D7-781E-429C-85A5-1F299C258D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2DAD3-A95C-487E-B84C-34DC45A99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5360" cy="4875120"/>
            <a:chOff x="0" y="0"/>
            <a:chExt cx="8685360" cy="4875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8040" cy="4875120"/>
            </a:xfrm>
            <a:prstGeom prst="rect">
              <a:avLst/>
            </a:prstGeom>
            <a:solidFill>
              <a:srgbClr val="47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4480" cy="181080"/>
              <a:chOff x="380880" y="1417680"/>
              <a:chExt cx="8304480" cy="18108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7360" cy="181080"/>
              </a:xfrm>
              <a:prstGeom prst="rect">
                <a:avLst/>
              </a:prstGeom>
              <a:solidFill>
                <a:srgbClr val="8cb0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4480" cy="0"/>
              </a:xfrm>
              <a:prstGeom prst="line">
                <a:avLst/>
              </a:prstGeom>
              <a:ln cap="sq" w="1908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169091-E11A-4C8D-963A-80977252DB69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cap="sq" w="44280">
            <a:solidFill>
              <a:srgbClr val="797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1320" cy="5942160"/>
            <a:chOff x="0" y="0"/>
            <a:chExt cx="8761320" cy="59421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1040" cy="4875120"/>
            </a:xfrm>
            <a:prstGeom prst="rect">
              <a:avLst/>
            </a:prstGeom>
            <a:solidFill>
              <a:srgbClr val="47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1320" cy="2436840"/>
              <a:chOff x="0" y="3505320"/>
              <a:chExt cx="8761320" cy="243684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0600" cy="2436840"/>
              </a:xfrm>
              <a:prstGeom prst="rect">
                <a:avLst/>
              </a:prstGeom>
              <a:solidFill>
                <a:srgbClr val="797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7120" cy="2136600"/>
              </a:xfrm>
              <a:prstGeom prst="rect">
                <a:avLst/>
              </a:prstGeom>
              <a:solidFill>
                <a:srgbClr val="212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88920" cy="0"/>
              </a:xfrm>
              <a:prstGeom prst="line">
                <a:avLst/>
              </a:prstGeom>
              <a:ln cap="sq" w="5076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5520" cy="303120"/>
              <a:chOff x="635040" y="533520"/>
              <a:chExt cx="8075520" cy="3031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6840" cy="303120"/>
              </a:xfrm>
              <a:prstGeom prst="rect">
                <a:avLst/>
              </a:prstGeom>
              <a:solidFill>
                <a:srgbClr val="8cb0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5520" cy="0"/>
              </a:xfrm>
              <a:prstGeom prst="line">
                <a:avLst/>
              </a:prstGeom>
              <a:ln cap="sq" w="4428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296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2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5C60425-F96D-46C4-B49E-DDB78E5F7DAF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video" Target="file:///C:/Documents and Settings/&#1048;&#1088;&#1080;&#1085;&#1072;/&#1056;&#1072;&#1073;&#1086;&#1095;&#1080;&#1081; &#1089;&#1090;&#1086;&#1083;/&#1075;&#1077;&#1086;&#1075;&#1088;&#1072;&#1092;&#1080;&#1103;/&#1040;&#1083;&#1082;&#1086;&#1075;&#1086;&#1083;&#1100;. &#1044;&#1077;&#1084;&#1086;&#1075;&#1088;&#1072;&#1092;&#1080;&#1103; &#1056;&#1086;&#1089;&#1089;&#1080;&#1080; - 1.wmv" TargetMode="External"/><Relationship Id="rId2" Type="http://schemas.microsoft.com/office/2007/relationships/media" Target="file:///C:/Documents and Settings/&#1048;&#1088;&#1080;&#1085;&#1072;/&#1056;&#1072;&#1073;&#1086;&#1095;&#1080;&#1081; &#1089;&#1090;&#1086;&#1083;/&#1075;&#1077;&#1086;&#1075;&#1088;&#1072;&#1092;&#1080;&#1103;/&#1040;&#1083;&#1082;&#1086;&#1075;&#1086;&#1083;&#1100;. &#1044;&#1077;&#1084;&#1086;&#1075;&#1088;&#1072;&#1092;&#1080;&#1103; &#1056;&#1086;&#1089;&#1089;&#1080;&#1080; - 1.wmv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86;&#1078;&#1076;&#1072;&#1077;&#1084;&#1086;&#1089;&#1090;&#1100;" TargetMode="External"/><Relationship Id="rId2" Type="http://schemas.openxmlformats.org/officeDocument/2006/relationships/hyperlink" Target="http://ru.wikipedia.org/w/index.php?title=&#1055;&#1088;&#1086;&#1089;&#1090;&#1086;&#1077;_&#1074;&#1086;&#1089;&#1087;&#1088;&#1086;&#1080;&#1079;&#1074;&#1086;&#1076;&#1089;&#1090;&#1074;&#1086;_&#1085;&#1072;&#1089;&#1077;&#1083;&#1077;&#1085;&#1080;&#1103;&amp;action=edit&amp;redlink=1" TargetMode="External"/><Relationship Id="rId3" Type="http://schemas.openxmlformats.org/officeDocument/2006/relationships/hyperlink" Target="http://ru.wikipedia.org/wiki/&#1057;&#1084;&#1077;&#1088;&#1090;&#1085;&#1086;&#1089;&#1090;&#1100;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05740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Демографические проблемы современной Росси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2000" y="396252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у выполнила учащаяся 10 «А» класса Усольцева Екатер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imes New Roman"/>
              </a:rPr>
              <a:t>Причина третья. Продолжительность жизни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1557360"/>
            <a:ext cx="777564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едняя продолжительность жизни в нынешней России составляет 57,7 - лет для мужчин и 71,2 года для женщи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авним: для США, Канады, Франции, Германии и других развитых стран мира эти показатели равны соответственно: 73-74 года и 79-80 лет. А для Японии-чемпиона по долгожительству - 75,90 и 81,6 лет. Итак, наши мужчины сегодня живут в среднем на 16 лет меньше, а женщины на 8 лет меньше, чем на Западе. Особенно тревожен разрыв между сроками жизни противоположных полов, более 13 лет. Такого нет, и не было нигде. "Нью-Йорк Таймс" пишет, что Россия стала первой промышленно развитой страной, пережившей столь резкое сокращение насе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По данному показателю Россия опустилась с 35-го места в мире, которое она занимала в 1975 году, до 142-го места в настоящее время. Это - уровень Ирака и Гондураса, ниже только страны Африки и Океа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921440" cy="51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Среди других острых демографических проблем следует отметить следующ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метное снижение доли детей и молодежи в структуре насе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ст доли граждан пенсионного возрас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 двукратный рост числа инвалидов за последние 13 лет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лоупотребление алкоголем, сигаретами, различными наркотическими средств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растание доли мигрантов, в том числе нелегальных, отношения которых с местным населением нередко складываются как конфликтные, а временами и откровенно враждебн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Алкоголь-смерть нашей страны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79280" y="1484280"/>
            <a:ext cx="8785440" cy="515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Результаты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вместе это ведет к общему сокращению численности населения в России. За последние 15 лет мы потеряли около 5 миллионов человек, или 3,2% населения. В настоящее время численность жителей страны ежегодно сокращается почти на 700 тысяч челов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даже официальные прогнозы в этом вопросе отнюдь не утешительны - уже к 2050 году население России может сократиться до 77 миллионов человек, что в 2 раза меньше нынешнего уров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оследствия демографического кризиса для нашей страны выглядят весьма тревожны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ое. России принадлежит 13% мировой территории, а вот наша доля в населении Земли может сократиться к 2050 году до 1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ведь еще в начале ХХ века жители Российской империи составляли 8% мирового насе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торое. Три четверти территории нашей страны уже сегодня представляют собой фактически незаселенные простран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тране существует 13 тысяч населенных пунктов без жителей и почти столько же - где проживает менее 10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ое положение имеет особую опасность для приграничных регионов на востоке страны, где плотность населения в сопредельных регионах соседних государств в 100 и более раз превышает плотность российского населения. А значит, мы рискуем попросту утратить данные террито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14400" y="277920"/>
            <a:ext cx="7772400" cy="62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imes New Roman"/>
              </a:rPr>
              <a:t>Пути выхода из «демографической ямы»</a:t>
            </a: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Первое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160020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кольку ухудшение состояния здоровья - одна из главных причин сверхсмертности россиян всех возрастов, нужна качественная модернизация всей системы здравоохранения в стран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начинать здесь необходимо с остановки проводимой реформы медицины и смены ее направления на 180 градусов. Идущая с 1997 года реформа положительного результата, по сути, не дала. Напротив, за это время многие показатели только ухудшились. Например, общая заболеваемость возросла на 16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862440" cy="46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Второе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497400" cy="5257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76920" y="160020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незамедлительное решение жилищной проблемы в масштабах всей страны. Нельзя не замечать, что отсутствие нормального жилья напрямую тормозит рождаемость, особенно среди молодеж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тране должна быть создана эффективная система ипотеки, доступной для всех желающих приобрести свое жилье. Ее условия должны быть понятными людям и выгодными для н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Третье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600200"/>
            <a:ext cx="380988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то изменение системы распределения доходов всех граждан России. Главная задача - это значительный рост доходов каждой российской семьи. Фактически стране нужна новая социальная политика. Ведь бедность и нищета остаются злейшими врагами основной массы российских семей. А если матери не на что кормить одного ребенка, то будет ли она задумываться о том, чтобы завести второго, не говоря уже о третьем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стране имеются все необходимые ресурсы и возможности для решения этой проблем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едь очевидно, что те же мизерные пособия по рождению ребенка и уходу за ним практически никак не компенсируют реальных затрат родителей. Пример маленькой Исландии, где правительство платит абсолютно фантастические для нас 25 тысяч евро за первого ребенка, 50 - за второго и 75 - за третьего. А в результате эта страна прочно удерживает лидерство по уровню рождаемости в Европ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705200" y="1628640"/>
            <a:ext cx="420228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Оглавлени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31720" indent="-53172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ведение. Цели работ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ая ча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7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нятие демографических проблем в Ро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7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чины демографических проблем в России и пути их реш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ключ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700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700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700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Четверто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3941640"/>
            <a:ext cx="77724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ужно возродить в стране традиции здорового образа жизни. Ведь сегодня повсеместно наблюдается абсолютно обратная ситуация. Массовыми явлениями стали пьянство и алкоголизм, особенно на селе. В России курят две трети мужчин и более трети женщин. Угрожающе нарастает количество курящих детей, в старших классах школы систематически курят более 20% подростков. По различным данным, более 4 миллионов жителей России пробовали наркотики, а 2,5 миллиона употребляют их постоянно, из них 76% - молодежь до 30 л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3630600" cy="2425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00720" y="1268280"/>
            <a:ext cx="416556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Пято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1600200"/>
            <a:ext cx="380988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обходимо подавить преступность, восстановить нравственные устои общества и в первую очередь - ценность человеческой жизни. В стране продолжается настоящий беспредел на дорогах. Ежегодно в дорожно-транспортных происшествиях гибнет число граждан, равное населению небольшого город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стаются крайне высокими гибель и травматизм людей на производстве, а также в быт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райне негативное влияние на морально-психологическое состояние общества оказывает неспособность государства подавить терроризм и организованную преступность, насаждение через средства массовой коммуникации культа силы и насил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0" y="2435400"/>
            <a:ext cx="4392720" cy="28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14400" y="162000"/>
            <a:ext cx="777240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тественно, представленный перечень мер и действий по преодолению демографического кризиса не является абсолютно исчерпывающи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ако если реализовать представленные пять основных позиций, то этого будет достаточно для коренного перелома в развитии демографической ситуации в нашей стране: от глубочайшего кризиса к нормализации положения и постепенному возрождению нации. И если начать действовать незамедлительно, то к 2050 году население России, по расчетам ученых, может вырасти до 160 миллионов челове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умается, что этот показатель должен быть заложен как минимальная цель в наш главный национальный проект России - неуклонный рост числа ее здоровых, благополучных и счастливых граждан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14400" y="277920"/>
            <a:ext cx="7772400" cy="61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Заключени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14400" y="260280"/>
            <a:ext cx="777240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так, мы дали понятие демографических проблем в России, рассмотрели причины демографических проблем в России, а также выявили пути решения демографических пробл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 всего вышеизложенного можно сделать следующие выв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ссия в своей истории впервые столкнулась с абсолютным уменьшением численности населения, причем этому предшествовало системное изменение рождаемости и смертности на рубеже 80–90-х годов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. Смертность скачкообразно превысила рождаем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ссия стала ежегодно терять по 1 млн. человек. Эти цифры говорят, при учете существенного сокращения продолжительности жизни, о вымирании россиян. В нашей стране прирост населения по статистике выходит с минусом, т.е. убыль населения. Выход видится в повышении уровня жизни россиян и обращении государства к демографической проблем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лючительная сложность решения проблем народонаселения в современном мире состоит в том, что из-за инерции демографических процессов, чем дольше откладывается решение этих проблем, тем больший масштаб они приобрета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Введени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1484280"/>
            <a:ext cx="417492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326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«Демографические проблемы России»- решение подобных проблем является одной из главных задач России на сегодняшний день. Демографическое неблагополучие нашей страны очень актуально сегодня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26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300" spc="-1" strike="noStrike" u="sng">
                <a:solidFill>
                  <a:srgbClr val="ffffff"/>
                </a:solidFill>
                <a:uFillTx/>
                <a:latin typeface="Arial"/>
              </a:rPr>
              <a:t>Цель работы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 - рассмотреть основные демографические проблемы и возможные пути выхода из них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26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Сегодня на рассмотрение Народного правительства вынесен важнейший и один из самых болезненных вопросов для нашего народа - о развитии демографической ситуации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26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Абсолютно бесспорно, что состояние демографии в нашей стране находится в глубочайшем системном кризисе. Все последние тенденции говорят о том, что он нарастает и усугубляется. Положение дел настолько серьезно, что в последнее время все чаще слышны заявления о том, что Россия уже прошла так называемый рубеж невозврата, и восстановить численность населения уже не удастся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26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И хотя мы, россияне, категорически не согласны с такой точкой зрения, нельзя не замечать, что состояние демографии несет прямую угрозу существованию нашей страны. Если нынешние тенденции не будут переломлены, жить в стране и производить ее национальное богатство будет попросту некому. И это - вопрос не отдаленного будущего, а ближайших десятилетий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788000" y="2276640"/>
            <a:ext cx="4356000" cy="30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14400" y="277920"/>
            <a:ext cx="7772400" cy="61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imes New Roman"/>
              </a:rPr>
              <a:t>Демографическая проблема России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imes New Roman"/>
              </a:rPr>
              <a:t>Понятие демографических проблем в России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мографическая проблема – глобальная проблема человечества, связанная с продолжающимся значительным приростом населения Земли, опережающим рост экономического благосостояния, в результате чего обостряются продовольственная и другие проблемы, угрожающие жизни населения в этих стран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 демографической проблемой может пониматься как убыль населения, так и перенасел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ервом случае это ситуация, которая складывается в стране или регионе, когда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рождаем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адает ниже уровня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простого воспроизводства насел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а также ниже уровня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смерт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Такая ситуация в данный момент складывается в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лучае перенаселения, под демографическим кризисом понимают несоответствие численности населения территории её способности обеспечить жителей жизненно необходимыми ресурс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imes New Roman"/>
              </a:rPr>
              <a:t>Нынешний кризис уже четвертый в стране с начала ХХ века.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началу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ка России с демографической обстановкой, можно сказать, не повез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ая фаза демографического перехода завершилась в ней к началу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., но настоящего демографического взрыва за этим так и не последовало. Более того, на протяжении полувека Россия испытала три демографических кризиса: во время Первой мировой и Гражданской войн, в годы коллективизации деревни и жестокого голода и, наконец, в период Великой Отечественной войны. В 60—80-е годы демографическая обстановка в стране в целом стабилизировалась. Однако в 90-х годах разразился новый, причем особенно сильный, демографический кризи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162000"/>
            <a:ext cx="777240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67564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 чем же выражаются нынешние демографические проблемы в Росс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1600200"/>
            <a:ext cx="79056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прежде всего низкая рождаемость, которая давно уже не обеспечивает даже простого воспроизводства населения. Более того, за последние 15 лет она снизилась почти на 30%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8000" y="2997360"/>
            <a:ext cx="5472360" cy="37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162000"/>
            <a:ext cx="777240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4151160" cy="2743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0" y="1066680"/>
            <a:ext cx="4103640" cy="2722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14400" y="3941640"/>
            <a:ext cx="77724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-вторых - это крайне высокая смертность россиян. Ее уровень в 1,6 раза превышает показатели развитых государств. Мужская смертность в 4 раза превышает женскую. Крайне высокой в нашей стране остается и младенческая смертность - она более чем в 1,5 раза выше, чем в Европ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3 раза у нас больше, чем в среднем по миру, самоубийц (40 на 100 тыс. чел. насе­ления), и по этому показателю мы занимаем первое место в мир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0:57:41Z</dcterms:created>
  <dc:creator>Ирина</dc:creator>
  <dc:description/>
  <dc:language>en-US</dc:language>
  <cp:lastModifiedBy>Insulter</cp:lastModifiedBy>
  <dcterms:modified xsi:type="dcterms:W3CDTF">2011-03-23T11:46:40Z</dcterms:modified>
  <cp:revision>5</cp:revision>
  <dc:subject/>
  <dc:title>Слайд 1</dc:title>
</cp:coreProperties>
</file>