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268-5BAC-495B-B61D-FCEB4BA3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D4D-A8B6-42ED-903A-9E22F643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778-253C-483D-B1F4-684461F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728-8880-4278-B603-E1A43299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3B3-EEDF-45D8-BDE5-2AD574F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610-7773-4172-9D32-14FC3646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FE4-86B8-4683-AA3B-77A525E0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0EB-BAD6-416B-8BED-E521851B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4EF-3EBE-4472-B71F-9946F14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292-B41D-4405-B1E4-8F7D2E7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D30-0F0C-498E-B919-FEB9CB6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208-D18C-4FAE-A08E-05FF81D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D90C-E427-4AD2-8D35-CA2DF75F6F6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783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0160" y="4508640"/>
            <a:ext cx="759456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ыпонил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чащиеся 7 «Б» кла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колова Олес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Цурикова Анастас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читель: Соколова Н.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68360" y="1268280"/>
            <a:ext cx="7705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Использование                компьютерного математического пакета "GeoGebra" при изучении некоторых свойств линейной функц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GeoGebr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это бесплатная, динамическая математическая программа для всех уровней образования, включающая в себя геометрию, алгебру, таблицы, графы, статистику и арифметику, в одном удобном для использования пак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днс\Desktop\landingpage-icons-tryout.png"/>
          <p:cNvPicPr/>
          <p:nvPr/>
        </p:nvPicPr>
        <p:blipFill>
          <a:blip r:embed="rId1"/>
          <a:stretch/>
        </p:blipFill>
        <p:spPr>
          <a:xfrm>
            <a:off x="6227640" y="4508640"/>
            <a:ext cx="208944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днс\Desktop\download-icons-device-tablet.png"/>
          <p:cNvPicPr/>
          <p:nvPr/>
        </p:nvPicPr>
        <p:blipFill>
          <a:blip r:embed="rId2"/>
          <a:stretch/>
        </p:blipFill>
        <p:spPr>
          <a:xfrm>
            <a:off x="324000" y="4076640"/>
            <a:ext cx="2735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Практическая часть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Созда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94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1. Построить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=3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09120" cy="439272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троить график функции, заданной формулой у=-3х+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4078440"/>
          </a:xfrm>
          <a:prstGeom prst="rect">
            <a:avLst/>
          </a:prstGeom>
          <a:ln w="28440">
            <a:solidFill>
              <a:srgbClr val="8064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765000"/>
            <a:ext cx="87692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3. Постройте график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=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0,7х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8000" y="1459080"/>
            <a:ext cx="8891640" cy="539892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йте график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=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708760" cy="4392720"/>
          </a:xfrm>
          <a:prstGeom prst="rect">
            <a:avLst/>
          </a:prstGeom>
          <a:ln w="284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765000"/>
            <a:ext cx="81356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5. В какой точке пересекает ось х, график функции, заданной формул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0,4x-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6659640" y="5732640"/>
            <a:ext cx="2233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А (30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5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6. В какой точке пересекает ось х, график функции, заданной формул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6659640" y="5732640"/>
            <a:ext cx="2233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А (8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Управляющая кнопка: домой 5"/>
          <p:cNvSpPr/>
          <p:nvPr/>
        </p:nvSpPr>
        <p:spPr>
          <a:xfrm>
            <a:off x="250920" y="5732640"/>
            <a:ext cx="1008000" cy="93636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3252" h="21600">
                <a:moveTo>
                  <a:pt x="0" y="0"/>
                </a:moveTo>
                <a:lnTo>
                  <a:pt x="23252" y="0"/>
                </a:lnTo>
                <a:lnTo>
                  <a:pt x="23252" y="21600"/>
                </a:lnTo>
                <a:lnTo>
                  <a:pt x="0" y="21600"/>
                </a:lnTo>
                <a:close/>
              </a:path>
              <a:path fill="lightenLess" w="23252" h="21600">
                <a:moveTo>
                  <a:pt x="0" y="0"/>
                </a:moveTo>
                <a:lnTo>
                  <a:pt x="23252" y="0"/>
                </a:lnTo>
                <a:lnTo>
                  <a:pt x="21852" y="1400"/>
                </a:lnTo>
                <a:lnTo>
                  <a:pt x="1400" y="1400"/>
                </a:lnTo>
                <a:close/>
              </a:path>
              <a:path fill="darken" w="23252" h="21600">
                <a:moveTo>
                  <a:pt x="23252" y="0"/>
                </a:moveTo>
                <a:lnTo>
                  <a:pt x="23252" y="21600"/>
                </a:lnTo>
                <a:lnTo>
                  <a:pt x="21852" y="20200"/>
                </a:lnTo>
                <a:lnTo>
                  <a:pt x="21852" y="1400"/>
                </a:lnTo>
                <a:close/>
              </a:path>
              <a:path fill="darkenLess" w="23252" h="21600">
                <a:moveTo>
                  <a:pt x="23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2" y="20200"/>
                </a:lnTo>
                <a:close/>
              </a:path>
              <a:path fill="lighten" w="23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2" h="21600">
                <a:moveTo>
                  <a:pt x="11626" y="3837"/>
                </a:moveTo>
                <a:lnTo>
                  <a:pt x="14202" y="6448"/>
                </a:lnTo>
                <a:lnTo>
                  <a:pt x="14202" y="4707"/>
                </a:lnTo>
                <a:lnTo>
                  <a:pt x="15978" y="4707"/>
                </a:lnTo>
                <a:lnTo>
                  <a:pt x="15978" y="8224"/>
                </a:lnTo>
                <a:lnTo>
                  <a:pt x="18589" y="10800"/>
                </a:lnTo>
                <a:lnTo>
                  <a:pt x="16935" y="10800"/>
                </a:lnTo>
                <a:lnTo>
                  <a:pt x="16935" y="17989"/>
                </a:lnTo>
                <a:lnTo>
                  <a:pt x="6317" y="17989"/>
                </a:lnTo>
                <a:lnTo>
                  <a:pt x="6317" y="10800"/>
                </a:lnTo>
                <a:lnTo>
                  <a:pt x="4663" y="10800"/>
                </a:lnTo>
                <a:close/>
              </a:path>
              <a:path fill="darkenLess" w="23252" h="21600">
                <a:moveTo>
                  <a:pt x="14202" y="6448"/>
                </a:moveTo>
                <a:lnTo>
                  <a:pt x="14202" y="4707"/>
                </a:lnTo>
                <a:lnTo>
                  <a:pt x="15978" y="4707"/>
                </a:lnTo>
                <a:lnTo>
                  <a:pt x="15978" y="8224"/>
                </a:lnTo>
                <a:close/>
              </a:path>
              <a:path fill="darkenLess" w="23252" h="21600">
                <a:moveTo>
                  <a:pt x="10703" y="14299"/>
                </a:moveTo>
                <a:lnTo>
                  <a:pt x="12549" y="14299"/>
                </a:lnTo>
                <a:lnTo>
                  <a:pt x="12549" y="17989"/>
                </a:lnTo>
                <a:lnTo>
                  <a:pt x="16935" y="17989"/>
                </a:lnTo>
                <a:lnTo>
                  <a:pt x="16935" y="10800"/>
                </a:lnTo>
                <a:lnTo>
                  <a:pt x="6317" y="10800"/>
                </a:lnTo>
                <a:lnTo>
                  <a:pt x="6317" y="17989"/>
                </a:lnTo>
                <a:lnTo>
                  <a:pt x="10703" y="17989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280" y="1773360"/>
            <a:ext cx="8712360" cy="40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нашей работы были достигну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задачи были реш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Цел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учебную модель, которая позволит наглядно показать зависимость линейной функции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эффициентов         и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427640" y="2637000"/>
                <a:ext cx="2520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4427640" y="3284640"/>
                <a:ext cx="3585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6"/>
              <p:cNvSpPr txBox="1"/>
              <p:nvPr/>
            </p:nvSpPr>
            <p:spPr>
              <a:xfrm>
                <a:off x="5292720" y="3284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ктуализац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использование разработанной учебной модели поможет при решении некоторых задач по теме линейная функция, а именно: позволит проследить за поведением линейной функции при различных условиях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Book Antiqua"/>
              </a:rPr>
              <a:t>Для достижения поставленной цели необходимо решение следующих </a:t>
            </a:r>
            <a:r>
              <a:rPr b="1" lang="ru-RU" sz="3900" spc="-1" strike="noStrike" u="sng">
                <a:solidFill>
                  <a:srgbClr val="000000"/>
                </a:solidFill>
                <a:uFillTx/>
                <a:latin typeface="Book Antiqua"/>
              </a:rPr>
              <a:t>задач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 литературу  по исследуемой теме, отобрать материал, выбрать главную  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и систематизировать полученную 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учебную модель по математике в динамической программной среде GEOGEB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электронную презентацию работы для представления собранно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Book Antiqua"/>
              </a:rPr>
              <a:t>Методы исследования </a:t>
            </a: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, сравнение, обобщение, аналогии, изучение литературы,  анализ и классификация информации.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Book Antiqua"/>
              </a:rPr>
              <a:t>Наша работа состоит из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тической ча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о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ная учебная модель; решение упражн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Book Antiqua"/>
              </a:rPr>
              <a:t>Теоретическая часть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ной функци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функция, которую можно задать формулой ви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kx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x – независимая переменн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и b – некотор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линей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как зависит расположение графика функци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y = kx + b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й плоскости от значений коэффициентов k и 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угол наклона, образованный графиком линейной функции, с положительным направлением оси Ох остр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324000" y="3357720"/>
            <a:ext cx="7993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угол наклона, образованный графиком линейной функции, с положительным направлением оси Ох туп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250920" y="4941720"/>
            <a:ext cx="84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k =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график линейной функции расположен параллельно оси О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как зависит расположение графика функци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y = kx + 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на координатной плоскости от значений коэффициентов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и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250920" y="162864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 &gt;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график функции y = kx + b получается сдвигом графика функции y = kx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диниц вверх вдоль ос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50920" y="321300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 &l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 то график функции y = kx + b получается сдвигом графика функции y = kx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ц вниз вдоль ос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79280" y="479736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график функции y = kx + b получается сдвигом графика функции y = kx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единиц вдоль ос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Управляющая кнопка: домой 5"/>
          <p:cNvSpPr/>
          <p:nvPr/>
        </p:nvSpPr>
        <p:spPr>
          <a:xfrm>
            <a:off x="7667640" y="5805360"/>
            <a:ext cx="1225440" cy="863640"/>
          </a:xfrm>
          <a:custGeom>
            <a:avLst/>
            <a:gdLst>
              <a:gd name="textAreaLeft" fmla="*/ 55800 w 1225440"/>
              <a:gd name="textAreaRight" fmla="*/ 1169640 w 122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0645" h="21600">
                <a:moveTo>
                  <a:pt x="0" y="0"/>
                </a:moveTo>
                <a:lnTo>
                  <a:pt x="30645" y="0"/>
                </a:lnTo>
                <a:lnTo>
                  <a:pt x="30645" y="21600"/>
                </a:lnTo>
                <a:lnTo>
                  <a:pt x="0" y="21600"/>
                </a:lnTo>
                <a:close/>
              </a:path>
              <a:path fill="lightenLess" w="30645" h="21600">
                <a:moveTo>
                  <a:pt x="0" y="0"/>
                </a:moveTo>
                <a:lnTo>
                  <a:pt x="30645" y="0"/>
                </a:lnTo>
                <a:lnTo>
                  <a:pt x="29245" y="1400"/>
                </a:lnTo>
                <a:lnTo>
                  <a:pt x="1400" y="1400"/>
                </a:lnTo>
                <a:close/>
              </a:path>
              <a:path fill="darken" w="30645" h="21600">
                <a:moveTo>
                  <a:pt x="30645" y="0"/>
                </a:moveTo>
                <a:lnTo>
                  <a:pt x="30645" y="21600"/>
                </a:lnTo>
                <a:lnTo>
                  <a:pt x="29245" y="20200"/>
                </a:lnTo>
                <a:lnTo>
                  <a:pt x="29245" y="1400"/>
                </a:lnTo>
                <a:close/>
              </a:path>
              <a:path fill="darkenLess" w="30645" h="21600">
                <a:moveTo>
                  <a:pt x="30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5" y="20200"/>
                </a:lnTo>
                <a:close/>
              </a:path>
              <a:path fill="lighten" w="30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5" h="21600">
                <a:moveTo>
                  <a:pt x="15323" y="3837"/>
                </a:moveTo>
                <a:lnTo>
                  <a:pt x="17899" y="6448"/>
                </a:lnTo>
                <a:lnTo>
                  <a:pt x="17899" y="4707"/>
                </a:lnTo>
                <a:lnTo>
                  <a:pt x="19674" y="4707"/>
                </a:lnTo>
                <a:lnTo>
                  <a:pt x="19674" y="8224"/>
                </a:lnTo>
                <a:lnTo>
                  <a:pt x="22285" y="10800"/>
                </a:lnTo>
                <a:lnTo>
                  <a:pt x="20632" y="10800"/>
                </a:lnTo>
                <a:lnTo>
                  <a:pt x="20632" y="17989"/>
                </a:lnTo>
                <a:lnTo>
                  <a:pt x="10013" y="17989"/>
                </a:lnTo>
                <a:lnTo>
                  <a:pt x="10013" y="10800"/>
                </a:lnTo>
                <a:lnTo>
                  <a:pt x="8360" y="10800"/>
                </a:lnTo>
                <a:close/>
              </a:path>
              <a:path fill="darkenLess" w="30645" h="21600">
                <a:moveTo>
                  <a:pt x="17899" y="6448"/>
                </a:moveTo>
                <a:lnTo>
                  <a:pt x="17899" y="4707"/>
                </a:lnTo>
                <a:lnTo>
                  <a:pt x="19674" y="4707"/>
                </a:lnTo>
                <a:lnTo>
                  <a:pt x="19674" y="8224"/>
                </a:lnTo>
                <a:close/>
              </a:path>
              <a:path fill="darkenLess" w="30645" h="21600">
                <a:moveTo>
                  <a:pt x="14400" y="14299"/>
                </a:moveTo>
                <a:lnTo>
                  <a:pt x="16245" y="14299"/>
                </a:lnTo>
                <a:lnTo>
                  <a:pt x="16245" y="17989"/>
                </a:lnTo>
                <a:lnTo>
                  <a:pt x="20632" y="17989"/>
                </a:lnTo>
                <a:lnTo>
                  <a:pt x="20632" y="10800"/>
                </a:lnTo>
                <a:lnTo>
                  <a:pt x="10013" y="10800"/>
                </a:lnTo>
                <a:lnTo>
                  <a:pt x="10013" y="17989"/>
                </a:lnTo>
                <a:lnTo>
                  <a:pt x="14400" y="17989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19:26Z</dcterms:created>
  <dc:creator>Admin</dc:creator>
  <dc:description/>
  <dc:language>en-US</dc:language>
  <cp:lastModifiedBy>днс</cp:lastModifiedBy>
  <dcterms:modified xsi:type="dcterms:W3CDTF">2015-04-21T21:10:26Z</dcterms:modified>
  <cp:revision>65</cp:revision>
  <dc:subject/>
  <dc:title>Слайд 1</dc:title>
</cp:coreProperties>
</file>